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E98-87D6-4147-A518-A8C11FF9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AFA-EA06-457F-813D-7FD813D5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733-6344-41B9-977C-F7C3B63E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682-A75F-4AA9-AC2E-0465793D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7F60-5BCC-4D65-8E95-D9C35EC6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1EE9-8BAF-41D7-9C88-145B8D12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8F6A-A2E3-4081-81A0-9B6E0341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BBA8-D798-4C6D-A771-09A8EA90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5527-58A1-4520-9462-76E66660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03F2-8E6B-48CC-B4A0-F0519C70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A9A8-E417-4D37-84B9-389B15DF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44E-6D4F-43BF-95B7-FB796140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7D92-D16F-4AEA-9D6D-2F3784FA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BC4E-2E77-4E59-91A2-3F95193E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E88D-CE98-4130-82F5-B530540D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0D8C-7748-45D5-8C25-C3F25728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544B-80E4-4DF9-A38C-6808D6DB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B5A-A10C-4803-BD8A-4627616E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79A-FB28-4CDB-BEEE-07E7FE00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99C-8B47-4973-AAE4-61282AAB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E5F-2596-4AFD-AA3D-00E80C9C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84E-9EEF-4B67-9E84-6E892960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DB9-9F6A-4253-A12B-7535D2F2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AAA-144C-4D94-A236-7631E3F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7C7B-3616-437A-8AE0-3DD7A34D72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976E-346B-4DF9-99F9-E5952481C7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per Placement of Hearing Aids in the Sound Chambe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esting a CIC 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cic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43800" cy="5433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955400" y="1295280"/>
            <a:ext cx="296964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 sure that 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ossible “leaks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re seal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5360" y="5715000"/>
            <a:ext cx="3498480" cy="398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IC Coupler + CIC softwa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429000" y="4267080"/>
            <a:ext cx="99072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CIC Optio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4560" y="510552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IC aid in a CIC coupler (0.4-c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cicfinger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screen10" descr=""/>
          <p:cNvPicPr/>
          <p:nvPr/>
        </p:nvPicPr>
        <p:blipFill>
          <a:blip r:embed="rId2"/>
          <a:srcRect l="4764" t="0" r="0" b="0"/>
          <a:stretch/>
        </p:blipFill>
        <p:spPr>
          <a:xfrm>
            <a:off x="4419720" y="1027080"/>
            <a:ext cx="4724280" cy="3575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7640" y="12193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ss CIC But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94480" y="4191120"/>
            <a:ext cx="1295280" cy="380880"/>
          </a:xfrm>
          <a:prstGeom prst="rect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2320" y="3123720"/>
            <a:ext cx="1676160" cy="2133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010280" y="2666880"/>
            <a:ext cx="914400" cy="1524240"/>
          </a:xfrm>
          <a:prstGeom prst="line">
            <a:avLst/>
          </a:prstGeom>
          <a:ln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ulti-Curve Compariso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screen1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5378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20040" y="61722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IC coupler and software versus 2-cc coupl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590920"/>
            <a:ext cx="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447920"/>
            <a:ext cx="83808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2057400"/>
            <a:ext cx="9144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85120" y="1687680"/>
            <a:ext cx="1738080" cy="703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C Coupler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C softwa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3200" y="2386080"/>
            <a:ext cx="2445480" cy="703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C Coupler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Not Us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e Modu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~AUT0001" descr=""/>
          <p:cNvPicPr/>
          <p:nvPr/>
        </p:nvPicPr>
        <p:blipFill>
          <a:blip r:embed="rId1"/>
          <a:stretch/>
        </p:blipFill>
        <p:spPr>
          <a:xfrm>
            <a:off x="1828800" y="1574640"/>
            <a:ext cx="5754600" cy="5070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59400" y="2171880"/>
            <a:ext cx="7779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57760" y="2170080"/>
            <a:ext cx="70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3800" y="2168640"/>
            <a:ext cx="743040" cy="35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cc"/>
                </a:solidFill>
                <a:latin typeface="Arial"/>
              </a:rPr>
              <a:t>Level</a:t>
            </a: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6240" y="1905120"/>
            <a:ext cx="816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id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11520" y="4237200"/>
            <a:ext cx="78264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naid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99120" y="2173320"/>
            <a:ext cx="764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800" y="2147760"/>
            <a:ext cx="750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lea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88560" y="3595680"/>
            <a:ext cx="10677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Heads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85320" y="4268880"/>
            <a:ext cx="1258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b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56880" y="4967280"/>
            <a:ext cx="918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oot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16680" y="5979960"/>
            <a:ext cx="1043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ata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onver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07040" y="5979960"/>
            <a:ext cx="764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tart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20920" y="5983200"/>
            <a:ext cx="9687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weep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74200" y="5979960"/>
            <a:ext cx="1249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Up/Dow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eft/Righ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2133720"/>
            <a:ext cx="3808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lacement of Reference and Probe Microphon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~AUT0003" descr=""/>
          <p:cNvPicPr/>
          <p:nvPr/>
        </p:nvPicPr>
        <p:blipFill>
          <a:blip r:embed="rId1"/>
          <a:srcRect l="11231" t="0" r="4531" b="4907"/>
          <a:stretch/>
        </p:blipFill>
        <p:spPr>
          <a:xfrm>
            <a:off x="914400" y="1905120"/>
            <a:ext cx="7391520" cy="4681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037400" y="3886200"/>
            <a:ext cx="297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d 30 m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ip for Ad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25 mm for childr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37040" y="389880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9440" y="213372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ve the Pinn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840" y="57150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 M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2971800"/>
            <a:ext cx="762120" cy="703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5715000"/>
            <a:ext cx="1523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000" y="533412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-Trag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123720" y="403848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248520" y="2438280"/>
            <a:ext cx="2286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sting a B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4" name="bte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93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741400" y="5257800"/>
            <a:ext cx="37407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Be sure microphone is in th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enter and facing to the righ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495680" y="4343400"/>
            <a:ext cx="685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5920" y="4191120"/>
            <a:ext cx="245916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Battery Pil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o measure batte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r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81080" y="2971440"/>
            <a:ext cx="1295640" cy="121932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90440" y="1676520"/>
            <a:ext cx="2303640" cy="398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-2 2cc Coupl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876560" y="2133720"/>
            <a:ext cx="609480" cy="53316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esting an ITE 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bte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15200" cy="5267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06960" y="1295280"/>
            <a:ext cx="3368880" cy="22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 sure that 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aks” are seal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f not, will ha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cessive gain a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~500 H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34040" y="5410080"/>
            <a:ext cx="1808280" cy="3988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-1 Coupl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410080" y="3962520"/>
            <a:ext cx="990720" cy="1371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figure%208" descr=""/>
          <p:cNvPicPr/>
          <p:nvPr/>
        </p:nvPicPr>
        <p:blipFill>
          <a:blip r:embed="rId1"/>
          <a:stretch/>
        </p:blipFill>
        <p:spPr>
          <a:xfrm>
            <a:off x="304920" y="334800"/>
            <a:ext cx="8458200" cy="616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42480" y="5486400"/>
            <a:ext cx="2779200" cy="5814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-1 Coupl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figure%209" descr=""/>
          <p:cNvPicPr/>
          <p:nvPr/>
        </p:nvPicPr>
        <p:blipFill>
          <a:blip r:embed="rId1"/>
          <a:stretch/>
        </p:blipFill>
        <p:spPr>
          <a:xfrm>
            <a:off x="304920" y="369720"/>
            <a:ext cx="8534160" cy="614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figure%2010" descr=""/>
          <p:cNvPicPr/>
          <p:nvPr/>
        </p:nvPicPr>
        <p:blipFill>
          <a:blip r:embed="rId1"/>
          <a:stretch/>
        </p:blipFill>
        <p:spPr>
          <a:xfrm>
            <a:off x="380880" y="479520"/>
            <a:ext cx="838224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figure%2011" descr=""/>
          <p:cNvPicPr/>
          <p:nvPr/>
        </p:nvPicPr>
        <p:blipFill>
          <a:blip r:embed="rId1"/>
          <a:stretch/>
        </p:blipFill>
        <p:spPr>
          <a:xfrm>
            <a:off x="304920" y="369720"/>
            <a:ext cx="8534160" cy="6145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7040" y="925560"/>
            <a:ext cx="387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 port visible in center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ho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1523880"/>
            <a:ext cx="2361960" cy="289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figure%2012" descr=""/>
          <p:cNvPicPr/>
          <p:nvPr/>
        </p:nvPicPr>
        <p:blipFill>
          <a:blip r:embed="rId1"/>
          <a:stretch/>
        </p:blipFill>
        <p:spPr>
          <a:xfrm>
            <a:off x="304920" y="349200"/>
            <a:ext cx="8458200" cy="6089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6720" y="471600"/>
            <a:ext cx="3800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plug the vent fro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utside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sure all possible pathwa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ound are blocked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t, peak at ~ 500 Hz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838080"/>
            <a:ext cx="1752480" cy="2819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figure%201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81880" cy="4437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99040" y="1535040"/>
            <a:ext cx="567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t or other pathways of aid not completely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led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1905120"/>
            <a:ext cx="3812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4840" y="4278240"/>
            <a:ext cx="33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pathways for amplifi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nd sealed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657600" y="3200040"/>
            <a:ext cx="38088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9:23:26Z</dcterms:created>
  <dc:creator>Kris frye</dc:creator>
  <dc:description/>
  <dc:language>en-US</dc:language>
  <cp:lastModifiedBy>Alan Rose</cp:lastModifiedBy>
  <dcterms:modified xsi:type="dcterms:W3CDTF">2003-03-07T22:16:10Z</dcterms:modified>
  <cp:revision>1</cp:revision>
  <dc:subject/>
  <dc:title>Proper Placement of Hearing Aids in the Sound Chamber</dc:title>
</cp:coreProperties>
</file>