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183-C1E7-455D-B065-C1446B49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9F9-7FDD-416B-BB28-34C98EAF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53A-3217-4062-94E3-40837547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73A-42CD-465E-B5A6-B427B15F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B099-DF52-479A-9B48-2ED4F2A3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0B9F-7683-450C-8853-B9009AD9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F122-4E46-4C19-9035-E8C7F9E3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D0DF-E48A-4205-BC90-23941EE6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CA16-6185-440F-9C4F-13E6D0D2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20E5-6DE6-4866-8118-13E41F98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5646-B02A-4DEE-87B6-C77F1EB7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EB7-9BD7-4C5B-83BC-D10B6014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933E-8F3B-4C24-A2AE-5F5F8F4E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660E-F13C-4ED7-80BA-411161B1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E7C9-9C40-4C79-974F-2B87A3F4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3326-47ED-4653-A05F-0A419F7F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1AB9-935C-41C6-A727-EB35AD6B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724-160D-4428-AE97-746F5B6E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486-55B1-4D81-B168-CEDC4C65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5F6-63C3-4C01-8589-824F84B7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936-DBBE-41E7-BFE2-828BD891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852-781A-4532-94E6-9B6302FF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3F9-C9F4-4C2C-B444-90093C9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67D-0651-422F-B3EB-F30D9C7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3D1-5E81-4593-92C7-6755EF54F4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5F30-A3F1-450B-97BD-7D6F36C304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Arial"/>
              </a:rPr>
              <a:t>ALDs</a:t>
            </a:r>
            <a:endParaRPr b="0" i="1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LD’s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ome Points to Consider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ference microphone needs to be near the microphone of the transmi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ed to use higher input levels because the microphone of the FM is typically closer to the FM microphone that is the microphone in a hearing ai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85 dB SPL for label microph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ven higher for a boom microph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al Ear FM Respons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~AUT0000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543800" cy="4070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93440" y="2286000"/>
            <a:ext cx="331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 Mic in position wher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M Mic will b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8800">
            <a:off x="3589560" y="3594240"/>
            <a:ext cx="302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Turn off Environmental Mi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Gain/SPL: SP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Composite Sign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Level: 80-90 dB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LEVE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Measure REIG of FM System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9" name="~AUT0001" descr=""/>
          <p:cNvPicPr/>
          <p:nvPr/>
        </p:nvPicPr>
        <p:blipFill>
          <a:blip r:embed="rId1"/>
          <a:srcRect l="1791" t="0" r="2446" b="6904"/>
          <a:stretch/>
        </p:blipFill>
        <p:spPr>
          <a:xfrm>
            <a:off x="380880" y="2865600"/>
            <a:ext cx="8763120" cy="372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48600" y="3025800"/>
            <a:ext cx="3018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Place FM mic in same positio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Ref mi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Place probe in ear: REU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Place FM rec. in ear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VC to “use-gain”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Measure REI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Compare to REIG of HA alon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9:33:59Z</dcterms:created>
  <dc:creator>Kris frye</dc:creator>
  <dc:description/>
  <dc:language>en-US</dc:language>
  <cp:lastModifiedBy>Alan Rose</cp:lastModifiedBy>
  <cp:lastPrinted>2009-04-22T19:24:48Z</cp:lastPrinted>
  <dcterms:modified xsi:type="dcterms:W3CDTF">2003-03-07T22:14:55Z</dcterms:modified>
  <cp:revision>2</cp:revision>
  <dc:subject/>
  <dc:title>ALDs</dc:title>
</cp:coreProperties>
</file>