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0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85720" y="40608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65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85720" y="40608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6520" y="40608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65200" y="1752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45040" y="1752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85720" y="40608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65200" y="40608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45040" y="40608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6520" y="17521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552240"/>
            <a:ext cx="8420040" cy="34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6520" y="17521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85720" y="40608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65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6520" y="40608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6520" y="1752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85720" y="40608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152280"/>
            <a:ext cx="1525680" cy="1525680"/>
            <a:chOff x="399960" y="15228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0492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152280"/>
              <a:ext cx="1525680" cy="1525680"/>
              <a:chOff x="399960" y="15228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4d1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EARING INSTRUMENT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PECIFICATION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EASUREMENT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4452840" y="4414680"/>
            <a:ext cx="48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d1be"/>
                </a:solidFill>
                <a:latin typeface="Book Antiqua"/>
              </a:rPr>
              <a:t>Wayne J. Staab, Ph.D. Phoenix, Arizona,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6095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©2001 Wayne J. Staab, Ph.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24040" y="1236600"/>
            <a:ext cx="5623200" cy="56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Basic Hearing Aid Graph Format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40120" y="1371600"/>
            <a:ext cx="4641840" cy="5246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29200" y="39625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OSPL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1.  Measurement of OSPL90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SPL90 (SSPL90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Output (Saturation) Sound Pressure Level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Using a 90 dB input level to the HA mic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VC = Full-on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Measure over range 200–50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orces HA to show the loudest sound it can generat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ow us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May relate to HA matrix (1st number), i.e., 114/40/15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Relates directly to UCL when expressed in SPL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OSPL90 Graph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19520" y="1752480"/>
            <a:ext cx="7254720" cy="4089600"/>
            <a:chOff x="1919520" y="1752480"/>
            <a:chExt cx="7254720" cy="4089600"/>
          </a:xfrm>
        </p:grpSpPr>
        <p:sp>
          <p:nvSpPr>
            <p:cNvPr id="152" name=""/>
            <p:cNvSpPr/>
            <p:nvPr/>
          </p:nvSpPr>
          <p:spPr>
            <a:xfrm>
              <a:off x="2522160" y="47214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75640" y="3392640"/>
              <a:ext cx="606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75640" y="2727360"/>
              <a:ext cx="606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75640" y="2043000"/>
              <a:ext cx="606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22160" y="40784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19520" y="2233440"/>
              <a:ext cx="7254720" cy="3608640"/>
              <a:chOff x="1919520" y="2233440"/>
              <a:chExt cx="7254720" cy="3608640"/>
            </a:xfrm>
          </p:grpSpPr>
          <p:sp>
            <p:nvSpPr>
              <p:cNvPr id="158" name=""/>
              <p:cNvSpPr/>
              <p:nvPr/>
            </p:nvSpPr>
            <p:spPr>
              <a:xfrm>
                <a:off x="1919520" y="5427720"/>
                <a:ext cx="10850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dB SP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86200" y="2233440"/>
                <a:ext cx="6180120" cy="32054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90880" y="2238480"/>
                <a:ext cx="6170760" cy="3195360"/>
              </a:xfrm>
              <a:prstGeom prst="rect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5268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9720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3848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9092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1636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672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51480" y="2246400"/>
                <a:ext cx="0" cy="3220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9600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3728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8972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568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9604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5028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9480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56600" y="2246400"/>
                <a:ext cx="0" cy="320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09040" y="2246400"/>
                <a:ext cx="0" cy="3220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934480" y="2238480"/>
                <a:ext cx="0" cy="3195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98800" y="2909880"/>
                <a:ext cx="6175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98800" y="3552840"/>
                <a:ext cx="6175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98800" y="4218120"/>
                <a:ext cx="6175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98800" y="4881600"/>
                <a:ext cx="6175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15680" y="5448240"/>
                <a:ext cx="534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.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16200" y="5448240"/>
                <a:ext cx="393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.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58480" y="5448240"/>
                <a:ext cx="777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kHz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98880" y="544824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37120" y="544824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775360" y="544824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389200" y="1752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SPL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044880" y="3475080"/>
            <a:ext cx="5425920" cy="1995480"/>
          </a:xfrm>
          <a:custGeom>
            <a:avLst/>
            <a:gdLst/>
            <a:ahLst/>
            <a:rect l="l" t="t" r="r" b="b"/>
            <a:pathLst>
              <a:path w="3418" h="1257">
                <a:moveTo>
                  <a:pt x="0" y="706"/>
                </a:moveTo>
                <a:lnTo>
                  <a:pt x="249" y="602"/>
                </a:lnTo>
                <a:lnTo>
                  <a:pt x="485" y="497"/>
                </a:lnTo>
                <a:lnTo>
                  <a:pt x="747" y="471"/>
                </a:lnTo>
                <a:lnTo>
                  <a:pt x="1061" y="406"/>
                </a:lnTo>
                <a:lnTo>
                  <a:pt x="1362" y="288"/>
                </a:lnTo>
                <a:lnTo>
                  <a:pt x="1741" y="131"/>
                </a:lnTo>
                <a:lnTo>
                  <a:pt x="1924" y="131"/>
                </a:lnTo>
                <a:lnTo>
                  <a:pt x="2212" y="0"/>
                </a:lnTo>
                <a:lnTo>
                  <a:pt x="2422" y="0"/>
                </a:lnTo>
                <a:lnTo>
                  <a:pt x="2788" y="0"/>
                </a:lnTo>
                <a:lnTo>
                  <a:pt x="2945" y="26"/>
                </a:lnTo>
                <a:lnTo>
                  <a:pt x="3011" y="92"/>
                </a:lnTo>
                <a:lnTo>
                  <a:pt x="3142" y="79"/>
                </a:lnTo>
                <a:lnTo>
                  <a:pt x="3207" y="288"/>
                </a:lnTo>
                <a:lnTo>
                  <a:pt x="3233" y="497"/>
                </a:lnTo>
                <a:lnTo>
                  <a:pt x="3233" y="667"/>
                </a:lnTo>
                <a:lnTo>
                  <a:pt x="3273" y="889"/>
                </a:lnTo>
                <a:lnTo>
                  <a:pt x="3312" y="994"/>
                </a:lnTo>
                <a:lnTo>
                  <a:pt x="3417" y="1256"/>
                </a:lnTo>
                <a:lnTo>
                  <a:pt x="3351" y="1099"/>
                </a:lnTo>
              </a:path>
            </a:pathLst>
          </a:custGeom>
          <a:noFill/>
          <a:ln cap="rnd" w="7632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OSPL90 Descriptio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FA OSPL90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High-Frequency Average OSPL90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Calculated from previous curve (OSPL90)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verage of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10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16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25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2.  Measurement of Full-On Gai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ull-on Gai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6000" indent="-191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60 dB SPL input to HA mic for non AGC aids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576000" indent="-191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50 dB SPL input to HA mic for AGC aids if they overload, and RTG position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576000" indent="-191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VC = Full-on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576000" indent="-191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Measure over range 200–50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easure acoustic gain of the HA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39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ow Use?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6000" indent="-191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Middle number of HA matrix (114/40/15)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2" marL="960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(Last number of the matrix is the rise in the curve in dB between 500 Hz and the first peak on the graph)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Full-On Gain Curve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68520" y="1789200"/>
            <a:ext cx="6862680" cy="3864600"/>
            <a:chOff x="1568520" y="1789200"/>
            <a:chExt cx="6862680" cy="3864600"/>
          </a:xfrm>
        </p:grpSpPr>
        <p:sp>
          <p:nvSpPr>
            <p:cNvPr id="197" name=""/>
            <p:cNvSpPr/>
            <p:nvPr/>
          </p:nvSpPr>
          <p:spPr>
            <a:xfrm>
              <a:off x="2139480" y="4586400"/>
              <a:ext cx="4500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1960" y="3344760"/>
              <a:ext cx="583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1960" y="2695680"/>
              <a:ext cx="583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01960" y="2065320"/>
              <a:ext cx="583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40560" y="3975120"/>
              <a:ext cx="449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8520" y="5275440"/>
              <a:ext cx="1106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dB Gai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584440" y="2228760"/>
              <a:ext cx="5846760" cy="3425040"/>
              <a:chOff x="2584440" y="2228760"/>
              <a:chExt cx="5846760" cy="342504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4440" y="2228760"/>
                <a:ext cx="5840280" cy="305928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90920" y="2235240"/>
                <a:ext cx="5829120" cy="3048120"/>
              </a:xfrm>
              <a:prstGeom prst="rect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1312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4180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8308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9880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2604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876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03920" y="2260440"/>
                <a:ext cx="0" cy="3033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5132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388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816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1648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5812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9292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4212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83400" y="2241720"/>
                <a:ext cx="0" cy="3052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99480" y="2260440"/>
                <a:ext cx="0" cy="3033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07280" y="2235240"/>
                <a:ext cx="0" cy="30481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97040" y="2871720"/>
                <a:ext cx="5834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97040" y="3502080"/>
                <a:ext cx="5834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97040" y="4132440"/>
                <a:ext cx="5834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7040" y="4762440"/>
                <a:ext cx="5834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7480" y="5275440"/>
                <a:ext cx="51660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.2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11480" y="5275440"/>
                <a:ext cx="38268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.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96880" y="5275440"/>
                <a:ext cx="74376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1kHz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81840" y="5275440"/>
                <a:ext cx="3157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66080" y="5275440"/>
                <a:ext cx="3157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51760" y="5275440"/>
                <a:ext cx="3157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859280" y="1789200"/>
              <a:ext cx="1106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dB Gai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83000" y="3173400"/>
            <a:ext cx="5145120" cy="1911240"/>
          </a:xfrm>
          <a:custGeom>
            <a:avLst/>
            <a:gdLst/>
            <a:ahLst/>
            <a:rect l="l" t="t" r="r" b="b"/>
            <a:pathLst>
              <a:path w="3241" h="1204">
                <a:moveTo>
                  <a:pt x="0" y="831"/>
                </a:moveTo>
                <a:lnTo>
                  <a:pt x="25" y="843"/>
                </a:lnTo>
                <a:lnTo>
                  <a:pt x="87" y="880"/>
                </a:lnTo>
                <a:lnTo>
                  <a:pt x="149" y="905"/>
                </a:lnTo>
                <a:lnTo>
                  <a:pt x="174" y="918"/>
                </a:lnTo>
                <a:lnTo>
                  <a:pt x="236" y="942"/>
                </a:lnTo>
                <a:lnTo>
                  <a:pt x="274" y="955"/>
                </a:lnTo>
                <a:lnTo>
                  <a:pt x="311" y="955"/>
                </a:lnTo>
                <a:lnTo>
                  <a:pt x="336" y="955"/>
                </a:lnTo>
                <a:lnTo>
                  <a:pt x="360" y="955"/>
                </a:lnTo>
                <a:lnTo>
                  <a:pt x="385" y="955"/>
                </a:lnTo>
                <a:lnTo>
                  <a:pt x="447" y="942"/>
                </a:lnTo>
                <a:lnTo>
                  <a:pt x="509" y="918"/>
                </a:lnTo>
                <a:lnTo>
                  <a:pt x="571" y="880"/>
                </a:lnTo>
                <a:lnTo>
                  <a:pt x="609" y="856"/>
                </a:lnTo>
                <a:lnTo>
                  <a:pt x="646" y="831"/>
                </a:lnTo>
                <a:lnTo>
                  <a:pt x="708" y="794"/>
                </a:lnTo>
                <a:lnTo>
                  <a:pt x="770" y="756"/>
                </a:lnTo>
                <a:lnTo>
                  <a:pt x="832" y="732"/>
                </a:lnTo>
                <a:lnTo>
                  <a:pt x="869" y="719"/>
                </a:lnTo>
                <a:lnTo>
                  <a:pt x="944" y="694"/>
                </a:lnTo>
                <a:lnTo>
                  <a:pt x="1093" y="657"/>
                </a:lnTo>
                <a:lnTo>
                  <a:pt x="1167" y="645"/>
                </a:lnTo>
                <a:lnTo>
                  <a:pt x="1254" y="632"/>
                </a:lnTo>
                <a:lnTo>
                  <a:pt x="1403" y="607"/>
                </a:lnTo>
                <a:lnTo>
                  <a:pt x="1490" y="583"/>
                </a:lnTo>
                <a:lnTo>
                  <a:pt x="1527" y="583"/>
                </a:lnTo>
                <a:lnTo>
                  <a:pt x="1614" y="558"/>
                </a:lnTo>
                <a:lnTo>
                  <a:pt x="1689" y="533"/>
                </a:lnTo>
                <a:lnTo>
                  <a:pt x="1751" y="508"/>
                </a:lnTo>
                <a:lnTo>
                  <a:pt x="1776" y="496"/>
                </a:lnTo>
                <a:lnTo>
                  <a:pt x="1800" y="483"/>
                </a:lnTo>
                <a:lnTo>
                  <a:pt x="1863" y="446"/>
                </a:lnTo>
                <a:lnTo>
                  <a:pt x="1912" y="421"/>
                </a:lnTo>
                <a:lnTo>
                  <a:pt x="1949" y="397"/>
                </a:lnTo>
                <a:lnTo>
                  <a:pt x="1962" y="384"/>
                </a:lnTo>
                <a:lnTo>
                  <a:pt x="1987" y="372"/>
                </a:lnTo>
                <a:lnTo>
                  <a:pt x="2049" y="322"/>
                </a:lnTo>
                <a:lnTo>
                  <a:pt x="2086" y="285"/>
                </a:lnTo>
                <a:lnTo>
                  <a:pt x="2123" y="260"/>
                </a:lnTo>
                <a:lnTo>
                  <a:pt x="2173" y="211"/>
                </a:lnTo>
                <a:lnTo>
                  <a:pt x="2210" y="173"/>
                </a:lnTo>
                <a:lnTo>
                  <a:pt x="2247" y="149"/>
                </a:lnTo>
                <a:lnTo>
                  <a:pt x="2297" y="99"/>
                </a:lnTo>
                <a:lnTo>
                  <a:pt x="2322" y="62"/>
                </a:lnTo>
                <a:lnTo>
                  <a:pt x="2334" y="49"/>
                </a:lnTo>
                <a:lnTo>
                  <a:pt x="2359" y="24"/>
                </a:lnTo>
                <a:lnTo>
                  <a:pt x="2396" y="12"/>
                </a:lnTo>
                <a:lnTo>
                  <a:pt x="2434" y="0"/>
                </a:lnTo>
                <a:lnTo>
                  <a:pt x="2458" y="0"/>
                </a:lnTo>
                <a:lnTo>
                  <a:pt x="2471" y="0"/>
                </a:lnTo>
                <a:lnTo>
                  <a:pt x="2508" y="12"/>
                </a:lnTo>
                <a:lnTo>
                  <a:pt x="2545" y="37"/>
                </a:lnTo>
                <a:lnTo>
                  <a:pt x="2558" y="49"/>
                </a:lnTo>
                <a:lnTo>
                  <a:pt x="2570" y="74"/>
                </a:lnTo>
                <a:lnTo>
                  <a:pt x="2595" y="111"/>
                </a:lnTo>
                <a:lnTo>
                  <a:pt x="2632" y="161"/>
                </a:lnTo>
                <a:lnTo>
                  <a:pt x="2645" y="173"/>
                </a:lnTo>
                <a:lnTo>
                  <a:pt x="2669" y="198"/>
                </a:lnTo>
                <a:lnTo>
                  <a:pt x="2707" y="248"/>
                </a:lnTo>
                <a:lnTo>
                  <a:pt x="2719" y="273"/>
                </a:lnTo>
                <a:lnTo>
                  <a:pt x="2731" y="285"/>
                </a:lnTo>
                <a:lnTo>
                  <a:pt x="2756" y="322"/>
                </a:lnTo>
                <a:lnTo>
                  <a:pt x="2769" y="335"/>
                </a:lnTo>
                <a:lnTo>
                  <a:pt x="2818" y="372"/>
                </a:lnTo>
                <a:lnTo>
                  <a:pt x="2831" y="384"/>
                </a:lnTo>
                <a:lnTo>
                  <a:pt x="2868" y="421"/>
                </a:lnTo>
                <a:lnTo>
                  <a:pt x="2943" y="496"/>
                </a:lnTo>
                <a:lnTo>
                  <a:pt x="2967" y="521"/>
                </a:lnTo>
                <a:lnTo>
                  <a:pt x="2992" y="558"/>
                </a:lnTo>
                <a:lnTo>
                  <a:pt x="3029" y="645"/>
                </a:lnTo>
                <a:lnTo>
                  <a:pt x="3042" y="694"/>
                </a:lnTo>
                <a:lnTo>
                  <a:pt x="3054" y="756"/>
                </a:lnTo>
                <a:lnTo>
                  <a:pt x="3067" y="868"/>
                </a:lnTo>
                <a:lnTo>
                  <a:pt x="3079" y="918"/>
                </a:lnTo>
                <a:lnTo>
                  <a:pt x="3079" y="930"/>
                </a:lnTo>
                <a:lnTo>
                  <a:pt x="3091" y="955"/>
                </a:lnTo>
                <a:lnTo>
                  <a:pt x="3104" y="992"/>
                </a:lnTo>
                <a:lnTo>
                  <a:pt x="3116" y="1029"/>
                </a:lnTo>
                <a:lnTo>
                  <a:pt x="3141" y="1066"/>
                </a:lnTo>
                <a:lnTo>
                  <a:pt x="3166" y="1116"/>
                </a:lnTo>
                <a:lnTo>
                  <a:pt x="3191" y="1141"/>
                </a:lnTo>
                <a:lnTo>
                  <a:pt x="3228" y="1190"/>
                </a:lnTo>
                <a:lnTo>
                  <a:pt x="3240" y="1203"/>
                </a:lnTo>
              </a:path>
            </a:pathLst>
          </a:custGeom>
          <a:noFill/>
          <a:ln cap="rnd" w="7632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Full-On Gain Descriptio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FA Full-on Gai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High-Frequency Average Full-on Gain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Calculated from previous curve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verage of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10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16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25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SPA Gai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pecial Purpose Hearing Instrument Average (SPA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Used for very high frequency response hearing aids having essentially no gain at 1000 or 16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nufacturer determines the 3 frequencies to use for these to calculate a SP Averag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3.  Reference Test Gain Positio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TGP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Reference Test Gain Position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Reduced VC setting to show better how aid performs at a level closer to speech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Conversational speech of 65 dB SPL with ± 12 dB variation for speech sound levels = 77 dB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FA OSPL90 – 17 dB = RTGP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Allows for distortion-free speech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Measurements made at RTGP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ference Test Gai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HFA OSPL90 - 77  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requency Response Curv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60 dB SPL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50 dB if aid would overload: Low gain aids and AGC aids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requency Rang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Determined from Frequency Response Curve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Average of 1000, 1600, and 2500 Hz, and subtract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20</a:t>
            </a: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 dB.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Draw horizontal line.  Where horizontal line crosses response curve at left is F1 (lowest frequency) and on right is F2 (highest frequency)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AGC Hearing Aids (with 50 dB input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115920" y="6021360"/>
            <a:ext cx="84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52600"/>
            <a:ext cx="872496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earing Aid Standards and Analysi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344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NSI (American National Standards Institute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EC (International Electrotechnical Commission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17040" indent="-20556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Standards for measurement of air-conduction HAs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2" marL="1028520" indent="-2055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ANSI Standard S3.22–1996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lvl="2" marL="1028520" indent="-20556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IEC 118-7 1983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lvl="1" marL="617040" indent="-20556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</a:rPr>
              <a:t>Standards include: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1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1.  How to measure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1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2.  What performance to measure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1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3.  Allow for a comparison of hearing aids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1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st Equipment = hearing instrument analyzers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1295280"/>
            <a:ext cx="9753480" cy="5257800"/>
          </a:xfrm>
          <a:prstGeom prst="rect">
            <a:avLst/>
          </a:prstGeom>
          <a:solidFill>
            <a:srgbClr val="c2c2c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ANSI Curve Description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9198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Frequency Range Calculation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74440" y="1704960"/>
            <a:ext cx="6431400" cy="3610440"/>
            <a:chOff x="1774440" y="1704960"/>
            <a:chExt cx="6431400" cy="3610440"/>
          </a:xfrm>
        </p:grpSpPr>
        <p:sp>
          <p:nvSpPr>
            <p:cNvPr id="251" name=""/>
            <p:cNvSpPr/>
            <p:nvPr/>
          </p:nvSpPr>
          <p:spPr>
            <a:xfrm>
              <a:off x="2310480" y="4322880"/>
              <a:ext cx="4204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81960" y="3160800"/>
              <a:ext cx="541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1960" y="2552760"/>
              <a:ext cx="541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81960" y="1962000"/>
              <a:ext cx="541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09760" y="3751200"/>
              <a:ext cx="4222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4440" y="4967280"/>
              <a:ext cx="1010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B Gai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727360" y="2103480"/>
              <a:ext cx="5478480" cy="3211920"/>
              <a:chOff x="2727360" y="2103480"/>
              <a:chExt cx="5478480" cy="3211920"/>
            </a:xfrm>
          </p:grpSpPr>
          <p:sp>
            <p:nvSpPr>
              <p:cNvPr id="258" name=""/>
              <p:cNvSpPr/>
              <p:nvPr/>
            </p:nvSpPr>
            <p:spPr>
              <a:xfrm>
                <a:off x="2732040" y="2108160"/>
                <a:ext cx="5467320" cy="2863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27360" y="2103480"/>
                <a:ext cx="5476680" cy="28731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4020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3540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6696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6252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5772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8964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03920" y="2139840"/>
                <a:ext cx="0" cy="283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1820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3068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2624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2144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5336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6764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8012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12040" y="2120760"/>
                <a:ext cx="0" cy="285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07240" y="2139840"/>
                <a:ext cx="0" cy="2838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85160" y="2103480"/>
                <a:ext cx="0" cy="2873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44640" y="2711520"/>
                <a:ext cx="5461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4640" y="3300480"/>
                <a:ext cx="5461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44640" y="3890880"/>
                <a:ext cx="5461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44640" y="4479840"/>
                <a:ext cx="5461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84840" y="4967280"/>
                <a:ext cx="4816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.25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62600" y="4967280"/>
                <a:ext cx="3614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.5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76000" y="4967280"/>
                <a:ext cx="6872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1kHz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99040" y="4967280"/>
                <a:ext cx="3016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21360" y="4967280"/>
                <a:ext cx="3016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43680" y="4967280"/>
                <a:ext cx="3016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855680" y="1704960"/>
              <a:ext cx="1010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dB Gai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219640" y="2806560"/>
            <a:ext cx="0" cy="217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29480" y="247608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48480" y="224784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66960" y="2195640"/>
            <a:ext cx="4937040" cy="2754360"/>
          </a:xfrm>
          <a:custGeom>
            <a:avLst/>
            <a:gdLst/>
            <a:ahLst/>
            <a:rect l="l" t="t" r="r" b="b"/>
            <a:pathLst>
              <a:path w="3110" h="1735">
                <a:moveTo>
                  <a:pt x="0" y="1734"/>
                </a:moveTo>
                <a:lnTo>
                  <a:pt x="45" y="1688"/>
                </a:lnTo>
                <a:lnTo>
                  <a:pt x="135" y="1582"/>
                </a:lnTo>
                <a:lnTo>
                  <a:pt x="213" y="1500"/>
                </a:lnTo>
                <a:lnTo>
                  <a:pt x="281" y="1430"/>
                </a:lnTo>
                <a:lnTo>
                  <a:pt x="314" y="1394"/>
                </a:lnTo>
                <a:lnTo>
                  <a:pt x="382" y="1324"/>
                </a:lnTo>
                <a:lnTo>
                  <a:pt x="494" y="1172"/>
                </a:lnTo>
                <a:lnTo>
                  <a:pt x="539" y="1101"/>
                </a:lnTo>
                <a:lnTo>
                  <a:pt x="561" y="1066"/>
                </a:lnTo>
                <a:lnTo>
                  <a:pt x="606" y="996"/>
                </a:lnTo>
                <a:lnTo>
                  <a:pt x="662" y="914"/>
                </a:lnTo>
                <a:lnTo>
                  <a:pt x="718" y="855"/>
                </a:lnTo>
                <a:lnTo>
                  <a:pt x="741" y="832"/>
                </a:lnTo>
                <a:lnTo>
                  <a:pt x="763" y="808"/>
                </a:lnTo>
                <a:lnTo>
                  <a:pt x="819" y="738"/>
                </a:lnTo>
                <a:lnTo>
                  <a:pt x="864" y="679"/>
                </a:lnTo>
                <a:lnTo>
                  <a:pt x="909" y="644"/>
                </a:lnTo>
                <a:lnTo>
                  <a:pt x="932" y="621"/>
                </a:lnTo>
                <a:lnTo>
                  <a:pt x="954" y="597"/>
                </a:lnTo>
                <a:lnTo>
                  <a:pt x="988" y="562"/>
                </a:lnTo>
                <a:lnTo>
                  <a:pt x="1044" y="527"/>
                </a:lnTo>
                <a:lnTo>
                  <a:pt x="1078" y="515"/>
                </a:lnTo>
                <a:lnTo>
                  <a:pt x="1111" y="504"/>
                </a:lnTo>
                <a:lnTo>
                  <a:pt x="1156" y="492"/>
                </a:lnTo>
                <a:lnTo>
                  <a:pt x="1246" y="468"/>
                </a:lnTo>
                <a:lnTo>
                  <a:pt x="1291" y="457"/>
                </a:lnTo>
                <a:lnTo>
                  <a:pt x="1336" y="445"/>
                </a:lnTo>
                <a:lnTo>
                  <a:pt x="1414" y="433"/>
                </a:lnTo>
                <a:lnTo>
                  <a:pt x="1470" y="422"/>
                </a:lnTo>
                <a:lnTo>
                  <a:pt x="1493" y="422"/>
                </a:lnTo>
                <a:lnTo>
                  <a:pt x="1538" y="410"/>
                </a:lnTo>
                <a:lnTo>
                  <a:pt x="1605" y="386"/>
                </a:lnTo>
                <a:lnTo>
                  <a:pt x="1650" y="363"/>
                </a:lnTo>
                <a:lnTo>
                  <a:pt x="1672" y="351"/>
                </a:lnTo>
                <a:lnTo>
                  <a:pt x="1717" y="316"/>
                </a:lnTo>
                <a:lnTo>
                  <a:pt x="1818" y="257"/>
                </a:lnTo>
                <a:lnTo>
                  <a:pt x="1874" y="234"/>
                </a:lnTo>
                <a:lnTo>
                  <a:pt x="1897" y="222"/>
                </a:lnTo>
                <a:lnTo>
                  <a:pt x="1942" y="187"/>
                </a:lnTo>
                <a:lnTo>
                  <a:pt x="2009" y="140"/>
                </a:lnTo>
                <a:lnTo>
                  <a:pt x="2054" y="93"/>
                </a:lnTo>
                <a:lnTo>
                  <a:pt x="2076" y="70"/>
                </a:lnTo>
                <a:lnTo>
                  <a:pt x="2088" y="58"/>
                </a:lnTo>
                <a:lnTo>
                  <a:pt x="2110" y="23"/>
                </a:lnTo>
                <a:lnTo>
                  <a:pt x="2133" y="11"/>
                </a:lnTo>
                <a:lnTo>
                  <a:pt x="2155" y="0"/>
                </a:lnTo>
                <a:lnTo>
                  <a:pt x="2166" y="0"/>
                </a:lnTo>
                <a:lnTo>
                  <a:pt x="2189" y="0"/>
                </a:lnTo>
                <a:lnTo>
                  <a:pt x="2211" y="0"/>
                </a:lnTo>
                <a:lnTo>
                  <a:pt x="2234" y="11"/>
                </a:lnTo>
                <a:lnTo>
                  <a:pt x="2245" y="23"/>
                </a:lnTo>
                <a:lnTo>
                  <a:pt x="2256" y="35"/>
                </a:lnTo>
                <a:lnTo>
                  <a:pt x="2278" y="46"/>
                </a:lnTo>
                <a:lnTo>
                  <a:pt x="2290" y="46"/>
                </a:lnTo>
                <a:lnTo>
                  <a:pt x="2335" y="58"/>
                </a:lnTo>
                <a:lnTo>
                  <a:pt x="2357" y="58"/>
                </a:lnTo>
                <a:lnTo>
                  <a:pt x="2368" y="58"/>
                </a:lnTo>
                <a:lnTo>
                  <a:pt x="2413" y="46"/>
                </a:lnTo>
                <a:lnTo>
                  <a:pt x="2436" y="46"/>
                </a:lnTo>
                <a:lnTo>
                  <a:pt x="2458" y="35"/>
                </a:lnTo>
                <a:lnTo>
                  <a:pt x="2469" y="35"/>
                </a:lnTo>
                <a:lnTo>
                  <a:pt x="2503" y="23"/>
                </a:lnTo>
                <a:lnTo>
                  <a:pt x="2525" y="23"/>
                </a:lnTo>
                <a:lnTo>
                  <a:pt x="2559" y="35"/>
                </a:lnTo>
                <a:lnTo>
                  <a:pt x="2593" y="46"/>
                </a:lnTo>
                <a:lnTo>
                  <a:pt x="2604" y="58"/>
                </a:lnTo>
                <a:lnTo>
                  <a:pt x="2626" y="82"/>
                </a:lnTo>
                <a:lnTo>
                  <a:pt x="2649" y="117"/>
                </a:lnTo>
                <a:lnTo>
                  <a:pt x="2660" y="140"/>
                </a:lnTo>
                <a:lnTo>
                  <a:pt x="2682" y="187"/>
                </a:lnTo>
                <a:lnTo>
                  <a:pt x="2705" y="246"/>
                </a:lnTo>
                <a:lnTo>
                  <a:pt x="2727" y="304"/>
                </a:lnTo>
                <a:lnTo>
                  <a:pt x="2750" y="351"/>
                </a:lnTo>
                <a:lnTo>
                  <a:pt x="2761" y="375"/>
                </a:lnTo>
                <a:lnTo>
                  <a:pt x="2772" y="410"/>
                </a:lnTo>
                <a:lnTo>
                  <a:pt x="2806" y="492"/>
                </a:lnTo>
                <a:lnTo>
                  <a:pt x="2817" y="539"/>
                </a:lnTo>
                <a:lnTo>
                  <a:pt x="2840" y="586"/>
                </a:lnTo>
                <a:lnTo>
                  <a:pt x="2862" y="679"/>
                </a:lnTo>
                <a:lnTo>
                  <a:pt x="2873" y="726"/>
                </a:lnTo>
                <a:lnTo>
                  <a:pt x="2873" y="738"/>
                </a:lnTo>
                <a:lnTo>
                  <a:pt x="2884" y="785"/>
                </a:lnTo>
                <a:lnTo>
                  <a:pt x="2907" y="855"/>
                </a:lnTo>
                <a:lnTo>
                  <a:pt x="2929" y="914"/>
                </a:lnTo>
                <a:lnTo>
                  <a:pt x="2941" y="949"/>
                </a:lnTo>
                <a:lnTo>
                  <a:pt x="2963" y="1019"/>
                </a:lnTo>
                <a:lnTo>
                  <a:pt x="2997" y="1137"/>
                </a:lnTo>
                <a:lnTo>
                  <a:pt x="3008" y="1183"/>
                </a:lnTo>
                <a:lnTo>
                  <a:pt x="3008" y="1195"/>
                </a:lnTo>
                <a:lnTo>
                  <a:pt x="3019" y="1230"/>
                </a:lnTo>
                <a:lnTo>
                  <a:pt x="3030" y="1266"/>
                </a:lnTo>
                <a:lnTo>
                  <a:pt x="3042" y="1312"/>
                </a:lnTo>
                <a:lnTo>
                  <a:pt x="3053" y="1371"/>
                </a:lnTo>
                <a:lnTo>
                  <a:pt x="3064" y="1418"/>
                </a:lnTo>
                <a:lnTo>
                  <a:pt x="3086" y="1500"/>
                </a:lnTo>
                <a:lnTo>
                  <a:pt x="3098" y="1559"/>
                </a:lnTo>
                <a:lnTo>
                  <a:pt x="3109" y="1605"/>
                </a:lnTo>
              </a:path>
            </a:pathLst>
          </a:custGeom>
          <a:noFill/>
          <a:ln cap="rnd" w="7632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92320" y="5506920"/>
            <a:ext cx="54835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28 + 33 + 37 = 98/3 = 32.67 or 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33 - 20 =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30600" y="3676680"/>
            <a:ext cx="54547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30600" y="2495520"/>
            <a:ext cx="54547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30520" y="213516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0520" y="33163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72080" y="3435480"/>
            <a:ext cx="0" cy="15303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0600" y="3397320"/>
            <a:ext cx="0" cy="1568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11720" y="4121280"/>
            <a:ext cx="2101680" cy="730080"/>
          </a:xfrm>
          <a:prstGeom prst="rect">
            <a:avLst/>
          </a:prstGeom>
          <a:solidFill>
            <a:srgbClr val="0340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16560" y="4173480"/>
            <a:ext cx="1787400" cy="717840"/>
            <a:chOff x="4516560" y="4173480"/>
            <a:chExt cx="1787400" cy="717840"/>
          </a:xfrm>
        </p:grpSpPr>
        <p:sp>
          <p:nvSpPr>
            <p:cNvPr id="301" name=""/>
            <p:cNvSpPr/>
            <p:nvPr/>
          </p:nvSpPr>
          <p:spPr>
            <a:xfrm>
              <a:off x="4516560" y="4173480"/>
              <a:ext cx="1787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00 H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16560" y="4497480"/>
              <a:ext cx="1787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4500 H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flipV="1">
            <a:off x="3809520" y="3714480"/>
            <a:ext cx="723960" cy="571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83280" y="3676680"/>
            <a:ext cx="1282680" cy="952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Measurements made at RTGP (cont.)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8572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armonic Distortio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Occurs when new frequencies are generated that are harmonics of the original signal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70</a:t>
            </a: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 dB SPL and measure total harmonic distortion at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500 and 800 Hz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65</a:t>
            </a: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 dB SPL and measure total harmonic distortion at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1600 Hz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quivalent Input Noise Level = (Ln: EIN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Input =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60 dB</a:t>
            </a: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 SPL, determine average coupler SPL’s at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1000, 1600, and 2500 Hz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75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Book Antiqua"/>
              </a:rPr>
              <a:t>Remove the 60 dB SPL input and measure inherent noise of the HA</a:t>
            </a:r>
            <a:endParaRPr b="1" lang="en-US" sz="2000" spc="-1" strike="noStrike">
              <a:solidFill>
                <a:srgbClr val="8cf4ea"/>
              </a:solidFill>
              <a:latin typeface="Book Antiqua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attery Curren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-20088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Input = 65 dB SPL at 1000 Hz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  <p:sp>
        <p:nvSpPr>
          <p:cNvPr id="307" name=""/>
          <p:cNvSpPr/>
          <p:nvPr/>
        </p:nvSpPr>
        <p:spPr>
          <a:xfrm>
            <a:off x="192240" y="3583080"/>
            <a:ext cx="990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AGC Measurement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Measurement for AGC Hearing Aid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.  Input-Output Characteristic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Input = measure SPL in coupler from 55 to 90 dB SPL in 5 dB steps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.  Dynamic AGC Characteristic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Input change jumping between 55 and 80 dB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4a45a"/>
                </a:solidFill>
                <a:uFillTx/>
                <a:latin typeface="Book Antiqua"/>
              </a:rPr>
              <a:t>Attack Time</a:t>
            </a: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 = time where level has stabilized to within 3 dB of steady state value for 90 dB signal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4a45a"/>
                </a:solidFill>
                <a:uFillTx/>
                <a:latin typeface="Book Antiqua"/>
              </a:rPr>
              <a:t>Release Time</a:t>
            </a: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 = time where level has stabilized to within 4 dB of steady state value for 55 dB signal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Time Constants (AGC Hearing Aids)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3280" y="1646280"/>
            <a:ext cx="5349960" cy="1363680"/>
            <a:chOff x="2843280" y="1646280"/>
            <a:chExt cx="5349960" cy="1363680"/>
          </a:xfrm>
        </p:grpSpPr>
        <p:grpSp>
          <p:nvGrpSpPr>
            <p:cNvPr id="313" name=""/>
            <p:cNvGrpSpPr/>
            <p:nvPr/>
          </p:nvGrpSpPr>
          <p:grpSpPr>
            <a:xfrm>
              <a:off x="2843280" y="1646280"/>
              <a:ext cx="5325840" cy="490320"/>
              <a:chOff x="2843280" y="1646280"/>
              <a:chExt cx="5325840" cy="490320"/>
            </a:xfrm>
          </p:grpSpPr>
          <p:sp>
            <p:nvSpPr>
              <p:cNvPr id="314" name=""/>
              <p:cNvSpPr/>
              <p:nvPr/>
            </p:nvSpPr>
            <p:spPr>
              <a:xfrm>
                <a:off x="2843280" y="1646280"/>
                <a:ext cx="5325840" cy="490320"/>
              </a:xfrm>
              <a:custGeom>
                <a:avLst/>
                <a:gdLst/>
                <a:ahLst/>
                <a:rect l="l" t="t" r="r" b="b"/>
                <a:pathLst>
                  <a:path w="3355" h="309">
                    <a:moveTo>
                      <a:pt x="0" y="309"/>
                    </a:moveTo>
                    <a:lnTo>
                      <a:pt x="0" y="309"/>
                    </a:lnTo>
                    <a:lnTo>
                      <a:pt x="771" y="309"/>
                    </a:lnTo>
                    <a:lnTo>
                      <a:pt x="771" y="309"/>
                    </a:lnTo>
                    <a:lnTo>
                      <a:pt x="771" y="0"/>
                    </a:lnTo>
                    <a:lnTo>
                      <a:pt x="771" y="0"/>
                    </a:lnTo>
                    <a:lnTo>
                      <a:pt x="1659" y="0"/>
                    </a:lnTo>
                    <a:lnTo>
                      <a:pt x="1659" y="0"/>
                    </a:lnTo>
                    <a:lnTo>
                      <a:pt x="1659" y="309"/>
                    </a:lnTo>
                    <a:lnTo>
                      <a:pt x="1659" y="309"/>
                    </a:lnTo>
                    <a:lnTo>
                      <a:pt x="3355" y="309"/>
                    </a:lnTo>
                    <a:lnTo>
                      <a:pt x="3355" y="309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43280" y="1646280"/>
                <a:ext cx="5325840" cy="490320"/>
              </a:xfrm>
              <a:custGeom>
                <a:avLst/>
                <a:gdLst/>
                <a:ahLst/>
                <a:rect l="l" t="t" r="r" b="b"/>
                <a:pathLst>
                  <a:path w="3355" h="309">
                    <a:moveTo>
                      <a:pt x="0" y="309"/>
                    </a:moveTo>
                    <a:lnTo>
                      <a:pt x="771" y="309"/>
                    </a:lnTo>
                    <a:lnTo>
                      <a:pt x="771" y="0"/>
                    </a:lnTo>
                    <a:lnTo>
                      <a:pt x="1659" y="0"/>
                    </a:lnTo>
                    <a:lnTo>
                      <a:pt x="1659" y="309"/>
                    </a:lnTo>
                    <a:lnTo>
                      <a:pt x="3355" y="309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854440" y="2521080"/>
              <a:ext cx="5338800" cy="488880"/>
              <a:chOff x="2854440" y="2521080"/>
              <a:chExt cx="5338800" cy="488880"/>
            </a:xfrm>
          </p:grpSpPr>
          <p:sp>
            <p:nvSpPr>
              <p:cNvPr id="317" name=""/>
              <p:cNvSpPr/>
              <p:nvPr/>
            </p:nvSpPr>
            <p:spPr>
              <a:xfrm>
                <a:off x="2854440" y="2521080"/>
                <a:ext cx="5338800" cy="488880"/>
              </a:xfrm>
              <a:custGeom>
                <a:avLst/>
                <a:gdLst/>
                <a:ahLst/>
                <a:rect l="l" t="t" r="r" b="b"/>
                <a:pathLst>
                  <a:path w="3363" h="308">
                    <a:moveTo>
                      <a:pt x="0" y="0"/>
                    </a:moveTo>
                    <a:lnTo>
                      <a:pt x="0" y="0"/>
                    </a:lnTo>
                    <a:lnTo>
                      <a:pt x="771" y="0"/>
                    </a:lnTo>
                    <a:lnTo>
                      <a:pt x="771" y="0"/>
                    </a:lnTo>
                    <a:lnTo>
                      <a:pt x="771" y="308"/>
                    </a:lnTo>
                    <a:lnTo>
                      <a:pt x="771" y="308"/>
                    </a:lnTo>
                    <a:lnTo>
                      <a:pt x="1667" y="308"/>
                    </a:lnTo>
                    <a:lnTo>
                      <a:pt x="1667" y="308"/>
                    </a:lnTo>
                    <a:lnTo>
                      <a:pt x="1667" y="0"/>
                    </a:lnTo>
                    <a:lnTo>
                      <a:pt x="1667" y="0"/>
                    </a:lnTo>
                    <a:lnTo>
                      <a:pt x="3363" y="0"/>
                    </a:lnTo>
                    <a:lnTo>
                      <a:pt x="3363" y="0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54440" y="2521080"/>
                <a:ext cx="5338800" cy="488880"/>
              </a:xfrm>
              <a:custGeom>
                <a:avLst/>
                <a:gdLst/>
                <a:ahLst/>
                <a:rect l="l" t="t" r="r" b="b"/>
                <a:pathLst>
                  <a:path w="3363" h="308">
                    <a:moveTo>
                      <a:pt x="0" y="0"/>
                    </a:moveTo>
                    <a:lnTo>
                      <a:pt x="771" y="0"/>
                    </a:lnTo>
                    <a:lnTo>
                      <a:pt x="771" y="308"/>
                    </a:lnTo>
                    <a:lnTo>
                      <a:pt x="1667" y="308"/>
                    </a:lnTo>
                    <a:lnTo>
                      <a:pt x="1667" y="0"/>
                    </a:lnTo>
                    <a:lnTo>
                      <a:pt x="3363" y="0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2854440" y="1646280"/>
            <a:ext cx="5314680" cy="1363680"/>
          </a:xfrm>
          <a:custGeom>
            <a:avLst/>
            <a:gdLst/>
            <a:ahLst/>
            <a:rect l="l" t="t" r="r" b="b"/>
            <a:pathLst>
              <a:path w="3348" h="859">
                <a:moveTo>
                  <a:pt x="0" y="309"/>
                </a:moveTo>
                <a:lnTo>
                  <a:pt x="0" y="309"/>
                </a:lnTo>
                <a:lnTo>
                  <a:pt x="756" y="309"/>
                </a:lnTo>
                <a:lnTo>
                  <a:pt x="756" y="309"/>
                </a:lnTo>
                <a:lnTo>
                  <a:pt x="756" y="0"/>
                </a:lnTo>
                <a:lnTo>
                  <a:pt x="756" y="0"/>
                </a:lnTo>
                <a:lnTo>
                  <a:pt x="1659" y="0"/>
                </a:lnTo>
                <a:lnTo>
                  <a:pt x="1659" y="0"/>
                </a:lnTo>
                <a:lnTo>
                  <a:pt x="1659" y="309"/>
                </a:lnTo>
                <a:lnTo>
                  <a:pt x="1659" y="309"/>
                </a:lnTo>
                <a:lnTo>
                  <a:pt x="3348" y="309"/>
                </a:lnTo>
                <a:lnTo>
                  <a:pt x="3348" y="309"/>
                </a:lnTo>
                <a:lnTo>
                  <a:pt x="3348" y="544"/>
                </a:lnTo>
                <a:lnTo>
                  <a:pt x="3348" y="544"/>
                </a:lnTo>
                <a:lnTo>
                  <a:pt x="1667" y="544"/>
                </a:lnTo>
                <a:lnTo>
                  <a:pt x="1667" y="544"/>
                </a:lnTo>
                <a:lnTo>
                  <a:pt x="1674" y="859"/>
                </a:lnTo>
                <a:lnTo>
                  <a:pt x="1674" y="859"/>
                </a:lnTo>
                <a:lnTo>
                  <a:pt x="771" y="859"/>
                </a:lnTo>
                <a:lnTo>
                  <a:pt x="771" y="859"/>
                </a:lnTo>
                <a:lnTo>
                  <a:pt x="771" y="544"/>
                </a:lnTo>
                <a:lnTo>
                  <a:pt x="771" y="544"/>
                </a:lnTo>
                <a:lnTo>
                  <a:pt x="0" y="544"/>
                </a:lnTo>
                <a:lnTo>
                  <a:pt x="0" y="544"/>
                </a:lnTo>
                <a:lnTo>
                  <a:pt x="0" y="309"/>
                </a:lnTo>
                <a:lnTo>
                  <a:pt x="0" y="309"/>
                </a:lnTo>
                <a:lnTo>
                  <a:pt x="756" y="309"/>
                </a:lnTo>
                <a:lnTo>
                  <a:pt x="756" y="0"/>
                </a:lnTo>
                <a:lnTo>
                  <a:pt x="1659" y="0"/>
                </a:lnTo>
                <a:lnTo>
                  <a:pt x="1659" y="309"/>
                </a:lnTo>
                <a:lnTo>
                  <a:pt x="3348" y="309"/>
                </a:lnTo>
                <a:lnTo>
                  <a:pt x="3348" y="544"/>
                </a:lnTo>
                <a:lnTo>
                  <a:pt x="1667" y="544"/>
                </a:lnTo>
                <a:lnTo>
                  <a:pt x="1674" y="859"/>
                </a:lnTo>
                <a:lnTo>
                  <a:pt x="771" y="859"/>
                </a:lnTo>
                <a:lnTo>
                  <a:pt x="771" y="544"/>
                </a:lnTo>
                <a:lnTo>
                  <a:pt x="0" y="544"/>
                </a:lnTo>
                <a:lnTo>
                  <a:pt x="0" y="309"/>
                </a:lnTo>
                <a:close/>
              </a:path>
            </a:pathLst>
          </a:custGeom>
          <a:noFill/>
          <a:ln w="11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900520" y="2136600"/>
            <a:ext cx="1177920" cy="395640"/>
            <a:chOff x="2900520" y="2136600"/>
            <a:chExt cx="1177920" cy="395640"/>
          </a:xfrm>
        </p:grpSpPr>
        <p:sp>
          <p:nvSpPr>
            <p:cNvPr id="321" name=""/>
            <p:cNvSpPr/>
            <p:nvPr/>
          </p:nvSpPr>
          <p:spPr>
            <a:xfrm>
              <a:off x="2913120" y="2147760"/>
              <a:ext cx="1165320" cy="384480"/>
            </a:xfrm>
            <a:custGeom>
              <a:avLst/>
              <a:gdLst/>
              <a:ahLst/>
              <a:rect l="l" t="t" r="r" b="b"/>
              <a:pathLst>
                <a:path w="734" h="242">
                  <a:moveTo>
                    <a:pt x="0" y="242"/>
                  </a:moveTo>
                  <a:lnTo>
                    <a:pt x="0" y="24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257" y="242"/>
                  </a:lnTo>
                  <a:lnTo>
                    <a:pt x="257" y="242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89" y="242"/>
                  </a:lnTo>
                  <a:lnTo>
                    <a:pt x="389" y="242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521" y="235"/>
                  </a:lnTo>
                  <a:lnTo>
                    <a:pt x="521" y="235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668" y="235"/>
                  </a:lnTo>
                  <a:lnTo>
                    <a:pt x="668" y="235"/>
                  </a:lnTo>
                  <a:lnTo>
                    <a:pt x="734" y="0"/>
                  </a:lnTo>
                  <a:lnTo>
                    <a:pt x="734" y="0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noFill/>
            <a:ln cap="rnd"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00520" y="2136600"/>
              <a:ext cx="1166760" cy="384480"/>
            </a:xfrm>
            <a:custGeom>
              <a:avLst/>
              <a:gdLst/>
              <a:ahLst/>
              <a:rect l="l" t="t" r="r" b="b"/>
              <a:pathLst>
                <a:path w="735" h="242">
                  <a:moveTo>
                    <a:pt x="0" y="242"/>
                  </a:moveTo>
                  <a:lnTo>
                    <a:pt x="0" y="24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125" y="242"/>
                  </a:lnTo>
                  <a:lnTo>
                    <a:pt x="125" y="242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257" y="242"/>
                  </a:lnTo>
                  <a:lnTo>
                    <a:pt x="257" y="242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89" y="242"/>
                  </a:lnTo>
                  <a:lnTo>
                    <a:pt x="389" y="242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522" y="235"/>
                  </a:lnTo>
                  <a:lnTo>
                    <a:pt x="522" y="235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668" y="235"/>
                  </a:lnTo>
                  <a:lnTo>
                    <a:pt x="668" y="235"/>
                  </a:lnTo>
                  <a:lnTo>
                    <a:pt x="735" y="0"/>
                  </a:lnTo>
                  <a:lnTo>
                    <a:pt x="735" y="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00520" y="2136600"/>
              <a:ext cx="1166760" cy="384480"/>
            </a:xfrm>
            <a:custGeom>
              <a:avLst/>
              <a:gdLst/>
              <a:ahLst/>
              <a:rect l="l" t="t" r="r" b="b"/>
              <a:pathLst>
                <a:path w="735" h="242">
                  <a:moveTo>
                    <a:pt x="0" y="242"/>
                  </a:moveTo>
                  <a:lnTo>
                    <a:pt x="59" y="0"/>
                  </a:lnTo>
                  <a:lnTo>
                    <a:pt x="125" y="242"/>
                  </a:lnTo>
                  <a:lnTo>
                    <a:pt x="191" y="0"/>
                  </a:lnTo>
                  <a:lnTo>
                    <a:pt x="257" y="242"/>
                  </a:lnTo>
                  <a:lnTo>
                    <a:pt x="323" y="0"/>
                  </a:lnTo>
                  <a:lnTo>
                    <a:pt x="389" y="242"/>
                  </a:lnTo>
                  <a:lnTo>
                    <a:pt x="456" y="0"/>
                  </a:lnTo>
                  <a:lnTo>
                    <a:pt x="522" y="235"/>
                  </a:lnTo>
                  <a:lnTo>
                    <a:pt x="602" y="0"/>
                  </a:lnTo>
                  <a:lnTo>
                    <a:pt x="668" y="235"/>
                  </a:lnTo>
                  <a:lnTo>
                    <a:pt x="735" y="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400480" y="2346480"/>
            <a:ext cx="6154560" cy="144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843280" y="3406680"/>
            <a:ext cx="5360760" cy="1165320"/>
            <a:chOff x="2843280" y="3406680"/>
            <a:chExt cx="5360760" cy="1165320"/>
          </a:xfrm>
        </p:grpSpPr>
        <p:sp>
          <p:nvSpPr>
            <p:cNvPr id="326" name=""/>
            <p:cNvSpPr/>
            <p:nvPr/>
          </p:nvSpPr>
          <p:spPr>
            <a:xfrm>
              <a:off x="2843280" y="3406680"/>
              <a:ext cx="5360760" cy="1165320"/>
            </a:xfrm>
            <a:custGeom>
              <a:avLst/>
              <a:gdLst/>
              <a:ahLst/>
              <a:rect l="l" t="t" r="r" b="b"/>
              <a:pathLst>
                <a:path w="3377" h="734">
                  <a:moveTo>
                    <a:pt x="0" y="660"/>
                  </a:moveTo>
                  <a:lnTo>
                    <a:pt x="0" y="660"/>
                  </a:lnTo>
                  <a:lnTo>
                    <a:pt x="771" y="660"/>
                  </a:lnTo>
                  <a:lnTo>
                    <a:pt x="771" y="66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822" y="125"/>
                  </a:lnTo>
                  <a:lnTo>
                    <a:pt x="822" y="125"/>
                  </a:lnTo>
                  <a:lnTo>
                    <a:pt x="859" y="191"/>
                  </a:lnTo>
                  <a:lnTo>
                    <a:pt x="859" y="191"/>
                  </a:lnTo>
                  <a:lnTo>
                    <a:pt x="903" y="220"/>
                  </a:lnTo>
                  <a:lnTo>
                    <a:pt x="903" y="220"/>
                  </a:lnTo>
                  <a:lnTo>
                    <a:pt x="1659" y="220"/>
                  </a:lnTo>
                  <a:lnTo>
                    <a:pt x="1659" y="220"/>
                  </a:lnTo>
                  <a:lnTo>
                    <a:pt x="1674" y="213"/>
                  </a:lnTo>
                  <a:lnTo>
                    <a:pt x="1674" y="213"/>
                  </a:lnTo>
                  <a:lnTo>
                    <a:pt x="1674" y="734"/>
                  </a:lnTo>
                  <a:lnTo>
                    <a:pt x="1674" y="734"/>
                  </a:lnTo>
                  <a:lnTo>
                    <a:pt x="1813" y="712"/>
                  </a:lnTo>
                  <a:lnTo>
                    <a:pt x="1813" y="712"/>
                  </a:lnTo>
                  <a:lnTo>
                    <a:pt x="1938" y="690"/>
                  </a:lnTo>
                  <a:lnTo>
                    <a:pt x="1938" y="690"/>
                  </a:lnTo>
                  <a:lnTo>
                    <a:pt x="2078" y="668"/>
                  </a:lnTo>
                  <a:lnTo>
                    <a:pt x="2078" y="668"/>
                  </a:lnTo>
                  <a:lnTo>
                    <a:pt x="2166" y="668"/>
                  </a:lnTo>
                  <a:lnTo>
                    <a:pt x="2166" y="668"/>
                  </a:lnTo>
                  <a:lnTo>
                    <a:pt x="2246" y="660"/>
                  </a:lnTo>
                  <a:lnTo>
                    <a:pt x="2246" y="660"/>
                  </a:lnTo>
                  <a:lnTo>
                    <a:pt x="3377" y="660"/>
                  </a:lnTo>
                  <a:lnTo>
                    <a:pt x="3377" y="66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3280" y="3406680"/>
              <a:ext cx="5360760" cy="1165320"/>
            </a:xfrm>
            <a:custGeom>
              <a:avLst/>
              <a:gdLst/>
              <a:ahLst/>
              <a:rect l="l" t="t" r="r" b="b"/>
              <a:pathLst>
                <a:path w="3377" h="734">
                  <a:moveTo>
                    <a:pt x="0" y="660"/>
                  </a:moveTo>
                  <a:lnTo>
                    <a:pt x="771" y="660"/>
                  </a:lnTo>
                  <a:lnTo>
                    <a:pt x="771" y="0"/>
                  </a:lnTo>
                  <a:lnTo>
                    <a:pt x="822" y="125"/>
                  </a:lnTo>
                  <a:lnTo>
                    <a:pt x="859" y="191"/>
                  </a:lnTo>
                  <a:lnTo>
                    <a:pt x="903" y="220"/>
                  </a:lnTo>
                  <a:lnTo>
                    <a:pt x="1659" y="220"/>
                  </a:lnTo>
                  <a:lnTo>
                    <a:pt x="1674" y="213"/>
                  </a:lnTo>
                  <a:lnTo>
                    <a:pt x="1674" y="734"/>
                  </a:lnTo>
                  <a:lnTo>
                    <a:pt x="1813" y="712"/>
                  </a:lnTo>
                  <a:lnTo>
                    <a:pt x="1938" y="690"/>
                  </a:lnTo>
                  <a:lnTo>
                    <a:pt x="2078" y="668"/>
                  </a:lnTo>
                  <a:lnTo>
                    <a:pt x="2166" y="668"/>
                  </a:lnTo>
                  <a:lnTo>
                    <a:pt x="2246" y="660"/>
                  </a:lnTo>
                  <a:lnTo>
                    <a:pt x="3377" y="66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54440" y="5178600"/>
            <a:ext cx="5362560" cy="1152360"/>
            <a:chOff x="2854440" y="5178600"/>
            <a:chExt cx="5362560" cy="1152360"/>
          </a:xfrm>
        </p:grpSpPr>
        <p:sp>
          <p:nvSpPr>
            <p:cNvPr id="329" name=""/>
            <p:cNvSpPr/>
            <p:nvPr/>
          </p:nvSpPr>
          <p:spPr>
            <a:xfrm>
              <a:off x="2854440" y="5178600"/>
              <a:ext cx="5362560" cy="1152360"/>
            </a:xfrm>
            <a:custGeom>
              <a:avLst/>
              <a:gdLst/>
              <a:ahLst/>
              <a:rect l="l" t="t" r="r" b="b"/>
              <a:pathLst>
                <a:path w="3378" h="726">
                  <a:moveTo>
                    <a:pt x="0" y="66"/>
                  </a:moveTo>
                  <a:lnTo>
                    <a:pt x="0" y="66"/>
                  </a:lnTo>
                  <a:lnTo>
                    <a:pt x="771" y="66"/>
                  </a:lnTo>
                  <a:lnTo>
                    <a:pt x="771" y="66"/>
                  </a:lnTo>
                  <a:lnTo>
                    <a:pt x="771" y="726"/>
                  </a:lnTo>
                  <a:lnTo>
                    <a:pt x="771" y="726"/>
                  </a:lnTo>
                  <a:lnTo>
                    <a:pt x="822" y="609"/>
                  </a:lnTo>
                  <a:lnTo>
                    <a:pt x="822" y="609"/>
                  </a:lnTo>
                  <a:lnTo>
                    <a:pt x="859" y="543"/>
                  </a:lnTo>
                  <a:lnTo>
                    <a:pt x="859" y="543"/>
                  </a:lnTo>
                  <a:lnTo>
                    <a:pt x="903" y="506"/>
                  </a:lnTo>
                  <a:lnTo>
                    <a:pt x="903" y="506"/>
                  </a:lnTo>
                  <a:lnTo>
                    <a:pt x="1659" y="506"/>
                  </a:lnTo>
                  <a:lnTo>
                    <a:pt x="1659" y="506"/>
                  </a:lnTo>
                  <a:lnTo>
                    <a:pt x="1674" y="513"/>
                  </a:lnTo>
                  <a:lnTo>
                    <a:pt x="1674" y="513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814" y="22"/>
                  </a:lnTo>
                  <a:lnTo>
                    <a:pt x="1814" y="22"/>
                  </a:lnTo>
                  <a:lnTo>
                    <a:pt x="1938" y="44"/>
                  </a:lnTo>
                  <a:lnTo>
                    <a:pt x="1938" y="44"/>
                  </a:lnTo>
                  <a:lnTo>
                    <a:pt x="2078" y="58"/>
                  </a:lnTo>
                  <a:lnTo>
                    <a:pt x="2078" y="58"/>
                  </a:lnTo>
                  <a:lnTo>
                    <a:pt x="2166" y="66"/>
                  </a:lnTo>
                  <a:lnTo>
                    <a:pt x="2166" y="66"/>
                  </a:lnTo>
                  <a:lnTo>
                    <a:pt x="2247" y="66"/>
                  </a:lnTo>
                  <a:lnTo>
                    <a:pt x="2247" y="66"/>
                  </a:lnTo>
                  <a:lnTo>
                    <a:pt x="3378" y="66"/>
                  </a:lnTo>
                  <a:lnTo>
                    <a:pt x="3378" y="66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54440" y="5178600"/>
              <a:ext cx="5362560" cy="1152360"/>
            </a:xfrm>
            <a:custGeom>
              <a:avLst/>
              <a:gdLst/>
              <a:ahLst/>
              <a:rect l="l" t="t" r="r" b="b"/>
              <a:pathLst>
                <a:path w="3378" h="726">
                  <a:moveTo>
                    <a:pt x="0" y="66"/>
                  </a:moveTo>
                  <a:lnTo>
                    <a:pt x="771" y="66"/>
                  </a:lnTo>
                  <a:lnTo>
                    <a:pt x="771" y="726"/>
                  </a:lnTo>
                  <a:lnTo>
                    <a:pt x="822" y="609"/>
                  </a:lnTo>
                  <a:lnTo>
                    <a:pt x="859" y="543"/>
                  </a:lnTo>
                  <a:lnTo>
                    <a:pt x="903" y="506"/>
                  </a:lnTo>
                  <a:lnTo>
                    <a:pt x="1659" y="506"/>
                  </a:lnTo>
                  <a:lnTo>
                    <a:pt x="1674" y="513"/>
                  </a:lnTo>
                  <a:lnTo>
                    <a:pt x="1674" y="0"/>
                  </a:lnTo>
                  <a:lnTo>
                    <a:pt x="1814" y="22"/>
                  </a:lnTo>
                  <a:lnTo>
                    <a:pt x="1938" y="44"/>
                  </a:lnTo>
                  <a:lnTo>
                    <a:pt x="2078" y="58"/>
                  </a:lnTo>
                  <a:lnTo>
                    <a:pt x="2166" y="66"/>
                  </a:lnTo>
                  <a:lnTo>
                    <a:pt x="2247" y="66"/>
                  </a:lnTo>
                  <a:lnTo>
                    <a:pt x="3378" y="66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65600" y="4454640"/>
            <a:ext cx="1166760" cy="839520"/>
            <a:chOff x="2865600" y="4454640"/>
            <a:chExt cx="1166760" cy="839520"/>
          </a:xfrm>
        </p:grpSpPr>
        <p:sp>
          <p:nvSpPr>
            <p:cNvPr id="332" name=""/>
            <p:cNvSpPr/>
            <p:nvPr/>
          </p:nvSpPr>
          <p:spPr>
            <a:xfrm>
              <a:off x="2865600" y="4454640"/>
              <a:ext cx="1166760" cy="839520"/>
            </a:xfrm>
            <a:custGeom>
              <a:avLst/>
              <a:gdLst/>
              <a:ahLst/>
              <a:rect l="l" t="t" r="r" b="b"/>
              <a:pathLst>
                <a:path w="735" h="529">
                  <a:moveTo>
                    <a:pt x="0" y="529"/>
                  </a:moveTo>
                  <a:lnTo>
                    <a:pt x="0" y="529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132" y="529"/>
                  </a:lnTo>
                  <a:lnTo>
                    <a:pt x="132" y="52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65" y="529"/>
                  </a:lnTo>
                  <a:lnTo>
                    <a:pt x="265" y="529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97" y="529"/>
                  </a:lnTo>
                  <a:lnTo>
                    <a:pt x="397" y="52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22" y="529"/>
                  </a:lnTo>
                  <a:lnTo>
                    <a:pt x="522" y="529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661" y="529"/>
                  </a:lnTo>
                  <a:lnTo>
                    <a:pt x="661" y="529"/>
                  </a:lnTo>
                  <a:lnTo>
                    <a:pt x="735" y="0"/>
                  </a:lnTo>
                  <a:lnTo>
                    <a:pt x="735" y="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65600" y="4454640"/>
              <a:ext cx="1166760" cy="839520"/>
            </a:xfrm>
            <a:custGeom>
              <a:avLst/>
              <a:gdLst/>
              <a:ahLst/>
              <a:rect l="l" t="t" r="r" b="b"/>
              <a:pathLst>
                <a:path w="735" h="529">
                  <a:moveTo>
                    <a:pt x="0" y="529"/>
                  </a:moveTo>
                  <a:lnTo>
                    <a:pt x="66" y="0"/>
                  </a:lnTo>
                  <a:lnTo>
                    <a:pt x="132" y="529"/>
                  </a:lnTo>
                  <a:lnTo>
                    <a:pt x="199" y="0"/>
                  </a:lnTo>
                  <a:lnTo>
                    <a:pt x="265" y="529"/>
                  </a:lnTo>
                  <a:lnTo>
                    <a:pt x="331" y="0"/>
                  </a:lnTo>
                  <a:lnTo>
                    <a:pt x="397" y="529"/>
                  </a:lnTo>
                  <a:lnTo>
                    <a:pt x="463" y="0"/>
                  </a:lnTo>
                  <a:lnTo>
                    <a:pt x="522" y="529"/>
                  </a:lnTo>
                  <a:lnTo>
                    <a:pt x="602" y="0"/>
                  </a:lnTo>
                  <a:lnTo>
                    <a:pt x="661" y="529"/>
                  </a:lnTo>
                  <a:lnTo>
                    <a:pt x="735" y="0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30680" y="3371760"/>
            <a:ext cx="5397480" cy="2994120"/>
            <a:chOff x="2830680" y="3371760"/>
            <a:chExt cx="5397480" cy="2994120"/>
          </a:xfrm>
        </p:grpSpPr>
        <p:sp>
          <p:nvSpPr>
            <p:cNvPr id="335" name=""/>
            <p:cNvSpPr/>
            <p:nvPr/>
          </p:nvSpPr>
          <p:spPr>
            <a:xfrm>
              <a:off x="2830680" y="3371760"/>
              <a:ext cx="5397480" cy="2994120"/>
            </a:xfrm>
            <a:custGeom>
              <a:avLst/>
              <a:gdLst/>
              <a:ahLst/>
              <a:rect l="l" t="t" r="r" b="b"/>
              <a:pathLst>
                <a:path w="3400" h="1886">
                  <a:moveTo>
                    <a:pt x="0" y="682"/>
                  </a:moveTo>
                  <a:lnTo>
                    <a:pt x="0" y="682"/>
                  </a:lnTo>
                  <a:lnTo>
                    <a:pt x="771" y="682"/>
                  </a:lnTo>
                  <a:lnTo>
                    <a:pt x="771" y="682"/>
                  </a:lnTo>
                  <a:lnTo>
                    <a:pt x="771" y="14"/>
                  </a:lnTo>
                  <a:lnTo>
                    <a:pt x="771" y="14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823" y="117"/>
                  </a:lnTo>
                  <a:lnTo>
                    <a:pt x="823" y="117"/>
                  </a:lnTo>
                  <a:lnTo>
                    <a:pt x="852" y="183"/>
                  </a:lnTo>
                  <a:lnTo>
                    <a:pt x="852" y="183"/>
                  </a:lnTo>
                  <a:lnTo>
                    <a:pt x="881" y="220"/>
                  </a:lnTo>
                  <a:lnTo>
                    <a:pt x="881" y="220"/>
                  </a:lnTo>
                  <a:lnTo>
                    <a:pt x="903" y="242"/>
                  </a:lnTo>
                  <a:lnTo>
                    <a:pt x="903" y="242"/>
                  </a:lnTo>
                  <a:lnTo>
                    <a:pt x="1689" y="242"/>
                  </a:lnTo>
                  <a:lnTo>
                    <a:pt x="1689" y="242"/>
                  </a:lnTo>
                  <a:lnTo>
                    <a:pt x="1682" y="748"/>
                  </a:lnTo>
                  <a:lnTo>
                    <a:pt x="1682" y="748"/>
                  </a:lnTo>
                  <a:lnTo>
                    <a:pt x="1733" y="741"/>
                  </a:lnTo>
                  <a:lnTo>
                    <a:pt x="1733" y="741"/>
                  </a:lnTo>
                  <a:lnTo>
                    <a:pt x="1821" y="726"/>
                  </a:lnTo>
                  <a:lnTo>
                    <a:pt x="1821" y="726"/>
                  </a:lnTo>
                  <a:lnTo>
                    <a:pt x="1880" y="719"/>
                  </a:lnTo>
                  <a:lnTo>
                    <a:pt x="1880" y="719"/>
                  </a:lnTo>
                  <a:lnTo>
                    <a:pt x="1939" y="704"/>
                  </a:lnTo>
                  <a:lnTo>
                    <a:pt x="1939" y="704"/>
                  </a:lnTo>
                  <a:lnTo>
                    <a:pt x="1990" y="697"/>
                  </a:lnTo>
                  <a:lnTo>
                    <a:pt x="1990" y="697"/>
                  </a:lnTo>
                  <a:lnTo>
                    <a:pt x="2034" y="697"/>
                  </a:lnTo>
                  <a:lnTo>
                    <a:pt x="2034" y="697"/>
                  </a:lnTo>
                  <a:lnTo>
                    <a:pt x="2108" y="682"/>
                  </a:lnTo>
                  <a:lnTo>
                    <a:pt x="2108" y="682"/>
                  </a:lnTo>
                  <a:lnTo>
                    <a:pt x="2218" y="682"/>
                  </a:lnTo>
                  <a:lnTo>
                    <a:pt x="2218" y="682"/>
                  </a:lnTo>
                  <a:lnTo>
                    <a:pt x="2291" y="682"/>
                  </a:lnTo>
                  <a:lnTo>
                    <a:pt x="2291" y="682"/>
                  </a:lnTo>
                  <a:lnTo>
                    <a:pt x="3400" y="682"/>
                  </a:lnTo>
                  <a:lnTo>
                    <a:pt x="3400" y="682"/>
                  </a:lnTo>
                  <a:lnTo>
                    <a:pt x="3400" y="1218"/>
                  </a:lnTo>
                  <a:lnTo>
                    <a:pt x="3400" y="1218"/>
                  </a:lnTo>
                  <a:lnTo>
                    <a:pt x="2225" y="1218"/>
                  </a:lnTo>
                  <a:lnTo>
                    <a:pt x="2225" y="1218"/>
                  </a:lnTo>
                  <a:lnTo>
                    <a:pt x="2071" y="1204"/>
                  </a:lnTo>
                  <a:lnTo>
                    <a:pt x="2071" y="1204"/>
                  </a:lnTo>
                  <a:lnTo>
                    <a:pt x="1990" y="1189"/>
                  </a:lnTo>
                  <a:lnTo>
                    <a:pt x="1990" y="1189"/>
                  </a:lnTo>
                  <a:lnTo>
                    <a:pt x="1909" y="1174"/>
                  </a:lnTo>
                  <a:lnTo>
                    <a:pt x="1909" y="1174"/>
                  </a:lnTo>
                  <a:lnTo>
                    <a:pt x="1821" y="1160"/>
                  </a:lnTo>
                  <a:lnTo>
                    <a:pt x="1821" y="1160"/>
                  </a:lnTo>
                  <a:lnTo>
                    <a:pt x="1740" y="1145"/>
                  </a:lnTo>
                  <a:lnTo>
                    <a:pt x="1740" y="1145"/>
                  </a:lnTo>
                  <a:lnTo>
                    <a:pt x="1696" y="1138"/>
                  </a:lnTo>
                  <a:lnTo>
                    <a:pt x="1696" y="1138"/>
                  </a:lnTo>
                  <a:lnTo>
                    <a:pt x="1696" y="1651"/>
                  </a:lnTo>
                  <a:lnTo>
                    <a:pt x="1696" y="1651"/>
                  </a:lnTo>
                  <a:lnTo>
                    <a:pt x="925" y="1651"/>
                  </a:lnTo>
                  <a:lnTo>
                    <a:pt x="925" y="1651"/>
                  </a:lnTo>
                  <a:lnTo>
                    <a:pt x="881" y="1673"/>
                  </a:lnTo>
                  <a:lnTo>
                    <a:pt x="881" y="1673"/>
                  </a:lnTo>
                  <a:lnTo>
                    <a:pt x="867" y="1710"/>
                  </a:lnTo>
                  <a:lnTo>
                    <a:pt x="867" y="1710"/>
                  </a:lnTo>
                  <a:lnTo>
                    <a:pt x="837" y="1747"/>
                  </a:lnTo>
                  <a:lnTo>
                    <a:pt x="837" y="1747"/>
                  </a:lnTo>
                  <a:lnTo>
                    <a:pt x="823" y="1791"/>
                  </a:lnTo>
                  <a:lnTo>
                    <a:pt x="823" y="1791"/>
                  </a:lnTo>
                  <a:lnTo>
                    <a:pt x="808" y="1828"/>
                  </a:lnTo>
                  <a:lnTo>
                    <a:pt x="808" y="1828"/>
                  </a:lnTo>
                  <a:lnTo>
                    <a:pt x="779" y="1886"/>
                  </a:lnTo>
                  <a:lnTo>
                    <a:pt x="779" y="1886"/>
                  </a:lnTo>
                  <a:lnTo>
                    <a:pt x="779" y="1211"/>
                  </a:lnTo>
                  <a:lnTo>
                    <a:pt x="779" y="1211"/>
                  </a:lnTo>
                  <a:lnTo>
                    <a:pt x="0" y="1211"/>
                  </a:lnTo>
                  <a:lnTo>
                    <a:pt x="0" y="1211"/>
                  </a:lnTo>
                  <a:lnTo>
                    <a:pt x="0" y="682"/>
                  </a:lnTo>
                  <a:lnTo>
                    <a:pt x="0" y="682"/>
                  </a:lnTo>
                  <a:lnTo>
                    <a:pt x="771" y="682"/>
                  </a:lnTo>
                  <a:lnTo>
                    <a:pt x="771" y="14"/>
                  </a:lnTo>
                  <a:lnTo>
                    <a:pt x="771" y="0"/>
                  </a:lnTo>
                  <a:lnTo>
                    <a:pt x="823" y="117"/>
                  </a:lnTo>
                  <a:lnTo>
                    <a:pt x="852" y="183"/>
                  </a:lnTo>
                  <a:lnTo>
                    <a:pt x="881" y="220"/>
                  </a:lnTo>
                  <a:lnTo>
                    <a:pt x="903" y="242"/>
                  </a:lnTo>
                  <a:lnTo>
                    <a:pt x="1689" y="242"/>
                  </a:lnTo>
                  <a:lnTo>
                    <a:pt x="1682" y="748"/>
                  </a:lnTo>
                  <a:lnTo>
                    <a:pt x="1733" y="741"/>
                  </a:lnTo>
                  <a:lnTo>
                    <a:pt x="1821" y="726"/>
                  </a:lnTo>
                  <a:lnTo>
                    <a:pt x="1880" y="719"/>
                  </a:lnTo>
                  <a:lnTo>
                    <a:pt x="1939" y="704"/>
                  </a:lnTo>
                  <a:lnTo>
                    <a:pt x="1990" y="697"/>
                  </a:lnTo>
                  <a:lnTo>
                    <a:pt x="2034" y="697"/>
                  </a:lnTo>
                  <a:lnTo>
                    <a:pt x="2108" y="682"/>
                  </a:lnTo>
                  <a:lnTo>
                    <a:pt x="2218" y="682"/>
                  </a:lnTo>
                  <a:lnTo>
                    <a:pt x="2291" y="682"/>
                  </a:lnTo>
                  <a:lnTo>
                    <a:pt x="3400" y="682"/>
                  </a:lnTo>
                  <a:lnTo>
                    <a:pt x="3400" y="1218"/>
                  </a:lnTo>
                  <a:lnTo>
                    <a:pt x="2225" y="1218"/>
                  </a:lnTo>
                  <a:lnTo>
                    <a:pt x="2071" y="1204"/>
                  </a:lnTo>
                  <a:lnTo>
                    <a:pt x="1990" y="1189"/>
                  </a:lnTo>
                  <a:lnTo>
                    <a:pt x="1909" y="1174"/>
                  </a:lnTo>
                  <a:lnTo>
                    <a:pt x="1821" y="1160"/>
                  </a:lnTo>
                  <a:lnTo>
                    <a:pt x="1740" y="1145"/>
                  </a:lnTo>
                  <a:lnTo>
                    <a:pt x="1696" y="1138"/>
                  </a:lnTo>
                  <a:lnTo>
                    <a:pt x="1696" y="1651"/>
                  </a:lnTo>
                  <a:lnTo>
                    <a:pt x="925" y="1651"/>
                  </a:lnTo>
                  <a:lnTo>
                    <a:pt x="881" y="1673"/>
                  </a:lnTo>
                  <a:lnTo>
                    <a:pt x="867" y="1710"/>
                  </a:lnTo>
                  <a:lnTo>
                    <a:pt x="837" y="1747"/>
                  </a:lnTo>
                  <a:lnTo>
                    <a:pt x="823" y="1791"/>
                  </a:lnTo>
                  <a:lnTo>
                    <a:pt x="808" y="1828"/>
                  </a:lnTo>
                  <a:lnTo>
                    <a:pt x="779" y="1886"/>
                  </a:lnTo>
                  <a:lnTo>
                    <a:pt x="779" y="1211"/>
                  </a:lnTo>
                  <a:lnTo>
                    <a:pt x="0" y="1211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032360" y="3767040"/>
              <a:ext cx="3438360" cy="2319480"/>
              <a:chOff x="4032360" y="3767040"/>
              <a:chExt cx="3438360" cy="2319480"/>
            </a:xfrm>
          </p:grpSpPr>
          <p:sp>
            <p:nvSpPr>
              <p:cNvPr id="337" name=""/>
              <p:cNvSpPr/>
              <p:nvPr/>
            </p:nvSpPr>
            <p:spPr>
              <a:xfrm>
                <a:off x="4032360" y="3767040"/>
                <a:ext cx="3438360" cy="2319480"/>
              </a:xfrm>
              <a:custGeom>
                <a:avLst/>
                <a:gdLst/>
                <a:ahLst/>
                <a:rect l="l" t="t" r="r" b="b"/>
                <a:pathLst>
                  <a:path w="2166" h="1461">
                    <a:moveTo>
                      <a:pt x="0" y="433"/>
                    </a:moveTo>
                    <a:lnTo>
                      <a:pt x="0" y="433"/>
                    </a:lnTo>
                    <a:lnTo>
                      <a:pt x="117" y="1461"/>
                    </a:lnTo>
                    <a:lnTo>
                      <a:pt x="117" y="1461"/>
                    </a:lnTo>
                    <a:lnTo>
                      <a:pt x="183" y="8"/>
                    </a:lnTo>
                    <a:lnTo>
                      <a:pt x="183" y="8"/>
                    </a:lnTo>
                    <a:lnTo>
                      <a:pt x="271" y="1402"/>
                    </a:lnTo>
                    <a:lnTo>
                      <a:pt x="271" y="1402"/>
                    </a:lnTo>
                    <a:lnTo>
                      <a:pt x="345" y="8"/>
                    </a:lnTo>
                    <a:lnTo>
                      <a:pt x="345" y="8"/>
                    </a:lnTo>
                    <a:lnTo>
                      <a:pt x="418" y="1402"/>
                    </a:lnTo>
                    <a:lnTo>
                      <a:pt x="418" y="1402"/>
                    </a:lnTo>
                    <a:lnTo>
                      <a:pt x="492" y="8"/>
                    </a:lnTo>
                    <a:lnTo>
                      <a:pt x="492" y="8"/>
                    </a:lnTo>
                    <a:lnTo>
                      <a:pt x="572" y="1402"/>
                    </a:lnTo>
                    <a:lnTo>
                      <a:pt x="572" y="1402"/>
                    </a:lnTo>
                    <a:lnTo>
                      <a:pt x="631" y="0"/>
                    </a:lnTo>
                    <a:lnTo>
                      <a:pt x="631" y="0"/>
                    </a:lnTo>
                    <a:lnTo>
                      <a:pt x="726" y="1402"/>
                    </a:lnTo>
                    <a:lnTo>
                      <a:pt x="726" y="1402"/>
                    </a:lnTo>
                    <a:lnTo>
                      <a:pt x="800" y="8"/>
                    </a:lnTo>
                    <a:lnTo>
                      <a:pt x="800" y="8"/>
                    </a:lnTo>
                    <a:lnTo>
                      <a:pt x="873" y="1402"/>
                    </a:lnTo>
                    <a:lnTo>
                      <a:pt x="873" y="1402"/>
                    </a:lnTo>
                    <a:lnTo>
                      <a:pt x="969" y="499"/>
                    </a:lnTo>
                    <a:lnTo>
                      <a:pt x="969" y="499"/>
                    </a:lnTo>
                    <a:lnTo>
                      <a:pt x="1042" y="911"/>
                    </a:lnTo>
                    <a:lnTo>
                      <a:pt x="1042" y="911"/>
                    </a:lnTo>
                    <a:lnTo>
                      <a:pt x="1116" y="470"/>
                    </a:lnTo>
                    <a:lnTo>
                      <a:pt x="1116" y="470"/>
                    </a:lnTo>
                    <a:lnTo>
                      <a:pt x="1189" y="933"/>
                    </a:lnTo>
                    <a:lnTo>
                      <a:pt x="1189" y="933"/>
                    </a:lnTo>
                    <a:lnTo>
                      <a:pt x="1262" y="448"/>
                    </a:lnTo>
                    <a:lnTo>
                      <a:pt x="1262" y="448"/>
                    </a:lnTo>
                    <a:lnTo>
                      <a:pt x="1343" y="955"/>
                    </a:lnTo>
                    <a:lnTo>
                      <a:pt x="1343" y="955"/>
                    </a:lnTo>
                    <a:lnTo>
                      <a:pt x="1409" y="433"/>
                    </a:lnTo>
                    <a:lnTo>
                      <a:pt x="1409" y="433"/>
                    </a:lnTo>
                    <a:lnTo>
                      <a:pt x="1490" y="962"/>
                    </a:lnTo>
                    <a:lnTo>
                      <a:pt x="1490" y="962"/>
                    </a:lnTo>
                    <a:lnTo>
                      <a:pt x="1564" y="433"/>
                    </a:lnTo>
                    <a:lnTo>
                      <a:pt x="1564" y="433"/>
                    </a:lnTo>
                    <a:lnTo>
                      <a:pt x="1652" y="962"/>
                    </a:lnTo>
                    <a:lnTo>
                      <a:pt x="1652" y="962"/>
                    </a:lnTo>
                    <a:lnTo>
                      <a:pt x="1718" y="433"/>
                    </a:lnTo>
                    <a:lnTo>
                      <a:pt x="1718" y="433"/>
                    </a:lnTo>
                    <a:lnTo>
                      <a:pt x="1806" y="962"/>
                    </a:lnTo>
                    <a:lnTo>
                      <a:pt x="1806" y="962"/>
                    </a:lnTo>
                    <a:lnTo>
                      <a:pt x="1872" y="433"/>
                    </a:lnTo>
                    <a:lnTo>
                      <a:pt x="1872" y="433"/>
                    </a:lnTo>
                    <a:lnTo>
                      <a:pt x="1960" y="962"/>
                    </a:lnTo>
                    <a:lnTo>
                      <a:pt x="1960" y="962"/>
                    </a:lnTo>
                    <a:lnTo>
                      <a:pt x="2019" y="433"/>
                    </a:lnTo>
                    <a:lnTo>
                      <a:pt x="2019" y="433"/>
                    </a:lnTo>
                    <a:lnTo>
                      <a:pt x="2107" y="962"/>
                    </a:lnTo>
                    <a:lnTo>
                      <a:pt x="2107" y="962"/>
                    </a:lnTo>
                    <a:lnTo>
                      <a:pt x="2166" y="433"/>
                    </a:lnTo>
                    <a:lnTo>
                      <a:pt x="2166" y="433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32360" y="3767040"/>
                <a:ext cx="3438360" cy="2319480"/>
              </a:xfrm>
              <a:custGeom>
                <a:avLst/>
                <a:gdLst/>
                <a:ahLst/>
                <a:rect l="l" t="t" r="r" b="b"/>
                <a:pathLst>
                  <a:path w="2166" h="1461">
                    <a:moveTo>
                      <a:pt x="0" y="433"/>
                    </a:moveTo>
                    <a:lnTo>
                      <a:pt x="117" y="1461"/>
                    </a:lnTo>
                    <a:lnTo>
                      <a:pt x="183" y="8"/>
                    </a:lnTo>
                    <a:lnTo>
                      <a:pt x="271" y="1402"/>
                    </a:lnTo>
                    <a:lnTo>
                      <a:pt x="345" y="8"/>
                    </a:lnTo>
                    <a:lnTo>
                      <a:pt x="418" y="1402"/>
                    </a:lnTo>
                    <a:lnTo>
                      <a:pt x="492" y="8"/>
                    </a:lnTo>
                    <a:lnTo>
                      <a:pt x="572" y="1402"/>
                    </a:lnTo>
                    <a:lnTo>
                      <a:pt x="631" y="0"/>
                    </a:lnTo>
                    <a:lnTo>
                      <a:pt x="726" y="1402"/>
                    </a:lnTo>
                    <a:lnTo>
                      <a:pt x="800" y="8"/>
                    </a:lnTo>
                    <a:lnTo>
                      <a:pt x="873" y="1402"/>
                    </a:lnTo>
                    <a:lnTo>
                      <a:pt x="969" y="499"/>
                    </a:lnTo>
                    <a:lnTo>
                      <a:pt x="1042" y="911"/>
                    </a:lnTo>
                    <a:lnTo>
                      <a:pt x="1116" y="470"/>
                    </a:lnTo>
                    <a:lnTo>
                      <a:pt x="1189" y="933"/>
                    </a:lnTo>
                    <a:lnTo>
                      <a:pt x="1262" y="448"/>
                    </a:lnTo>
                    <a:lnTo>
                      <a:pt x="1343" y="955"/>
                    </a:lnTo>
                    <a:lnTo>
                      <a:pt x="1409" y="433"/>
                    </a:lnTo>
                    <a:lnTo>
                      <a:pt x="1490" y="962"/>
                    </a:lnTo>
                    <a:lnTo>
                      <a:pt x="1564" y="433"/>
                    </a:lnTo>
                    <a:lnTo>
                      <a:pt x="1652" y="962"/>
                    </a:lnTo>
                    <a:lnTo>
                      <a:pt x="1718" y="433"/>
                    </a:lnTo>
                    <a:lnTo>
                      <a:pt x="1806" y="962"/>
                    </a:lnTo>
                    <a:lnTo>
                      <a:pt x="1872" y="433"/>
                    </a:lnTo>
                    <a:lnTo>
                      <a:pt x="1960" y="962"/>
                    </a:lnTo>
                    <a:lnTo>
                      <a:pt x="2019" y="433"/>
                    </a:lnTo>
                    <a:lnTo>
                      <a:pt x="2107" y="962"/>
                    </a:lnTo>
                    <a:lnTo>
                      <a:pt x="2166" y="433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470720" y="4454640"/>
              <a:ext cx="641520" cy="839520"/>
              <a:chOff x="7470720" y="4454640"/>
              <a:chExt cx="641520" cy="839520"/>
            </a:xfrm>
          </p:grpSpPr>
          <p:sp>
            <p:nvSpPr>
              <p:cNvPr id="340" name=""/>
              <p:cNvSpPr/>
              <p:nvPr/>
            </p:nvSpPr>
            <p:spPr>
              <a:xfrm>
                <a:off x="7470720" y="4454640"/>
                <a:ext cx="641520" cy="839520"/>
              </a:xfrm>
              <a:custGeom>
                <a:avLst/>
                <a:gdLst/>
                <a:ahLst/>
                <a:rect l="l" t="t" r="r" b="b"/>
                <a:pathLst>
                  <a:path w="404" h="529">
                    <a:moveTo>
                      <a:pt x="0" y="0"/>
                    </a:moveTo>
                    <a:lnTo>
                      <a:pt x="0" y="0"/>
                    </a:lnTo>
                    <a:lnTo>
                      <a:pt x="95" y="529"/>
                    </a:lnTo>
                    <a:lnTo>
                      <a:pt x="95" y="529"/>
                    </a:lnTo>
                    <a:lnTo>
                      <a:pt x="161" y="0"/>
                    </a:lnTo>
                    <a:lnTo>
                      <a:pt x="161" y="0"/>
                    </a:lnTo>
                    <a:lnTo>
                      <a:pt x="249" y="529"/>
                    </a:lnTo>
                    <a:lnTo>
                      <a:pt x="249" y="529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404" y="529"/>
                    </a:lnTo>
                    <a:lnTo>
                      <a:pt x="404" y="529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470720" y="4454640"/>
                <a:ext cx="641520" cy="839520"/>
              </a:xfrm>
              <a:custGeom>
                <a:avLst/>
                <a:gdLst/>
                <a:ahLst/>
                <a:rect l="l" t="t" r="r" b="b"/>
                <a:pathLst>
                  <a:path w="404" h="529">
                    <a:moveTo>
                      <a:pt x="0" y="0"/>
                    </a:moveTo>
                    <a:lnTo>
                      <a:pt x="95" y="529"/>
                    </a:lnTo>
                    <a:lnTo>
                      <a:pt x="161" y="0"/>
                    </a:lnTo>
                    <a:lnTo>
                      <a:pt x="249" y="529"/>
                    </a:lnTo>
                    <a:lnTo>
                      <a:pt x="330" y="0"/>
                    </a:lnTo>
                    <a:lnTo>
                      <a:pt x="404" y="529"/>
                    </a:lnTo>
                  </a:path>
                </a:pathLst>
              </a:custGeom>
              <a:noFill/>
              <a:ln w="11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2457360" y="4886280"/>
            <a:ext cx="6154920" cy="180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830680" y="3767040"/>
            <a:ext cx="1457280" cy="180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830320" y="3639960"/>
            <a:ext cx="1352520" cy="180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067280" y="3103560"/>
            <a:ext cx="1440" cy="27936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194000" y="3092040"/>
            <a:ext cx="1800" cy="54756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194000" y="3197160"/>
            <a:ext cx="455760" cy="104760"/>
            <a:chOff x="4194000" y="3197160"/>
            <a:chExt cx="455760" cy="104760"/>
          </a:xfrm>
        </p:grpSpPr>
        <p:sp>
          <p:nvSpPr>
            <p:cNvPr id="348" name=""/>
            <p:cNvSpPr/>
            <p:nvPr/>
          </p:nvSpPr>
          <p:spPr>
            <a:xfrm>
              <a:off x="4194000" y="3254400"/>
              <a:ext cx="455760" cy="144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94000" y="3197160"/>
              <a:ext cx="163800" cy="9216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29"/>
                  </a:moveTo>
                  <a:lnTo>
                    <a:pt x="0" y="29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03" y="58"/>
                  </a:lnTo>
                  <a:lnTo>
                    <a:pt x="103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4000" y="3208320"/>
              <a:ext cx="174960" cy="9360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0" y="29"/>
                  </a:moveTo>
                  <a:lnTo>
                    <a:pt x="0" y="29"/>
                  </a:lnTo>
                  <a:lnTo>
                    <a:pt x="110" y="59"/>
                  </a:lnTo>
                  <a:lnTo>
                    <a:pt x="110" y="59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23760" y="3197160"/>
            <a:ext cx="430560" cy="104760"/>
            <a:chOff x="3623760" y="3197160"/>
            <a:chExt cx="430560" cy="104760"/>
          </a:xfrm>
        </p:grpSpPr>
        <p:sp>
          <p:nvSpPr>
            <p:cNvPr id="352" name=""/>
            <p:cNvSpPr/>
            <p:nvPr/>
          </p:nvSpPr>
          <p:spPr>
            <a:xfrm flipH="1">
              <a:off x="3623760" y="3254400"/>
              <a:ext cx="430200" cy="144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68560" y="3197160"/>
              <a:ext cx="174960" cy="9216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110" y="29"/>
                  </a:moveTo>
                  <a:lnTo>
                    <a:pt x="11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1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79720" y="3208320"/>
              <a:ext cx="174600" cy="9360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29"/>
                  </a:moveTo>
                  <a:lnTo>
                    <a:pt x="11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10" y="29"/>
                  </a:lnTo>
                  <a:lnTo>
                    <a:pt x="11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157560" y="3780000"/>
            <a:ext cx="104760" cy="290520"/>
            <a:chOff x="3157560" y="3780000"/>
            <a:chExt cx="104760" cy="290520"/>
          </a:xfrm>
        </p:grpSpPr>
        <p:sp>
          <p:nvSpPr>
            <p:cNvPr id="356" name=""/>
            <p:cNvSpPr/>
            <p:nvPr/>
          </p:nvSpPr>
          <p:spPr>
            <a:xfrm>
              <a:off x="3216240" y="3780000"/>
              <a:ext cx="1800" cy="29052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57560" y="378000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29" y="0"/>
                  </a:moveTo>
                  <a:lnTo>
                    <a:pt x="29" y="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9" y="110"/>
                  </a:lnTo>
                  <a:lnTo>
                    <a:pt x="59" y="1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110"/>
                  </a:lnTo>
                  <a:lnTo>
                    <a:pt x="59" y="11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720" y="378000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30" y="0"/>
                  </a:moveTo>
                  <a:lnTo>
                    <a:pt x="30" y="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9" y="110"/>
                  </a:lnTo>
                  <a:lnTo>
                    <a:pt x="59" y="1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157560" y="3324240"/>
            <a:ext cx="104760" cy="303120"/>
            <a:chOff x="3157560" y="3324240"/>
            <a:chExt cx="104760" cy="303120"/>
          </a:xfrm>
        </p:grpSpPr>
        <p:sp>
          <p:nvSpPr>
            <p:cNvPr id="360" name=""/>
            <p:cNvSpPr/>
            <p:nvPr/>
          </p:nvSpPr>
          <p:spPr>
            <a:xfrm flipV="1">
              <a:off x="3216240" y="3324240"/>
              <a:ext cx="1800" cy="30312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57560" y="344160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29" y="110"/>
                  </a:moveTo>
                  <a:lnTo>
                    <a:pt x="29" y="1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9" y="110"/>
                  </a:lnTo>
                  <a:lnTo>
                    <a:pt x="29" y="11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29" y="11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68720" y="345276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30" y="110"/>
                  </a:moveTo>
                  <a:lnTo>
                    <a:pt x="30" y="1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815080" y="4524480"/>
            <a:ext cx="2436840" cy="144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03920" y="3476160"/>
            <a:ext cx="1440" cy="104796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522760" y="3476520"/>
            <a:ext cx="1800" cy="27936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803920" y="3522600"/>
            <a:ext cx="465120" cy="104760"/>
            <a:chOff x="5803920" y="3522600"/>
            <a:chExt cx="465120" cy="104760"/>
          </a:xfrm>
        </p:grpSpPr>
        <p:sp>
          <p:nvSpPr>
            <p:cNvPr id="367" name=""/>
            <p:cNvSpPr/>
            <p:nvPr/>
          </p:nvSpPr>
          <p:spPr>
            <a:xfrm>
              <a:off x="5815080" y="3581280"/>
              <a:ext cx="453960" cy="180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03920" y="3522600"/>
              <a:ext cx="174600" cy="9360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0" y="30"/>
                  </a:moveTo>
                  <a:lnTo>
                    <a:pt x="0" y="30"/>
                  </a:lnTo>
                  <a:lnTo>
                    <a:pt x="110" y="59"/>
                  </a:lnTo>
                  <a:lnTo>
                    <a:pt x="110" y="59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10" y="59"/>
                  </a:lnTo>
                  <a:lnTo>
                    <a:pt x="11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15080" y="3535200"/>
              <a:ext cx="174600" cy="9216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0" y="29"/>
                  </a:moveTo>
                  <a:lnTo>
                    <a:pt x="0" y="29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92200" y="3522600"/>
            <a:ext cx="430560" cy="104760"/>
            <a:chOff x="5092200" y="3522600"/>
            <a:chExt cx="430560" cy="104760"/>
          </a:xfrm>
        </p:grpSpPr>
        <p:sp>
          <p:nvSpPr>
            <p:cNvPr id="371" name=""/>
            <p:cNvSpPr/>
            <p:nvPr/>
          </p:nvSpPr>
          <p:spPr>
            <a:xfrm flipH="1">
              <a:off x="5092200" y="3581280"/>
              <a:ext cx="430200" cy="180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7000" y="3522600"/>
              <a:ext cx="174960" cy="9360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30"/>
                  </a:moveTo>
                  <a:lnTo>
                    <a:pt x="11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110" y="3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48160" y="3535200"/>
              <a:ext cx="174600" cy="9216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110" y="29"/>
                  </a:moveTo>
                  <a:lnTo>
                    <a:pt x="11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10" y="29"/>
                  </a:lnTo>
                  <a:lnTo>
                    <a:pt x="110" y="29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075520" y="4524480"/>
            <a:ext cx="93600" cy="303120"/>
            <a:chOff x="8075520" y="4524480"/>
            <a:chExt cx="93600" cy="303120"/>
          </a:xfrm>
        </p:grpSpPr>
        <p:sp>
          <p:nvSpPr>
            <p:cNvPr id="375" name=""/>
            <p:cNvSpPr/>
            <p:nvPr/>
          </p:nvSpPr>
          <p:spPr>
            <a:xfrm>
              <a:off x="8123400" y="4537080"/>
              <a:ext cx="1440" cy="290520"/>
            </a:xfrm>
            <a:prstGeom prst="line">
              <a:avLst/>
            </a:prstGeom>
            <a:ln w="11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4524480"/>
              <a:ext cx="93600" cy="176040"/>
            </a:xfrm>
            <a:custGeom>
              <a:avLst/>
              <a:gdLst/>
              <a:ahLst/>
              <a:rect l="l" t="t" r="r" b="b"/>
              <a:pathLst>
                <a:path w="59" h="111">
                  <a:moveTo>
                    <a:pt x="30" y="0"/>
                  </a:moveTo>
                  <a:lnTo>
                    <a:pt x="30" y="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59" y="111"/>
                  </a:lnTo>
                  <a:lnTo>
                    <a:pt x="59" y="11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11"/>
                  </a:lnTo>
                  <a:lnTo>
                    <a:pt x="59" y="111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5520" y="453708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30" y="0"/>
                  </a:moveTo>
                  <a:lnTo>
                    <a:pt x="30" y="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9" y="110"/>
                  </a:lnTo>
                  <a:lnTo>
                    <a:pt x="59" y="1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1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1800" y="4454640"/>
            <a:ext cx="2062080" cy="1440"/>
          </a:xfrm>
          <a:prstGeom prst="line">
            <a:avLst/>
          </a:prstGeom>
          <a:ln w="11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054320" y="1646280"/>
            <a:ext cx="3462480" cy="1387440"/>
            <a:chOff x="4054320" y="1646280"/>
            <a:chExt cx="3462480" cy="1387440"/>
          </a:xfrm>
        </p:grpSpPr>
        <p:sp>
          <p:nvSpPr>
            <p:cNvPr id="380" name=""/>
            <p:cNvSpPr/>
            <p:nvPr/>
          </p:nvSpPr>
          <p:spPr>
            <a:xfrm>
              <a:off x="4067280" y="1658880"/>
              <a:ext cx="3449520" cy="1374840"/>
            </a:xfrm>
            <a:custGeom>
              <a:avLst/>
              <a:gdLst/>
              <a:ahLst/>
              <a:rect l="l" t="t" r="r" b="b"/>
              <a:pathLst>
                <a:path w="2173" h="866">
                  <a:moveTo>
                    <a:pt x="0" y="308"/>
                  </a:moveTo>
                  <a:lnTo>
                    <a:pt x="0" y="308"/>
                  </a:lnTo>
                  <a:lnTo>
                    <a:pt x="110" y="859"/>
                  </a:lnTo>
                  <a:lnTo>
                    <a:pt x="110" y="859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64" y="851"/>
                  </a:lnTo>
                  <a:lnTo>
                    <a:pt x="264" y="851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411" y="866"/>
                  </a:lnTo>
                  <a:lnTo>
                    <a:pt x="411" y="866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72" y="866"/>
                  </a:lnTo>
                  <a:lnTo>
                    <a:pt x="572" y="866"/>
                  </a:lnTo>
                  <a:lnTo>
                    <a:pt x="631" y="14"/>
                  </a:lnTo>
                  <a:lnTo>
                    <a:pt x="631" y="14"/>
                  </a:lnTo>
                  <a:lnTo>
                    <a:pt x="726" y="859"/>
                  </a:lnTo>
                  <a:lnTo>
                    <a:pt x="726" y="859"/>
                  </a:lnTo>
                  <a:lnTo>
                    <a:pt x="800" y="0"/>
                  </a:lnTo>
                  <a:lnTo>
                    <a:pt x="800" y="0"/>
                  </a:lnTo>
                  <a:lnTo>
                    <a:pt x="873" y="851"/>
                  </a:lnTo>
                  <a:lnTo>
                    <a:pt x="873" y="851"/>
                  </a:lnTo>
                  <a:lnTo>
                    <a:pt x="969" y="308"/>
                  </a:lnTo>
                  <a:lnTo>
                    <a:pt x="969" y="308"/>
                  </a:lnTo>
                  <a:lnTo>
                    <a:pt x="1057" y="550"/>
                  </a:lnTo>
                  <a:lnTo>
                    <a:pt x="1057" y="550"/>
                  </a:lnTo>
                  <a:lnTo>
                    <a:pt x="1116" y="308"/>
                  </a:lnTo>
                  <a:lnTo>
                    <a:pt x="1116" y="308"/>
                  </a:lnTo>
                  <a:lnTo>
                    <a:pt x="1189" y="550"/>
                  </a:lnTo>
                  <a:lnTo>
                    <a:pt x="1189" y="550"/>
                  </a:lnTo>
                  <a:lnTo>
                    <a:pt x="1255" y="308"/>
                  </a:lnTo>
                  <a:lnTo>
                    <a:pt x="1255" y="308"/>
                  </a:lnTo>
                  <a:lnTo>
                    <a:pt x="1343" y="550"/>
                  </a:lnTo>
                  <a:lnTo>
                    <a:pt x="1343" y="550"/>
                  </a:lnTo>
                  <a:lnTo>
                    <a:pt x="1402" y="308"/>
                  </a:lnTo>
                  <a:lnTo>
                    <a:pt x="1402" y="308"/>
                  </a:lnTo>
                  <a:lnTo>
                    <a:pt x="1490" y="550"/>
                  </a:lnTo>
                  <a:lnTo>
                    <a:pt x="1490" y="550"/>
                  </a:lnTo>
                  <a:lnTo>
                    <a:pt x="1556" y="308"/>
                  </a:lnTo>
                  <a:lnTo>
                    <a:pt x="1556" y="308"/>
                  </a:lnTo>
                  <a:lnTo>
                    <a:pt x="1652" y="550"/>
                  </a:lnTo>
                  <a:lnTo>
                    <a:pt x="1652" y="550"/>
                  </a:lnTo>
                  <a:lnTo>
                    <a:pt x="1718" y="308"/>
                  </a:lnTo>
                  <a:lnTo>
                    <a:pt x="1718" y="308"/>
                  </a:lnTo>
                  <a:lnTo>
                    <a:pt x="1806" y="550"/>
                  </a:lnTo>
                  <a:lnTo>
                    <a:pt x="1806" y="550"/>
                  </a:lnTo>
                  <a:lnTo>
                    <a:pt x="1872" y="308"/>
                  </a:lnTo>
                  <a:lnTo>
                    <a:pt x="1872" y="308"/>
                  </a:lnTo>
                  <a:lnTo>
                    <a:pt x="1960" y="550"/>
                  </a:lnTo>
                  <a:lnTo>
                    <a:pt x="1960" y="550"/>
                  </a:lnTo>
                  <a:lnTo>
                    <a:pt x="2026" y="308"/>
                  </a:lnTo>
                  <a:lnTo>
                    <a:pt x="2026" y="308"/>
                  </a:lnTo>
                  <a:lnTo>
                    <a:pt x="2107" y="550"/>
                  </a:lnTo>
                  <a:lnTo>
                    <a:pt x="2107" y="550"/>
                  </a:lnTo>
                  <a:lnTo>
                    <a:pt x="2173" y="308"/>
                  </a:lnTo>
                  <a:lnTo>
                    <a:pt x="2173" y="308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noFill/>
            <a:ln cap="rnd"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54320" y="1646280"/>
              <a:ext cx="3451320" cy="1376280"/>
            </a:xfrm>
            <a:custGeom>
              <a:avLst/>
              <a:gdLst/>
              <a:ahLst/>
              <a:rect l="l" t="t" r="r" b="b"/>
              <a:pathLst>
                <a:path w="2174" h="867">
                  <a:moveTo>
                    <a:pt x="0" y="309"/>
                  </a:moveTo>
                  <a:lnTo>
                    <a:pt x="0" y="309"/>
                  </a:lnTo>
                  <a:lnTo>
                    <a:pt x="110" y="859"/>
                  </a:lnTo>
                  <a:lnTo>
                    <a:pt x="110" y="859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65" y="852"/>
                  </a:lnTo>
                  <a:lnTo>
                    <a:pt x="265" y="85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411" y="867"/>
                  </a:lnTo>
                  <a:lnTo>
                    <a:pt x="411" y="867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73" y="867"/>
                  </a:lnTo>
                  <a:lnTo>
                    <a:pt x="573" y="867"/>
                  </a:lnTo>
                  <a:lnTo>
                    <a:pt x="632" y="15"/>
                  </a:lnTo>
                  <a:lnTo>
                    <a:pt x="632" y="15"/>
                  </a:lnTo>
                  <a:lnTo>
                    <a:pt x="727" y="859"/>
                  </a:lnTo>
                  <a:lnTo>
                    <a:pt x="727" y="859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74" y="852"/>
                  </a:lnTo>
                  <a:lnTo>
                    <a:pt x="874" y="852"/>
                  </a:lnTo>
                  <a:lnTo>
                    <a:pt x="969" y="309"/>
                  </a:lnTo>
                  <a:lnTo>
                    <a:pt x="969" y="309"/>
                  </a:lnTo>
                  <a:lnTo>
                    <a:pt x="1058" y="551"/>
                  </a:lnTo>
                  <a:lnTo>
                    <a:pt x="1058" y="551"/>
                  </a:lnTo>
                  <a:lnTo>
                    <a:pt x="1116" y="309"/>
                  </a:lnTo>
                  <a:lnTo>
                    <a:pt x="1116" y="309"/>
                  </a:lnTo>
                  <a:lnTo>
                    <a:pt x="1190" y="551"/>
                  </a:lnTo>
                  <a:lnTo>
                    <a:pt x="1190" y="551"/>
                  </a:lnTo>
                  <a:lnTo>
                    <a:pt x="1256" y="309"/>
                  </a:lnTo>
                  <a:lnTo>
                    <a:pt x="1256" y="309"/>
                  </a:lnTo>
                  <a:lnTo>
                    <a:pt x="1344" y="551"/>
                  </a:lnTo>
                  <a:lnTo>
                    <a:pt x="1344" y="551"/>
                  </a:lnTo>
                  <a:lnTo>
                    <a:pt x="1403" y="309"/>
                  </a:lnTo>
                  <a:lnTo>
                    <a:pt x="1403" y="309"/>
                  </a:lnTo>
                  <a:lnTo>
                    <a:pt x="1491" y="551"/>
                  </a:lnTo>
                  <a:lnTo>
                    <a:pt x="1491" y="551"/>
                  </a:lnTo>
                  <a:lnTo>
                    <a:pt x="1557" y="309"/>
                  </a:lnTo>
                  <a:lnTo>
                    <a:pt x="1557" y="309"/>
                  </a:lnTo>
                  <a:lnTo>
                    <a:pt x="1652" y="551"/>
                  </a:lnTo>
                  <a:lnTo>
                    <a:pt x="1652" y="551"/>
                  </a:lnTo>
                  <a:lnTo>
                    <a:pt x="1718" y="309"/>
                  </a:lnTo>
                  <a:lnTo>
                    <a:pt x="1718" y="309"/>
                  </a:lnTo>
                  <a:lnTo>
                    <a:pt x="1807" y="551"/>
                  </a:lnTo>
                  <a:lnTo>
                    <a:pt x="1807" y="551"/>
                  </a:lnTo>
                  <a:lnTo>
                    <a:pt x="1873" y="309"/>
                  </a:lnTo>
                  <a:lnTo>
                    <a:pt x="1873" y="309"/>
                  </a:lnTo>
                  <a:lnTo>
                    <a:pt x="1961" y="551"/>
                  </a:lnTo>
                  <a:lnTo>
                    <a:pt x="1961" y="551"/>
                  </a:lnTo>
                  <a:lnTo>
                    <a:pt x="2027" y="309"/>
                  </a:lnTo>
                  <a:lnTo>
                    <a:pt x="2027" y="309"/>
                  </a:lnTo>
                  <a:lnTo>
                    <a:pt x="2108" y="551"/>
                  </a:lnTo>
                  <a:lnTo>
                    <a:pt x="2108" y="551"/>
                  </a:lnTo>
                  <a:lnTo>
                    <a:pt x="2174" y="309"/>
                  </a:lnTo>
                  <a:lnTo>
                    <a:pt x="2174" y="309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54320" y="1646280"/>
              <a:ext cx="3451320" cy="1376280"/>
            </a:xfrm>
            <a:custGeom>
              <a:avLst/>
              <a:gdLst/>
              <a:ahLst/>
              <a:rect l="l" t="t" r="r" b="b"/>
              <a:pathLst>
                <a:path w="2174" h="867">
                  <a:moveTo>
                    <a:pt x="0" y="309"/>
                  </a:moveTo>
                  <a:lnTo>
                    <a:pt x="110" y="859"/>
                  </a:lnTo>
                  <a:lnTo>
                    <a:pt x="176" y="0"/>
                  </a:lnTo>
                  <a:lnTo>
                    <a:pt x="265" y="852"/>
                  </a:lnTo>
                  <a:lnTo>
                    <a:pt x="338" y="0"/>
                  </a:lnTo>
                  <a:lnTo>
                    <a:pt x="411" y="867"/>
                  </a:lnTo>
                  <a:lnTo>
                    <a:pt x="492" y="0"/>
                  </a:lnTo>
                  <a:lnTo>
                    <a:pt x="573" y="867"/>
                  </a:lnTo>
                  <a:lnTo>
                    <a:pt x="632" y="15"/>
                  </a:lnTo>
                  <a:lnTo>
                    <a:pt x="727" y="859"/>
                  </a:lnTo>
                  <a:lnTo>
                    <a:pt x="801" y="0"/>
                  </a:lnTo>
                  <a:lnTo>
                    <a:pt x="874" y="852"/>
                  </a:lnTo>
                  <a:lnTo>
                    <a:pt x="969" y="309"/>
                  </a:lnTo>
                  <a:lnTo>
                    <a:pt x="1058" y="551"/>
                  </a:lnTo>
                  <a:lnTo>
                    <a:pt x="1116" y="309"/>
                  </a:lnTo>
                  <a:lnTo>
                    <a:pt x="1190" y="551"/>
                  </a:lnTo>
                  <a:lnTo>
                    <a:pt x="1256" y="309"/>
                  </a:lnTo>
                  <a:lnTo>
                    <a:pt x="1344" y="551"/>
                  </a:lnTo>
                  <a:lnTo>
                    <a:pt x="1403" y="309"/>
                  </a:lnTo>
                  <a:lnTo>
                    <a:pt x="1491" y="551"/>
                  </a:lnTo>
                  <a:lnTo>
                    <a:pt x="1557" y="309"/>
                  </a:lnTo>
                  <a:lnTo>
                    <a:pt x="1652" y="551"/>
                  </a:lnTo>
                  <a:lnTo>
                    <a:pt x="1718" y="309"/>
                  </a:lnTo>
                  <a:lnTo>
                    <a:pt x="1807" y="551"/>
                  </a:lnTo>
                  <a:lnTo>
                    <a:pt x="1873" y="309"/>
                  </a:lnTo>
                  <a:lnTo>
                    <a:pt x="1961" y="551"/>
                  </a:lnTo>
                  <a:lnTo>
                    <a:pt x="2027" y="309"/>
                  </a:lnTo>
                  <a:lnTo>
                    <a:pt x="2108" y="551"/>
                  </a:lnTo>
                  <a:lnTo>
                    <a:pt x="2174" y="309"/>
                  </a:lnTo>
                </a:path>
              </a:pathLst>
            </a:custGeom>
            <a:noFill/>
            <a:ln w="11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516800" y="2147760"/>
            <a:ext cx="630360" cy="384480"/>
          </a:xfrm>
          <a:custGeom>
            <a:avLst/>
            <a:gdLst/>
            <a:ahLst/>
            <a:rect l="l" t="t" r="r" b="b"/>
            <a:pathLst>
              <a:path w="397" h="242">
                <a:moveTo>
                  <a:pt x="0" y="0"/>
                </a:moveTo>
                <a:lnTo>
                  <a:pt x="0" y="0"/>
                </a:lnTo>
                <a:lnTo>
                  <a:pt x="88" y="242"/>
                </a:lnTo>
                <a:lnTo>
                  <a:pt x="88" y="242"/>
                </a:lnTo>
                <a:lnTo>
                  <a:pt x="162" y="0"/>
                </a:lnTo>
                <a:lnTo>
                  <a:pt x="162" y="0"/>
                </a:lnTo>
                <a:lnTo>
                  <a:pt x="242" y="242"/>
                </a:lnTo>
                <a:lnTo>
                  <a:pt x="242" y="242"/>
                </a:lnTo>
                <a:lnTo>
                  <a:pt x="323" y="0"/>
                </a:lnTo>
                <a:lnTo>
                  <a:pt x="323" y="0"/>
                </a:lnTo>
                <a:lnTo>
                  <a:pt x="397" y="242"/>
                </a:lnTo>
                <a:lnTo>
                  <a:pt x="397" y="2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cap="rnd" w="11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05640" y="2136600"/>
            <a:ext cx="628560" cy="384480"/>
          </a:xfrm>
          <a:custGeom>
            <a:avLst/>
            <a:gdLst/>
            <a:ahLst/>
            <a:rect l="l" t="t" r="r" b="b"/>
            <a:pathLst>
              <a:path w="396" h="242">
                <a:moveTo>
                  <a:pt x="0" y="0"/>
                </a:moveTo>
                <a:lnTo>
                  <a:pt x="0" y="0"/>
                </a:lnTo>
                <a:lnTo>
                  <a:pt x="88" y="242"/>
                </a:lnTo>
                <a:lnTo>
                  <a:pt x="88" y="242"/>
                </a:lnTo>
                <a:lnTo>
                  <a:pt x="161" y="0"/>
                </a:lnTo>
                <a:lnTo>
                  <a:pt x="161" y="0"/>
                </a:lnTo>
                <a:lnTo>
                  <a:pt x="242" y="242"/>
                </a:lnTo>
                <a:lnTo>
                  <a:pt x="242" y="242"/>
                </a:lnTo>
                <a:lnTo>
                  <a:pt x="323" y="0"/>
                </a:lnTo>
                <a:lnTo>
                  <a:pt x="323" y="0"/>
                </a:lnTo>
                <a:lnTo>
                  <a:pt x="396" y="242"/>
                </a:lnTo>
                <a:lnTo>
                  <a:pt x="396" y="242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05640" y="2136600"/>
            <a:ext cx="628560" cy="384480"/>
          </a:xfrm>
          <a:custGeom>
            <a:avLst/>
            <a:gdLst/>
            <a:ahLst/>
            <a:rect l="l" t="t" r="r" b="b"/>
            <a:pathLst>
              <a:path w="396" h="242">
                <a:moveTo>
                  <a:pt x="0" y="0"/>
                </a:moveTo>
                <a:lnTo>
                  <a:pt x="88" y="242"/>
                </a:lnTo>
                <a:lnTo>
                  <a:pt x="161" y="0"/>
                </a:lnTo>
                <a:lnTo>
                  <a:pt x="242" y="242"/>
                </a:lnTo>
                <a:lnTo>
                  <a:pt x="323" y="0"/>
                </a:lnTo>
                <a:lnTo>
                  <a:pt x="396" y="242"/>
                </a:lnTo>
              </a:path>
            </a:pathLst>
          </a:custGeom>
          <a:noFill/>
          <a:ln w="11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1080" y="1484280"/>
            <a:ext cx="7354800" cy="4975200"/>
          </a:xfrm>
          <a:prstGeom prst="rect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040200" y="3119400"/>
            <a:ext cx="459720" cy="259560"/>
            <a:chOff x="3040200" y="3119400"/>
            <a:chExt cx="459720" cy="259560"/>
          </a:xfrm>
        </p:grpSpPr>
        <p:sp>
          <p:nvSpPr>
            <p:cNvPr id="388" name=""/>
            <p:cNvSpPr/>
            <p:nvPr/>
          </p:nvSpPr>
          <p:spPr>
            <a:xfrm>
              <a:off x="3040200" y="3119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56120" y="3119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14080" y="3119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42240" y="3119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454040" y="4114800"/>
            <a:ext cx="2142360" cy="259560"/>
            <a:chOff x="1454040" y="4114800"/>
            <a:chExt cx="2142360" cy="259560"/>
          </a:xfrm>
        </p:grpSpPr>
        <p:sp>
          <p:nvSpPr>
            <p:cNvPr id="393" name=""/>
            <p:cNvSpPr/>
            <p:nvPr/>
          </p:nvSpPr>
          <p:spPr>
            <a:xfrm>
              <a:off x="1454040" y="41148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712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46000" y="4114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548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4400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71440" y="4114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1280" y="4114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41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1160" y="4114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14520" y="411480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956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28800" y="41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87480" y="41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4360" y="4114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14560" y="41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3240" y="4114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0960" y="4114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06520" y="4114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76720" y="41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3468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63200" y="411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442880" y="1828800"/>
            <a:ext cx="2304360" cy="259560"/>
            <a:chOff x="1442880" y="1828800"/>
            <a:chExt cx="2304360" cy="259560"/>
          </a:xfrm>
        </p:grpSpPr>
        <p:sp>
          <p:nvSpPr>
            <p:cNvPr id="415" name=""/>
            <p:cNvSpPr/>
            <p:nvPr/>
          </p:nvSpPr>
          <p:spPr>
            <a:xfrm>
              <a:off x="144288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120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2792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5680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85680" y="1828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55520" y="1828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2572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83320" y="1828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3452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6376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3440" y="1828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65360" y="182880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5184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964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3832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97000" y="1828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720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5880" y="1828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41800" y="1828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58800" y="1828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182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8552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4040" y="1828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705920" y="3154320"/>
            <a:ext cx="1190520" cy="259560"/>
            <a:chOff x="4705920" y="3154320"/>
            <a:chExt cx="1190520" cy="259560"/>
          </a:xfrm>
        </p:grpSpPr>
        <p:sp>
          <p:nvSpPr>
            <p:cNvPr id="439" name=""/>
            <p:cNvSpPr/>
            <p:nvPr/>
          </p:nvSpPr>
          <p:spPr>
            <a:xfrm>
              <a:off x="4705920" y="31543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57480" y="315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27320" y="315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97520" y="315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14880" y="315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30800" y="315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48160" y="31543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06480" y="31543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30680" y="31543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9360" y="315432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75480" y="315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02880" y="3481560"/>
            <a:ext cx="1493640" cy="259560"/>
            <a:chOff x="6302880" y="3481560"/>
            <a:chExt cx="1493640" cy="259560"/>
          </a:xfrm>
        </p:grpSpPr>
        <p:sp>
          <p:nvSpPr>
            <p:cNvPr id="451" name=""/>
            <p:cNvSpPr/>
            <p:nvPr/>
          </p:nvSpPr>
          <p:spPr>
            <a:xfrm>
              <a:off x="6302880" y="34815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5480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7216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7360" y="348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1660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3432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49880" y="348156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3268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48600" y="3481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06560" y="348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31120" y="3481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89800" y="348156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m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75560" y="3481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924680" y="3924360"/>
            <a:ext cx="495000" cy="519120"/>
            <a:chOff x="7924680" y="3924360"/>
            <a:chExt cx="495000" cy="519120"/>
          </a:xfrm>
        </p:grpSpPr>
        <p:grpSp>
          <p:nvGrpSpPr>
            <p:cNvPr id="465" name=""/>
            <p:cNvGrpSpPr/>
            <p:nvPr/>
          </p:nvGrpSpPr>
          <p:grpSpPr>
            <a:xfrm>
              <a:off x="8075520" y="4140360"/>
              <a:ext cx="93600" cy="303120"/>
              <a:chOff x="8075520" y="4140360"/>
              <a:chExt cx="93600" cy="30312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8123400" y="4140360"/>
                <a:ext cx="1440" cy="303120"/>
              </a:xfrm>
              <a:prstGeom prst="line">
                <a:avLst/>
              </a:prstGeom>
              <a:ln w="11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075520" y="4257720"/>
                <a:ext cx="93600" cy="174600"/>
              </a:xfrm>
              <a:custGeom>
                <a:avLst/>
                <a:gdLst/>
                <a:ahLst/>
                <a:rect l="l" t="t" r="r" b="b"/>
                <a:pathLst>
                  <a:path w="59" h="110">
                    <a:moveTo>
                      <a:pt x="30" y="110"/>
                    </a:moveTo>
                    <a:lnTo>
                      <a:pt x="30" y="11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10"/>
                    </a:lnTo>
                    <a:lnTo>
                      <a:pt x="30" y="110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30" y="110"/>
                    </a:lnTo>
                    <a:close/>
                  </a:path>
                </a:pathLst>
              </a:custGeom>
              <a:noFill/>
              <a:ln w="11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075520" y="4268880"/>
                <a:ext cx="93600" cy="174600"/>
              </a:xfrm>
              <a:custGeom>
                <a:avLst/>
                <a:gdLst/>
                <a:ahLst/>
                <a:rect l="l" t="t" r="r" b="b"/>
                <a:pathLst>
                  <a:path w="59" h="110">
                    <a:moveTo>
                      <a:pt x="30" y="110"/>
                    </a:moveTo>
                    <a:lnTo>
                      <a:pt x="30" y="11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10"/>
                    </a:lnTo>
                    <a:lnTo>
                      <a:pt x="30" y="110"/>
                    </a:lnTo>
                    <a:close/>
                  </a:path>
                </a:pathLst>
              </a:custGeom>
              <a:noFill/>
              <a:ln w="11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924680" y="3924360"/>
              <a:ext cx="331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4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33480" y="3924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62000" y="3924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516480" y="1081080"/>
            <a:ext cx="2632320" cy="426960"/>
            <a:chOff x="3516480" y="1081080"/>
            <a:chExt cx="2632320" cy="426960"/>
          </a:xfrm>
        </p:grpSpPr>
        <p:sp>
          <p:nvSpPr>
            <p:cNvPr id="473" name=""/>
            <p:cNvSpPr/>
            <p:nvPr/>
          </p:nvSpPr>
          <p:spPr>
            <a:xfrm>
              <a:off x="3516480" y="1081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80720" y="108108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73520" y="1081080"/>
              <a:ext cx="31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3240" y="1081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82640" y="108108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05320" y="10810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5320" y="1081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89520" y="1081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13440" y="1081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49600" y="1081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24480" y="1081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08800" y="10810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73760" y="1081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50080" y="1081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817360" y="5392800"/>
            <a:ext cx="1240560" cy="259560"/>
            <a:chOff x="2817360" y="5392800"/>
            <a:chExt cx="1240560" cy="259560"/>
          </a:xfrm>
        </p:grpSpPr>
        <p:sp>
          <p:nvSpPr>
            <p:cNvPr id="488" name=""/>
            <p:cNvSpPr/>
            <p:nvPr/>
          </p:nvSpPr>
          <p:spPr>
            <a:xfrm>
              <a:off x="2817360" y="5392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58480" y="539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5920" y="5392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55760" y="53928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5960" y="5392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84280" y="5392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3600" y="539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52120" y="539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80640" y="539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07720" y="539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36960" y="5392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204440" y="6114960"/>
            <a:ext cx="1345680" cy="259560"/>
            <a:chOff x="4204440" y="6114960"/>
            <a:chExt cx="1345680" cy="259560"/>
          </a:xfrm>
        </p:grpSpPr>
        <p:sp>
          <p:nvSpPr>
            <p:cNvPr id="500" name=""/>
            <p:cNvSpPr/>
            <p:nvPr/>
          </p:nvSpPr>
          <p:spPr>
            <a:xfrm>
              <a:off x="420444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3332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6184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8892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8160" y="6114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76480" y="6114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580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4432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7140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99920" y="6114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29160" y="61149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592240" y="5427720"/>
            <a:ext cx="1240560" cy="259560"/>
            <a:chOff x="5592240" y="5427720"/>
            <a:chExt cx="1240560" cy="259560"/>
          </a:xfrm>
        </p:grpSpPr>
        <p:sp>
          <p:nvSpPr>
            <p:cNvPr id="512" name=""/>
            <p:cNvSpPr/>
            <p:nvPr/>
          </p:nvSpPr>
          <p:spPr>
            <a:xfrm>
              <a:off x="5592240" y="5427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1920" y="5427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0800" y="5427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0640" y="5427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00840" y="54277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59160" y="5427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98480" y="5427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25560" y="5427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4080" y="5427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82600" y="5427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11840" y="5427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Gain and Output (OSPL90) Curve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462040" y="1301760"/>
            <a:ext cx="4792680" cy="5389560"/>
            <a:chOff x="2462040" y="1301760"/>
            <a:chExt cx="4792680" cy="5389560"/>
          </a:xfrm>
        </p:grpSpPr>
        <p:grpSp>
          <p:nvGrpSpPr>
            <p:cNvPr id="526" name=""/>
            <p:cNvGrpSpPr/>
            <p:nvPr/>
          </p:nvGrpSpPr>
          <p:grpSpPr>
            <a:xfrm>
              <a:off x="2476440" y="4010040"/>
              <a:ext cx="4778280" cy="2681280"/>
              <a:chOff x="2476440" y="4010040"/>
              <a:chExt cx="4778280" cy="2681280"/>
            </a:xfrm>
          </p:grpSpPr>
          <p:sp>
            <p:nvSpPr>
              <p:cNvPr id="527" name=""/>
              <p:cNvSpPr/>
              <p:nvPr/>
            </p:nvSpPr>
            <p:spPr>
              <a:xfrm>
                <a:off x="2868840" y="5943600"/>
                <a:ext cx="352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73080" y="508464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773080" y="46371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73080" y="42004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2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68840" y="5521320"/>
                <a:ext cx="352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2476440" y="4322880"/>
                <a:ext cx="4778280" cy="2368440"/>
                <a:chOff x="2476440" y="4322880"/>
                <a:chExt cx="4778280" cy="23684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2476440" y="6419880"/>
                  <a:ext cx="7239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B SPL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206880" y="4324320"/>
                  <a:ext cx="4039920" cy="21081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205080" y="4322880"/>
                  <a:ext cx="4043520" cy="211140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44484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66876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9268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11156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3548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57344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805280" y="4343400"/>
                  <a:ext cx="0" cy="209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04360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26716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9900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71032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94828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19272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44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656400" y="4330800"/>
                  <a:ext cx="0" cy="2109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873840" y="4343400"/>
                  <a:ext cx="0" cy="209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097760" y="432288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3000" y="4765680"/>
                  <a:ext cx="404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13000" y="5200560"/>
                  <a:ext cx="404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13000" y="5637240"/>
                  <a:ext cx="404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13000" y="6072120"/>
                  <a:ext cx="404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454560" y="6419880"/>
                  <a:ext cx="39492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.2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176000" y="6419880"/>
                  <a:ext cx="3096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.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924440" y="6419880"/>
                  <a:ext cx="5382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kHz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04840" y="641988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285960" y="641988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65280" y="641988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4746240" y="4010040"/>
                <a:ext cx="751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SPL9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462040" y="1301760"/>
              <a:ext cx="4765680" cy="2681280"/>
              <a:chOff x="2462040" y="1301760"/>
              <a:chExt cx="4765680" cy="2681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856960" y="3235320"/>
                <a:ext cx="352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761200" y="237636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61200" y="192708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61200" y="1492200"/>
                <a:ext cx="437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56240" y="2813040"/>
                <a:ext cx="3520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462040" y="371160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B Gai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3191040" y="1614600"/>
                <a:ext cx="4036680" cy="2368440"/>
                <a:chOff x="3191040" y="1614600"/>
                <a:chExt cx="4036680" cy="236844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3192480" y="1614600"/>
                  <a:ext cx="4027320" cy="2109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91040" y="1614600"/>
                  <a:ext cx="4030560" cy="211140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41640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64176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87972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09716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32108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55940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791240" y="1635120"/>
                  <a:ext cx="0" cy="209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02920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25456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47200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69592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93424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16572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40404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642000" y="1620720"/>
                  <a:ext cx="0" cy="2111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859440" y="1635120"/>
                  <a:ext cx="0" cy="209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070760" y="1614600"/>
                  <a:ext cx="0" cy="2111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198960" y="2057400"/>
                  <a:ext cx="402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198960" y="2492280"/>
                  <a:ext cx="402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198960" y="2928960"/>
                  <a:ext cx="402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8960" y="3363840"/>
                  <a:ext cx="4028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427560" y="3711600"/>
                  <a:ext cx="39492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.2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149000" y="3711600"/>
                  <a:ext cx="3096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.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897440" y="3711600"/>
                  <a:ext cx="5382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kHz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577840" y="371160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58960" y="371160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938280" y="3711600"/>
                  <a:ext cx="26676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4735440" y="13017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B Gai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3219480" y="2295360"/>
              <a:ext cx="3552840" cy="1322640"/>
            </a:xfrm>
            <a:custGeom>
              <a:avLst/>
              <a:gdLst/>
              <a:ahLst/>
              <a:rect l="l" t="t" r="r" b="b"/>
              <a:pathLst>
                <a:path w="2238" h="833">
                  <a:moveTo>
                    <a:pt x="0" y="575"/>
                  </a:moveTo>
                  <a:lnTo>
                    <a:pt x="163" y="669"/>
                  </a:lnTo>
                  <a:lnTo>
                    <a:pt x="326" y="660"/>
                  </a:lnTo>
                  <a:lnTo>
                    <a:pt x="506" y="532"/>
                  </a:lnTo>
                  <a:lnTo>
                    <a:pt x="694" y="463"/>
                  </a:lnTo>
                  <a:lnTo>
                    <a:pt x="917" y="429"/>
                  </a:lnTo>
                  <a:lnTo>
                    <a:pt x="1140" y="386"/>
                  </a:lnTo>
                  <a:lnTo>
                    <a:pt x="1303" y="300"/>
                  </a:lnTo>
                  <a:lnTo>
                    <a:pt x="1397" y="240"/>
                  </a:lnTo>
                  <a:lnTo>
                    <a:pt x="1483" y="163"/>
                  </a:lnTo>
                  <a:lnTo>
                    <a:pt x="1568" y="86"/>
                  </a:lnTo>
                  <a:lnTo>
                    <a:pt x="1637" y="0"/>
                  </a:lnTo>
                  <a:lnTo>
                    <a:pt x="1748" y="9"/>
                  </a:lnTo>
                  <a:lnTo>
                    <a:pt x="1800" y="94"/>
                  </a:lnTo>
                  <a:lnTo>
                    <a:pt x="1851" y="154"/>
                  </a:lnTo>
                  <a:lnTo>
                    <a:pt x="1903" y="223"/>
                  </a:lnTo>
                  <a:lnTo>
                    <a:pt x="2006" y="317"/>
                  </a:lnTo>
                  <a:lnTo>
                    <a:pt x="2083" y="412"/>
                  </a:lnTo>
                  <a:lnTo>
                    <a:pt x="2108" y="558"/>
                  </a:lnTo>
                  <a:lnTo>
                    <a:pt x="2143" y="720"/>
                  </a:lnTo>
                  <a:lnTo>
                    <a:pt x="2237" y="832"/>
                  </a:lnTo>
                </a:path>
              </a:pathLst>
            </a:custGeom>
            <a:noFill/>
            <a:ln cap="rnd" w="50760">
              <a:solidFill>
                <a:srgbClr val="0340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6480" y="5153040"/>
              <a:ext cx="3554280" cy="1309680"/>
            </a:xfrm>
            <a:custGeom>
              <a:avLst/>
              <a:gdLst/>
              <a:ahLst/>
              <a:rect l="l" t="t" r="r" b="b"/>
              <a:pathLst>
                <a:path w="2239" h="825">
                  <a:moveTo>
                    <a:pt x="0" y="464"/>
                  </a:moveTo>
                  <a:lnTo>
                    <a:pt x="163" y="395"/>
                  </a:lnTo>
                  <a:lnTo>
                    <a:pt x="317" y="326"/>
                  </a:lnTo>
                  <a:lnTo>
                    <a:pt x="489" y="309"/>
                  </a:lnTo>
                  <a:lnTo>
                    <a:pt x="695" y="266"/>
                  </a:lnTo>
                  <a:lnTo>
                    <a:pt x="892" y="189"/>
                  </a:lnTo>
                  <a:lnTo>
                    <a:pt x="1140" y="86"/>
                  </a:lnTo>
                  <a:lnTo>
                    <a:pt x="1260" y="86"/>
                  </a:lnTo>
                  <a:lnTo>
                    <a:pt x="1449" y="0"/>
                  </a:lnTo>
                  <a:lnTo>
                    <a:pt x="1586" y="0"/>
                  </a:lnTo>
                  <a:lnTo>
                    <a:pt x="1826" y="0"/>
                  </a:lnTo>
                  <a:lnTo>
                    <a:pt x="1929" y="17"/>
                  </a:lnTo>
                  <a:lnTo>
                    <a:pt x="1972" y="60"/>
                  </a:lnTo>
                  <a:lnTo>
                    <a:pt x="2058" y="52"/>
                  </a:lnTo>
                  <a:lnTo>
                    <a:pt x="2101" y="189"/>
                  </a:lnTo>
                  <a:lnTo>
                    <a:pt x="2118" y="326"/>
                  </a:lnTo>
                  <a:lnTo>
                    <a:pt x="2118" y="438"/>
                  </a:lnTo>
                  <a:lnTo>
                    <a:pt x="2144" y="584"/>
                  </a:lnTo>
                  <a:lnTo>
                    <a:pt x="2169" y="652"/>
                  </a:lnTo>
                  <a:lnTo>
                    <a:pt x="2238" y="824"/>
                  </a:lnTo>
                  <a:lnTo>
                    <a:pt x="2195" y="721"/>
                  </a:lnTo>
                </a:path>
              </a:pathLst>
            </a:custGeom>
            <a:noFill/>
            <a:ln cap="rnd" w="50760">
              <a:solidFill>
                <a:srgbClr val="0340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Gain and OSPL90 Curves on Same Graph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6" name=""/>
          <p:cNvSpPr/>
          <p:nvPr/>
        </p:nvSpPr>
        <p:spPr>
          <a:xfrm>
            <a:off x="8145360" y="469728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644920" y="1859040"/>
            <a:ext cx="5262480" cy="2781360"/>
            <a:chOff x="2644920" y="1859040"/>
            <a:chExt cx="5262480" cy="2781360"/>
          </a:xfrm>
        </p:grpSpPr>
        <p:sp>
          <p:nvSpPr>
            <p:cNvPr id="608" name=""/>
            <p:cNvSpPr/>
            <p:nvPr/>
          </p:nvSpPr>
          <p:spPr>
            <a:xfrm>
              <a:off x="2644920" y="1859040"/>
              <a:ext cx="5251320" cy="2768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46360" y="1859040"/>
              <a:ext cx="5248440" cy="276840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6064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5296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4168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4480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480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764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3076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4684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56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1492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0868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2152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2464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1660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2944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32560" y="187164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01120" y="1859040"/>
              <a:ext cx="0" cy="2768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57520" y="244800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57520" y="299880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57520" y="357516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57520" y="415116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949480" y="4722840"/>
            <a:ext cx="4916520" cy="454680"/>
            <a:chOff x="2949480" y="4722840"/>
            <a:chExt cx="4916520" cy="454680"/>
          </a:xfrm>
        </p:grpSpPr>
        <p:sp>
          <p:nvSpPr>
            <p:cNvPr id="632" name=""/>
            <p:cNvSpPr/>
            <p:nvPr/>
          </p:nvSpPr>
          <p:spPr>
            <a:xfrm>
              <a:off x="2949480" y="472284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28680" y="4722840"/>
              <a:ext cx="43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04760" y="47228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kH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45240" y="4722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30840" y="4722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15360" y="4722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252960" y="2760840"/>
            <a:ext cx="4403520" cy="1881000"/>
          </a:xfrm>
          <a:custGeom>
            <a:avLst/>
            <a:gdLst/>
            <a:ahLst/>
            <a:rect l="l" t="t" r="r" b="b"/>
            <a:pathLst>
              <a:path w="2774" h="1185">
                <a:moveTo>
                  <a:pt x="0" y="1184"/>
                </a:moveTo>
                <a:lnTo>
                  <a:pt x="44" y="1184"/>
                </a:lnTo>
                <a:lnTo>
                  <a:pt x="132" y="1169"/>
                </a:lnTo>
                <a:lnTo>
                  <a:pt x="205" y="1153"/>
                </a:lnTo>
                <a:lnTo>
                  <a:pt x="278" y="1137"/>
                </a:lnTo>
                <a:lnTo>
                  <a:pt x="337" y="1121"/>
                </a:lnTo>
                <a:lnTo>
                  <a:pt x="367" y="1105"/>
                </a:lnTo>
                <a:lnTo>
                  <a:pt x="425" y="1074"/>
                </a:lnTo>
                <a:lnTo>
                  <a:pt x="455" y="1058"/>
                </a:lnTo>
                <a:lnTo>
                  <a:pt x="469" y="1042"/>
                </a:lnTo>
                <a:lnTo>
                  <a:pt x="528" y="995"/>
                </a:lnTo>
                <a:lnTo>
                  <a:pt x="616" y="900"/>
                </a:lnTo>
                <a:lnTo>
                  <a:pt x="675" y="837"/>
                </a:lnTo>
                <a:lnTo>
                  <a:pt x="719" y="790"/>
                </a:lnTo>
                <a:lnTo>
                  <a:pt x="807" y="679"/>
                </a:lnTo>
                <a:lnTo>
                  <a:pt x="851" y="616"/>
                </a:lnTo>
                <a:lnTo>
                  <a:pt x="909" y="569"/>
                </a:lnTo>
                <a:lnTo>
                  <a:pt x="998" y="474"/>
                </a:lnTo>
                <a:lnTo>
                  <a:pt x="1042" y="426"/>
                </a:lnTo>
                <a:lnTo>
                  <a:pt x="1086" y="395"/>
                </a:lnTo>
                <a:lnTo>
                  <a:pt x="1174" y="316"/>
                </a:lnTo>
                <a:lnTo>
                  <a:pt x="1218" y="269"/>
                </a:lnTo>
                <a:lnTo>
                  <a:pt x="1247" y="253"/>
                </a:lnTo>
                <a:lnTo>
                  <a:pt x="1276" y="237"/>
                </a:lnTo>
                <a:lnTo>
                  <a:pt x="1320" y="221"/>
                </a:lnTo>
                <a:lnTo>
                  <a:pt x="1379" y="205"/>
                </a:lnTo>
                <a:lnTo>
                  <a:pt x="1408" y="205"/>
                </a:lnTo>
                <a:lnTo>
                  <a:pt x="1452" y="221"/>
                </a:lnTo>
                <a:lnTo>
                  <a:pt x="1540" y="253"/>
                </a:lnTo>
                <a:lnTo>
                  <a:pt x="1570" y="269"/>
                </a:lnTo>
                <a:lnTo>
                  <a:pt x="1599" y="284"/>
                </a:lnTo>
                <a:lnTo>
                  <a:pt x="1629" y="284"/>
                </a:lnTo>
                <a:lnTo>
                  <a:pt x="1687" y="284"/>
                </a:lnTo>
                <a:lnTo>
                  <a:pt x="1717" y="269"/>
                </a:lnTo>
                <a:lnTo>
                  <a:pt x="1731" y="253"/>
                </a:lnTo>
                <a:lnTo>
                  <a:pt x="1746" y="237"/>
                </a:lnTo>
                <a:lnTo>
                  <a:pt x="1790" y="205"/>
                </a:lnTo>
                <a:lnTo>
                  <a:pt x="1834" y="158"/>
                </a:lnTo>
                <a:lnTo>
                  <a:pt x="1893" y="95"/>
                </a:lnTo>
                <a:lnTo>
                  <a:pt x="1922" y="63"/>
                </a:lnTo>
                <a:lnTo>
                  <a:pt x="1937" y="48"/>
                </a:lnTo>
                <a:lnTo>
                  <a:pt x="1951" y="32"/>
                </a:lnTo>
                <a:lnTo>
                  <a:pt x="1981" y="16"/>
                </a:lnTo>
                <a:lnTo>
                  <a:pt x="2025" y="0"/>
                </a:lnTo>
                <a:lnTo>
                  <a:pt x="2054" y="0"/>
                </a:lnTo>
                <a:lnTo>
                  <a:pt x="2069" y="0"/>
                </a:lnTo>
                <a:lnTo>
                  <a:pt x="2098" y="16"/>
                </a:lnTo>
                <a:lnTo>
                  <a:pt x="2127" y="32"/>
                </a:lnTo>
                <a:lnTo>
                  <a:pt x="2142" y="48"/>
                </a:lnTo>
                <a:lnTo>
                  <a:pt x="2171" y="63"/>
                </a:lnTo>
                <a:lnTo>
                  <a:pt x="2215" y="111"/>
                </a:lnTo>
                <a:lnTo>
                  <a:pt x="2274" y="174"/>
                </a:lnTo>
                <a:lnTo>
                  <a:pt x="2333" y="253"/>
                </a:lnTo>
                <a:lnTo>
                  <a:pt x="2348" y="284"/>
                </a:lnTo>
                <a:lnTo>
                  <a:pt x="2377" y="332"/>
                </a:lnTo>
                <a:lnTo>
                  <a:pt x="2421" y="411"/>
                </a:lnTo>
                <a:lnTo>
                  <a:pt x="2465" y="474"/>
                </a:lnTo>
                <a:lnTo>
                  <a:pt x="2494" y="521"/>
                </a:lnTo>
                <a:lnTo>
                  <a:pt x="2509" y="553"/>
                </a:lnTo>
                <a:lnTo>
                  <a:pt x="2538" y="616"/>
                </a:lnTo>
                <a:lnTo>
                  <a:pt x="2597" y="711"/>
                </a:lnTo>
                <a:lnTo>
                  <a:pt x="2612" y="758"/>
                </a:lnTo>
                <a:lnTo>
                  <a:pt x="2626" y="790"/>
                </a:lnTo>
                <a:lnTo>
                  <a:pt x="2641" y="837"/>
                </a:lnTo>
                <a:lnTo>
                  <a:pt x="2670" y="884"/>
                </a:lnTo>
                <a:lnTo>
                  <a:pt x="2685" y="932"/>
                </a:lnTo>
                <a:lnTo>
                  <a:pt x="2700" y="979"/>
                </a:lnTo>
                <a:lnTo>
                  <a:pt x="2729" y="1027"/>
                </a:lnTo>
                <a:lnTo>
                  <a:pt x="2758" y="1105"/>
                </a:lnTo>
                <a:lnTo>
                  <a:pt x="2773" y="1137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7981200" y="1639800"/>
            <a:ext cx="714240" cy="2736000"/>
            <a:chOff x="7981200" y="1639800"/>
            <a:chExt cx="714240" cy="2736000"/>
          </a:xfrm>
        </p:grpSpPr>
        <p:sp>
          <p:nvSpPr>
            <p:cNvPr id="640" name=""/>
            <p:cNvSpPr/>
            <p:nvPr/>
          </p:nvSpPr>
          <p:spPr>
            <a:xfrm>
              <a:off x="8006400" y="33433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06400" y="2216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06400" y="16398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6400" y="279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1200" y="392112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041920" y="1663560"/>
            <a:ext cx="543600" cy="2736000"/>
            <a:chOff x="2041920" y="1663560"/>
            <a:chExt cx="543600" cy="2736000"/>
          </a:xfrm>
        </p:grpSpPr>
        <p:sp>
          <p:nvSpPr>
            <p:cNvPr id="646" name=""/>
            <p:cNvSpPr/>
            <p:nvPr/>
          </p:nvSpPr>
          <p:spPr>
            <a:xfrm>
              <a:off x="2065680" y="33685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65680" y="22417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65680" y="166356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65680" y="28177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41920" y="394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294200" y="472284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90680" y="517356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ro Lev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8200" y="5173560"/>
            <a:ext cx="77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5080" y="558000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74920" y="2409840"/>
            <a:ext cx="4405320" cy="1581120"/>
          </a:xfrm>
          <a:custGeom>
            <a:avLst/>
            <a:gdLst/>
            <a:ahLst/>
            <a:rect l="l" t="t" r="r" b="b"/>
            <a:pathLst>
              <a:path w="2775" h="996">
                <a:moveTo>
                  <a:pt x="0" y="474"/>
                </a:moveTo>
                <a:lnTo>
                  <a:pt x="30" y="458"/>
                </a:lnTo>
                <a:lnTo>
                  <a:pt x="103" y="426"/>
                </a:lnTo>
                <a:lnTo>
                  <a:pt x="162" y="395"/>
                </a:lnTo>
                <a:lnTo>
                  <a:pt x="206" y="363"/>
                </a:lnTo>
                <a:lnTo>
                  <a:pt x="264" y="332"/>
                </a:lnTo>
                <a:lnTo>
                  <a:pt x="294" y="316"/>
                </a:lnTo>
                <a:lnTo>
                  <a:pt x="338" y="300"/>
                </a:lnTo>
                <a:lnTo>
                  <a:pt x="367" y="284"/>
                </a:lnTo>
                <a:lnTo>
                  <a:pt x="397" y="269"/>
                </a:lnTo>
                <a:lnTo>
                  <a:pt x="470" y="221"/>
                </a:lnTo>
                <a:lnTo>
                  <a:pt x="499" y="205"/>
                </a:lnTo>
                <a:lnTo>
                  <a:pt x="543" y="190"/>
                </a:lnTo>
                <a:lnTo>
                  <a:pt x="617" y="158"/>
                </a:lnTo>
                <a:lnTo>
                  <a:pt x="661" y="126"/>
                </a:lnTo>
                <a:lnTo>
                  <a:pt x="705" y="111"/>
                </a:lnTo>
                <a:lnTo>
                  <a:pt x="807" y="95"/>
                </a:lnTo>
                <a:lnTo>
                  <a:pt x="866" y="95"/>
                </a:lnTo>
                <a:lnTo>
                  <a:pt x="925" y="95"/>
                </a:lnTo>
                <a:lnTo>
                  <a:pt x="1042" y="79"/>
                </a:lnTo>
                <a:lnTo>
                  <a:pt x="1101" y="79"/>
                </a:lnTo>
                <a:lnTo>
                  <a:pt x="1130" y="79"/>
                </a:lnTo>
                <a:lnTo>
                  <a:pt x="1189" y="79"/>
                </a:lnTo>
                <a:lnTo>
                  <a:pt x="1233" y="79"/>
                </a:lnTo>
                <a:lnTo>
                  <a:pt x="1277" y="79"/>
                </a:lnTo>
                <a:lnTo>
                  <a:pt x="1292" y="79"/>
                </a:lnTo>
                <a:lnTo>
                  <a:pt x="1336" y="79"/>
                </a:lnTo>
                <a:lnTo>
                  <a:pt x="1424" y="79"/>
                </a:lnTo>
                <a:lnTo>
                  <a:pt x="1453" y="79"/>
                </a:lnTo>
                <a:lnTo>
                  <a:pt x="1482" y="79"/>
                </a:lnTo>
                <a:lnTo>
                  <a:pt x="1585" y="63"/>
                </a:lnTo>
                <a:lnTo>
                  <a:pt x="1629" y="63"/>
                </a:lnTo>
                <a:lnTo>
                  <a:pt x="1673" y="63"/>
                </a:lnTo>
                <a:lnTo>
                  <a:pt x="1805" y="32"/>
                </a:lnTo>
                <a:lnTo>
                  <a:pt x="1864" y="16"/>
                </a:lnTo>
                <a:lnTo>
                  <a:pt x="1893" y="16"/>
                </a:lnTo>
                <a:lnTo>
                  <a:pt x="1981" y="0"/>
                </a:lnTo>
                <a:lnTo>
                  <a:pt x="2025" y="16"/>
                </a:lnTo>
                <a:lnTo>
                  <a:pt x="2099" y="47"/>
                </a:lnTo>
                <a:lnTo>
                  <a:pt x="2128" y="63"/>
                </a:lnTo>
                <a:lnTo>
                  <a:pt x="2187" y="111"/>
                </a:lnTo>
                <a:lnTo>
                  <a:pt x="2290" y="205"/>
                </a:lnTo>
                <a:lnTo>
                  <a:pt x="2334" y="237"/>
                </a:lnTo>
                <a:lnTo>
                  <a:pt x="2392" y="284"/>
                </a:lnTo>
                <a:lnTo>
                  <a:pt x="2480" y="347"/>
                </a:lnTo>
                <a:lnTo>
                  <a:pt x="2510" y="379"/>
                </a:lnTo>
                <a:lnTo>
                  <a:pt x="2539" y="395"/>
                </a:lnTo>
                <a:lnTo>
                  <a:pt x="2568" y="426"/>
                </a:lnTo>
                <a:lnTo>
                  <a:pt x="2583" y="458"/>
                </a:lnTo>
                <a:lnTo>
                  <a:pt x="2598" y="490"/>
                </a:lnTo>
                <a:lnTo>
                  <a:pt x="2612" y="521"/>
                </a:lnTo>
                <a:lnTo>
                  <a:pt x="2627" y="553"/>
                </a:lnTo>
                <a:lnTo>
                  <a:pt x="2642" y="600"/>
                </a:lnTo>
                <a:lnTo>
                  <a:pt x="2642" y="616"/>
                </a:lnTo>
                <a:lnTo>
                  <a:pt x="2671" y="711"/>
                </a:lnTo>
                <a:lnTo>
                  <a:pt x="2744" y="900"/>
                </a:lnTo>
                <a:lnTo>
                  <a:pt x="2774" y="995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Coupler Gain in SPL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8" name=""/>
          <p:cNvSpPr/>
          <p:nvPr/>
        </p:nvSpPr>
        <p:spPr>
          <a:xfrm>
            <a:off x="16383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30440" y="490680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797200" y="2011320"/>
            <a:ext cx="5262480" cy="2781360"/>
            <a:chOff x="2797200" y="2011320"/>
            <a:chExt cx="5262480" cy="2781360"/>
          </a:xfrm>
        </p:grpSpPr>
        <p:sp>
          <p:nvSpPr>
            <p:cNvPr id="661" name=""/>
            <p:cNvSpPr/>
            <p:nvPr/>
          </p:nvSpPr>
          <p:spPr>
            <a:xfrm>
              <a:off x="2797200" y="2011320"/>
              <a:ext cx="5251320" cy="27687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98640" y="2011320"/>
              <a:ext cx="5248440" cy="276876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1292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0524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9396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9744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6708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7992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8304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9912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8784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6756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6096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7380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7692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6924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8172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5200" y="2023920"/>
              <a:ext cx="0" cy="276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53400" y="2011320"/>
              <a:ext cx="0" cy="2768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09800" y="260028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09800" y="315108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09800" y="372744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09800" y="4303800"/>
              <a:ext cx="5249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102120" y="4875120"/>
            <a:ext cx="4916160" cy="454680"/>
            <a:chOff x="3102120" y="4875120"/>
            <a:chExt cx="4916160" cy="454680"/>
          </a:xfrm>
        </p:grpSpPr>
        <p:sp>
          <p:nvSpPr>
            <p:cNvPr id="685" name=""/>
            <p:cNvSpPr/>
            <p:nvPr/>
          </p:nvSpPr>
          <p:spPr>
            <a:xfrm>
              <a:off x="3102120" y="487512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80960" y="4875120"/>
              <a:ext cx="43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57040" y="487512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kH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97520" y="487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83480" y="487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7640" y="487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3405240" y="2913120"/>
            <a:ext cx="4403520" cy="1881000"/>
          </a:xfrm>
          <a:custGeom>
            <a:avLst/>
            <a:gdLst/>
            <a:ahLst/>
            <a:rect l="l" t="t" r="r" b="b"/>
            <a:pathLst>
              <a:path w="2774" h="1185">
                <a:moveTo>
                  <a:pt x="0" y="1184"/>
                </a:moveTo>
                <a:lnTo>
                  <a:pt x="44" y="1184"/>
                </a:lnTo>
                <a:lnTo>
                  <a:pt x="132" y="1169"/>
                </a:lnTo>
                <a:lnTo>
                  <a:pt x="205" y="1153"/>
                </a:lnTo>
                <a:lnTo>
                  <a:pt x="278" y="1137"/>
                </a:lnTo>
                <a:lnTo>
                  <a:pt x="337" y="1121"/>
                </a:lnTo>
                <a:lnTo>
                  <a:pt x="367" y="1105"/>
                </a:lnTo>
                <a:lnTo>
                  <a:pt x="425" y="1074"/>
                </a:lnTo>
                <a:lnTo>
                  <a:pt x="455" y="1058"/>
                </a:lnTo>
                <a:lnTo>
                  <a:pt x="469" y="1042"/>
                </a:lnTo>
                <a:lnTo>
                  <a:pt x="528" y="995"/>
                </a:lnTo>
                <a:lnTo>
                  <a:pt x="616" y="900"/>
                </a:lnTo>
                <a:lnTo>
                  <a:pt x="675" y="837"/>
                </a:lnTo>
                <a:lnTo>
                  <a:pt x="719" y="790"/>
                </a:lnTo>
                <a:lnTo>
                  <a:pt x="807" y="679"/>
                </a:lnTo>
                <a:lnTo>
                  <a:pt x="851" y="616"/>
                </a:lnTo>
                <a:lnTo>
                  <a:pt x="909" y="569"/>
                </a:lnTo>
                <a:lnTo>
                  <a:pt x="998" y="474"/>
                </a:lnTo>
                <a:lnTo>
                  <a:pt x="1042" y="426"/>
                </a:lnTo>
                <a:lnTo>
                  <a:pt x="1086" y="395"/>
                </a:lnTo>
                <a:lnTo>
                  <a:pt x="1174" y="316"/>
                </a:lnTo>
                <a:lnTo>
                  <a:pt x="1218" y="269"/>
                </a:lnTo>
                <a:lnTo>
                  <a:pt x="1247" y="253"/>
                </a:lnTo>
                <a:lnTo>
                  <a:pt x="1276" y="237"/>
                </a:lnTo>
                <a:lnTo>
                  <a:pt x="1320" y="221"/>
                </a:lnTo>
                <a:lnTo>
                  <a:pt x="1379" y="205"/>
                </a:lnTo>
                <a:lnTo>
                  <a:pt x="1408" y="205"/>
                </a:lnTo>
                <a:lnTo>
                  <a:pt x="1452" y="221"/>
                </a:lnTo>
                <a:lnTo>
                  <a:pt x="1540" y="253"/>
                </a:lnTo>
                <a:lnTo>
                  <a:pt x="1570" y="269"/>
                </a:lnTo>
                <a:lnTo>
                  <a:pt x="1599" y="284"/>
                </a:lnTo>
                <a:lnTo>
                  <a:pt x="1629" y="284"/>
                </a:lnTo>
                <a:lnTo>
                  <a:pt x="1687" y="284"/>
                </a:lnTo>
                <a:lnTo>
                  <a:pt x="1717" y="269"/>
                </a:lnTo>
                <a:lnTo>
                  <a:pt x="1731" y="253"/>
                </a:lnTo>
                <a:lnTo>
                  <a:pt x="1746" y="237"/>
                </a:lnTo>
                <a:lnTo>
                  <a:pt x="1790" y="205"/>
                </a:lnTo>
                <a:lnTo>
                  <a:pt x="1834" y="158"/>
                </a:lnTo>
                <a:lnTo>
                  <a:pt x="1893" y="95"/>
                </a:lnTo>
                <a:lnTo>
                  <a:pt x="1922" y="63"/>
                </a:lnTo>
                <a:lnTo>
                  <a:pt x="1937" y="48"/>
                </a:lnTo>
                <a:lnTo>
                  <a:pt x="1951" y="32"/>
                </a:lnTo>
                <a:lnTo>
                  <a:pt x="1981" y="16"/>
                </a:lnTo>
                <a:lnTo>
                  <a:pt x="2025" y="0"/>
                </a:lnTo>
                <a:lnTo>
                  <a:pt x="2054" y="0"/>
                </a:lnTo>
                <a:lnTo>
                  <a:pt x="2069" y="0"/>
                </a:lnTo>
                <a:lnTo>
                  <a:pt x="2098" y="16"/>
                </a:lnTo>
                <a:lnTo>
                  <a:pt x="2127" y="32"/>
                </a:lnTo>
                <a:lnTo>
                  <a:pt x="2142" y="48"/>
                </a:lnTo>
                <a:lnTo>
                  <a:pt x="2171" y="63"/>
                </a:lnTo>
                <a:lnTo>
                  <a:pt x="2215" y="111"/>
                </a:lnTo>
                <a:lnTo>
                  <a:pt x="2274" y="174"/>
                </a:lnTo>
                <a:lnTo>
                  <a:pt x="2333" y="253"/>
                </a:lnTo>
                <a:lnTo>
                  <a:pt x="2348" y="284"/>
                </a:lnTo>
                <a:lnTo>
                  <a:pt x="2377" y="332"/>
                </a:lnTo>
                <a:lnTo>
                  <a:pt x="2421" y="411"/>
                </a:lnTo>
                <a:lnTo>
                  <a:pt x="2465" y="474"/>
                </a:lnTo>
                <a:lnTo>
                  <a:pt x="2494" y="521"/>
                </a:lnTo>
                <a:lnTo>
                  <a:pt x="2509" y="553"/>
                </a:lnTo>
                <a:lnTo>
                  <a:pt x="2538" y="616"/>
                </a:lnTo>
                <a:lnTo>
                  <a:pt x="2597" y="711"/>
                </a:lnTo>
                <a:lnTo>
                  <a:pt x="2612" y="758"/>
                </a:lnTo>
                <a:lnTo>
                  <a:pt x="2626" y="790"/>
                </a:lnTo>
                <a:lnTo>
                  <a:pt x="2641" y="837"/>
                </a:lnTo>
                <a:lnTo>
                  <a:pt x="2670" y="884"/>
                </a:lnTo>
                <a:lnTo>
                  <a:pt x="2685" y="932"/>
                </a:lnTo>
                <a:lnTo>
                  <a:pt x="2700" y="979"/>
                </a:lnTo>
                <a:lnTo>
                  <a:pt x="2729" y="1027"/>
                </a:lnTo>
                <a:lnTo>
                  <a:pt x="2758" y="1105"/>
                </a:lnTo>
                <a:lnTo>
                  <a:pt x="2773" y="1137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999440" y="1811160"/>
            <a:ext cx="714240" cy="2736000"/>
            <a:chOff x="1999440" y="1811160"/>
            <a:chExt cx="714240" cy="2736000"/>
          </a:xfrm>
        </p:grpSpPr>
        <p:sp>
          <p:nvSpPr>
            <p:cNvPr id="693" name=""/>
            <p:cNvSpPr/>
            <p:nvPr/>
          </p:nvSpPr>
          <p:spPr>
            <a:xfrm>
              <a:off x="2024640" y="35146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24640" y="2387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24640" y="1811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24640" y="2963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99440" y="409248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242960" y="532620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ro Lev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640840" y="5326200"/>
            <a:ext cx="77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97360" y="5732640"/>
            <a:ext cx="825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7560" y="2562120"/>
            <a:ext cx="4405320" cy="1581120"/>
          </a:xfrm>
          <a:custGeom>
            <a:avLst/>
            <a:gdLst/>
            <a:ahLst/>
            <a:rect l="l" t="t" r="r" b="b"/>
            <a:pathLst>
              <a:path w="2775" h="996">
                <a:moveTo>
                  <a:pt x="0" y="474"/>
                </a:moveTo>
                <a:lnTo>
                  <a:pt x="30" y="458"/>
                </a:lnTo>
                <a:lnTo>
                  <a:pt x="103" y="426"/>
                </a:lnTo>
                <a:lnTo>
                  <a:pt x="162" y="395"/>
                </a:lnTo>
                <a:lnTo>
                  <a:pt x="206" y="363"/>
                </a:lnTo>
                <a:lnTo>
                  <a:pt x="264" y="332"/>
                </a:lnTo>
                <a:lnTo>
                  <a:pt x="294" y="316"/>
                </a:lnTo>
                <a:lnTo>
                  <a:pt x="338" y="300"/>
                </a:lnTo>
                <a:lnTo>
                  <a:pt x="367" y="284"/>
                </a:lnTo>
                <a:lnTo>
                  <a:pt x="397" y="269"/>
                </a:lnTo>
                <a:lnTo>
                  <a:pt x="470" y="221"/>
                </a:lnTo>
                <a:lnTo>
                  <a:pt x="499" y="205"/>
                </a:lnTo>
                <a:lnTo>
                  <a:pt x="543" y="190"/>
                </a:lnTo>
                <a:lnTo>
                  <a:pt x="617" y="158"/>
                </a:lnTo>
                <a:lnTo>
                  <a:pt x="661" y="126"/>
                </a:lnTo>
                <a:lnTo>
                  <a:pt x="705" y="111"/>
                </a:lnTo>
                <a:lnTo>
                  <a:pt x="807" y="95"/>
                </a:lnTo>
                <a:lnTo>
                  <a:pt x="866" y="95"/>
                </a:lnTo>
                <a:lnTo>
                  <a:pt x="925" y="95"/>
                </a:lnTo>
                <a:lnTo>
                  <a:pt x="1042" y="79"/>
                </a:lnTo>
                <a:lnTo>
                  <a:pt x="1101" y="79"/>
                </a:lnTo>
                <a:lnTo>
                  <a:pt x="1130" y="79"/>
                </a:lnTo>
                <a:lnTo>
                  <a:pt x="1189" y="79"/>
                </a:lnTo>
                <a:lnTo>
                  <a:pt x="1233" y="79"/>
                </a:lnTo>
                <a:lnTo>
                  <a:pt x="1277" y="79"/>
                </a:lnTo>
                <a:lnTo>
                  <a:pt x="1292" y="79"/>
                </a:lnTo>
                <a:lnTo>
                  <a:pt x="1336" y="79"/>
                </a:lnTo>
                <a:lnTo>
                  <a:pt x="1424" y="79"/>
                </a:lnTo>
                <a:lnTo>
                  <a:pt x="1453" y="79"/>
                </a:lnTo>
                <a:lnTo>
                  <a:pt x="1482" y="79"/>
                </a:lnTo>
                <a:lnTo>
                  <a:pt x="1585" y="63"/>
                </a:lnTo>
                <a:lnTo>
                  <a:pt x="1629" y="63"/>
                </a:lnTo>
                <a:lnTo>
                  <a:pt x="1673" y="63"/>
                </a:lnTo>
                <a:lnTo>
                  <a:pt x="1805" y="32"/>
                </a:lnTo>
                <a:lnTo>
                  <a:pt x="1864" y="16"/>
                </a:lnTo>
                <a:lnTo>
                  <a:pt x="1893" y="16"/>
                </a:lnTo>
                <a:lnTo>
                  <a:pt x="1981" y="0"/>
                </a:lnTo>
                <a:lnTo>
                  <a:pt x="2025" y="16"/>
                </a:lnTo>
                <a:lnTo>
                  <a:pt x="2099" y="47"/>
                </a:lnTo>
                <a:lnTo>
                  <a:pt x="2128" y="63"/>
                </a:lnTo>
                <a:lnTo>
                  <a:pt x="2187" y="111"/>
                </a:lnTo>
                <a:lnTo>
                  <a:pt x="2290" y="205"/>
                </a:lnTo>
                <a:lnTo>
                  <a:pt x="2334" y="237"/>
                </a:lnTo>
                <a:lnTo>
                  <a:pt x="2392" y="284"/>
                </a:lnTo>
                <a:lnTo>
                  <a:pt x="2480" y="347"/>
                </a:lnTo>
                <a:lnTo>
                  <a:pt x="2510" y="379"/>
                </a:lnTo>
                <a:lnTo>
                  <a:pt x="2539" y="395"/>
                </a:lnTo>
                <a:lnTo>
                  <a:pt x="2568" y="426"/>
                </a:lnTo>
                <a:lnTo>
                  <a:pt x="2583" y="458"/>
                </a:lnTo>
                <a:lnTo>
                  <a:pt x="2598" y="490"/>
                </a:lnTo>
                <a:lnTo>
                  <a:pt x="2612" y="521"/>
                </a:lnTo>
                <a:lnTo>
                  <a:pt x="2627" y="553"/>
                </a:lnTo>
                <a:lnTo>
                  <a:pt x="2642" y="600"/>
                </a:lnTo>
                <a:lnTo>
                  <a:pt x="2642" y="616"/>
                </a:lnTo>
                <a:lnTo>
                  <a:pt x="2671" y="711"/>
                </a:lnTo>
                <a:lnTo>
                  <a:pt x="2744" y="900"/>
                </a:lnTo>
                <a:lnTo>
                  <a:pt x="2774" y="995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OSPL90 and Gain Curve Variation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02320" y="2122560"/>
            <a:ext cx="462240" cy="2104560"/>
            <a:chOff x="202320" y="2122560"/>
            <a:chExt cx="462240" cy="2104560"/>
          </a:xfrm>
        </p:grpSpPr>
        <p:sp>
          <p:nvSpPr>
            <p:cNvPr id="704" name=""/>
            <p:cNvSpPr/>
            <p:nvPr/>
          </p:nvSpPr>
          <p:spPr>
            <a:xfrm>
              <a:off x="300240" y="3940200"/>
              <a:ext cx="364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2320" y="3044880"/>
              <a:ext cx="45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2320" y="2576520"/>
              <a:ext cx="45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2320" y="2122560"/>
              <a:ext cx="45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240" y="3498840"/>
              <a:ext cx="364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4802760" y="210816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2760" y="2576520"/>
            <a:ext cx="4557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02480" y="3030480"/>
            <a:ext cx="36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02480" y="3486240"/>
            <a:ext cx="36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17000" y="2244600"/>
            <a:ext cx="9927000" cy="2520720"/>
            <a:chOff x="117000" y="2244600"/>
            <a:chExt cx="9927000" cy="2520720"/>
          </a:xfrm>
        </p:grpSpPr>
        <p:grpSp>
          <p:nvGrpSpPr>
            <p:cNvPr id="714" name=""/>
            <p:cNvGrpSpPr/>
            <p:nvPr/>
          </p:nvGrpSpPr>
          <p:grpSpPr>
            <a:xfrm>
              <a:off x="117000" y="2244600"/>
              <a:ext cx="5215320" cy="2520720"/>
              <a:chOff x="117000" y="2244600"/>
              <a:chExt cx="5215320" cy="2520720"/>
            </a:xfrm>
          </p:grpSpPr>
          <p:sp>
            <p:nvSpPr>
              <p:cNvPr id="715" name=""/>
              <p:cNvSpPr/>
              <p:nvPr/>
            </p:nvSpPr>
            <p:spPr>
              <a:xfrm>
                <a:off x="271800" y="4280040"/>
                <a:ext cx="4010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dB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7000" y="4478400"/>
                <a:ext cx="5472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Gai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30360" y="2244600"/>
                <a:ext cx="4228920" cy="2477880"/>
                <a:chOff x="630360" y="2244600"/>
                <a:chExt cx="4228920" cy="24778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31800" y="2246400"/>
                  <a:ext cx="4219560" cy="220032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30360" y="2244600"/>
                  <a:ext cx="4222800" cy="220356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7948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11456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34928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59084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80972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5884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14440" y="2266920"/>
                  <a:ext cx="0" cy="218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54808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8280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02436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25908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0820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74976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98304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23216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473720" y="2266920"/>
                  <a:ext cx="0" cy="218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69260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8280" y="270684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8280" y="316080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38280" y="361476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38280" y="406872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97480" y="4435560"/>
                  <a:ext cx="41004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.25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649520" y="4435560"/>
                  <a:ext cx="31860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.5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431080" y="4435560"/>
                  <a:ext cx="56556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1kHz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4172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85128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56084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4830840" y="4265640"/>
                <a:ext cx="4010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dB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830840" y="4464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PL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5216040" y="2244600"/>
              <a:ext cx="4827960" cy="2477880"/>
              <a:chOff x="5216040" y="2244600"/>
              <a:chExt cx="4827960" cy="24778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815080" y="2244600"/>
                <a:ext cx="4228920" cy="2477880"/>
                <a:chOff x="5815080" y="2244600"/>
                <a:chExt cx="4228920" cy="247788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816520" y="2246400"/>
                  <a:ext cx="4219560" cy="220032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815080" y="2244600"/>
                  <a:ext cx="4222800" cy="220356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06420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29748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53256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75972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99444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24392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499520" y="2266920"/>
                  <a:ext cx="0" cy="218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73280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96752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20908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44236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67744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93304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16632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415440" y="2252520"/>
                  <a:ext cx="0" cy="220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9644040" y="2266920"/>
                  <a:ext cx="0" cy="218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9877320" y="2244600"/>
                  <a:ext cx="0" cy="2203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823000" y="270684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823000" y="316080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823000" y="361476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823000" y="4068720"/>
                  <a:ext cx="422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082200" y="4435560"/>
                  <a:ext cx="41004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.25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834240" y="4435560"/>
                  <a:ext cx="31860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.5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615800" y="4435560"/>
                  <a:ext cx="56556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1kHz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32500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903600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9745560" y="4435560"/>
                  <a:ext cx="27288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216040" y="3244680"/>
                <a:ext cx="62964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0 dB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5489640" y="3160800"/>
                <a:ext cx="25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5489640" y="3614760"/>
                <a:ext cx="257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5589720" y="3154320"/>
                <a:ext cx="60120" cy="122400"/>
                <a:chOff x="5589720" y="3154320"/>
                <a:chExt cx="60120" cy="1224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589720" y="3154320"/>
                  <a:ext cx="60120" cy="87480"/>
                </a:xfrm>
                <a:custGeom>
                  <a:avLst/>
                  <a:gdLst/>
                  <a:ahLst/>
                  <a:rect l="l" t="t" r="r" b="b"/>
                  <a:pathLst>
                    <a:path w="38" h="55">
                      <a:moveTo>
                        <a:pt x="15" y="0"/>
                      </a:moveTo>
                      <a:lnTo>
                        <a:pt x="37" y="54"/>
                      </a:lnTo>
                      <a:lnTo>
                        <a:pt x="15" y="54"/>
                      </a:lnTo>
                      <a:lnTo>
                        <a:pt x="0" y="5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24640" y="3259080"/>
                  <a:ext cx="0" cy="17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589720" y="3457440"/>
                <a:ext cx="60120" cy="139680"/>
                <a:chOff x="5589720" y="3457440"/>
                <a:chExt cx="60120" cy="13968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5589720" y="352260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15" y="46"/>
                      </a:move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37" y="0"/>
                      </a:lnTo>
                      <a:lnTo>
                        <a:pt x="15" y="4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624640" y="3457440"/>
                  <a:ext cx="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9" name=""/>
          <p:cNvSpPr/>
          <p:nvPr/>
        </p:nvSpPr>
        <p:spPr>
          <a:xfrm>
            <a:off x="871560" y="2911320"/>
            <a:ext cx="3779640" cy="1335240"/>
          </a:xfrm>
          <a:custGeom>
            <a:avLst/>
            <a:gdLst/>
            <a:ahLst/>
            <a:rect l="l" t="t" r="r" b="b"/>
            <a:pathLst>
              <a:path w="2381" h="841">
                <a:moveTo>
                  <a:pt x="0" y="804"/>
                </a:moveTo>
                <a:lnTo>
                  <a:pt x="18" y="795"/>
                </a:lnTo>
                <a:lnTo>
                  <a:pt x="54" y="787"/>
                </a:lnTo>
                <a:lnTo>
                  <a:pt x="72" y="778"/>
                </a:lnTo>
                <a:lnTo>
                  <a:pt x="99" y="769"/>
                </a:lnTo>
                <a:lnTo>
                  <a:pt x="117" y="760"/>
                </a:lnTo>
                <a:lnTo>
                  <a:pt x="135" y="751"/>
                </a:lnTo>
                <a:lnTo>
                  <a:pt x="153" y="742"/>
                </a:lnTo>
                <a:lnTo>
                  <a:pt x="170" y="733"/>
                </a:lnTo>
                <a:lnTo>
                  <a:pt x="179" y="724"/>
                </a:lnTo>
                <a:lnTo>
                  <a:pt x="206" y="706"/>
                </a:lnTo>
                <a:lnTo>
                  <a:pt x="260" y="679"/>
                </a:lnTo>
                <a:lnTo>
                  <a:pt x="287" y="670"/>
                </a:lnTo>
                <a:lnTo>
                  <a:pt x="314" y="661"/>
                </a:lnTo>
                <a:lnTo>
                  <a:pt x="376" y="635"/>
                </a:lnTo>
                <a:lnTo>
                  <a:pt x="403" y="617"/>
                </a:lnTo>
                <a:lnTo>
                  <a:pt x="430" y="608"/>
                </a:lnTo>
                <a:lnTo>
                  <a:pt x="493" y="572"/>
                </a:lnTo>
                <a:lnTo>
                  <a:pt x="528" y="554"/>
                </a:lnTo>
                <a:lnTo>
                  <a:pt x="564" y="536"/>
                </a:lnTo>
                <a:lnTo>
                  <a:pt x="627" y="509"/>
                </a:lnTo>
                <a:lnTo>
                  <a:pt x="671" y="492"/>
                </a:lnTo>
                <a:lnTo>
                  <a:pt x="707" y="474"/>
                </a:lnTo>
                <a:lnTo>
                  <a:pt x="779" y="447"/>
                </a:lnTo>
                <a:lnTo>
                  <a:pt x="824" y="429"/>
                </a:lnTo>
                <a:lnTo>
                  <a:pt x="868" y="411"/>
                </a:lnTo>
                <a:lnTo>
                  <a:pt x="940" y="384"/>
                </a:lnTo>
                <a:lnTo>
                  <a:pt x="976" y="375"/>
                </a:lnTo>
                <a:lnTo>
                  <a:pt x="1011" y="366"/>
                </a:lnTo>
                <a:lnTo>
                  <a:pt x="1074" y="340"/>
                </a:lnTo>
                <a:lnTo>
                  <a:pt x="1110" y="322"/>
                </a:lnTo>
                <a:lnTo>
                  <a:pt x="1146" y="313"/>
                </a:lnTo>
                <a:lnTo>
                  <a:pt x="1199" y="295"/>
                </a:lnTo>
                <a:lnTo>
                  <a:pt x="1226" y="286"/>
                </a:lnTo>
                <a:lnTo>
                  <a:pt x="1253" y="277"/>
                </a:lnTo>
                <a:lnTo>
                  <a:pt x="1307" y="250"/>
                </a:lnTo>
                <a:lnTo>
                  <a:pt x="1325" y="241"/>
                </a:lnTo>
                <a:lnTo>
                  <a:pt x="1334" y="232"/>
                </a:lnTo>
                <a:lnTo>
                  <a:pt x="1360" y="214"/>
                </a:lnTo>
                <a:lnTo>
                  <a:pt x="1387" y="196"/>
                </a:lnTo>
                <a:lnTo>
                  <a:pt x="1414" y="179"/>
                </a:lnTo>
                <a:lnTo>
                  <a:pt x="1441" y="161"/>
                </a:lnTo>
                <a:lnTo>
                  <a:pt x="1459" y="152"/>
                </a:lnTo>
                <a:lnTo>
                  <a:pt x="1495" y="134"/>
                </a:lnTo>
                <a:lnTo>
                  <a:pt x="1521" y="116"/>
                </a:lnTo>
                <a:lnTo>
                  <a:pt x="1539" y="107"/>
                </a:lnTo>
                <a:lnTo>
                  <a:pt x="1548" y="98"/>
                </a:lnTo>
                <a:lnTo>
                  <a:pt x="1557" y="89"/>
                </a:lnTo>
                <a:lnTo>
                  <a:pt x="1584" y="62"/>
                </a:lnTo>
                <a:lnTo>
                  <a:pt x="1602" y="45"/>
                </a:lnTo>
                <a:lnTo>
                  <a:pt x="1611" y="36"/>
                </a:lnTo>
                <a:lnTo>
                  <a:pt x="1647" y="18"/>
                </a:lnTo>
                <a:lnTo>
                  <a:pt x="1665" y="9"/>
                </a:lnTo>
                <a:lnTo>
                  <a:pt x="1682" y="9"/>
                </a:lnTo>
                <a:lnTo>
                  <a:pt x="1718" y="0"/>
                </a:lnTo>
                <a:lnTo>
                  <a:pt x="1727" y="0"/>
                </a:lnTo>
                <a:lnTo>
                  <a:pt x="1736" y="9"/>
                </a:lnTo>
                <a:lnTo>
                  <a:pt x="1754" y="18"/>
                </a:lnTo>
                <a:lnTo>
                  <a:pt x="1763" y="18"/>
                </a:lnTo>
                <a:lnTo>
                  <a:pt x="1772" y="27"/>
                </a:lnTo>
                <a:lnTo>
                  <a:pt x="1799" y="36"/>
                </a:lnTo>
                <a:lnTo>
                  <a:pt x="1808" y="45"/>
                </a:lnTo>
                <a:lnTo>
                  <a:pt x="1826" y="53"/>
                </a:lnTo>
                <a:lnTo>
                  <a:pt x="1852" y="80"/>
                </a:lnTo>
                <a:lnTo>
                  <a:pt x="1861" y="98"/>
                </a:lnTo>
                <a:lnTo>
                  <a:pt x="1870" y="116"/>
                </a:lnTo>
                <a:lnTo>
                  <a:pt x="1897" y="143"/>
                </a:lnTo>
                <a:lnTo>
                  <a:pt x="1906" y="152"/>
                </a:lnTo>
                <a:lnTo>
                  <a:pt x="1915" y="170"/>
                </a:lnTo>
                <a:lnTo>
                  <a:pt x="1933" y="196"/>
                </a:lnTo>
                <a:lnTo>
                  <a:pt x="1942" y="205"/>
                </a:lnTo>
                <a:lnTo>
                  <a:pt x="1951" y="214"/>
                </a:lnTo>
                <a:lnTo>
                  <a:pt x="1960" y="241"/>
                </a:lnTo>
                <a:lnTo>
                  <a:pt x="1969" y="250"/>
                </a:lnTo>
                <a:lnTo>
                  <a:pt x="1978" y="268"/>
                </a:lnTo>
                <a:lnTo>
                  <a:pt x="1996" y="295"/>
                </a:lnTo>
                <a:lnTo>
                  <a:pt x="2005" y="313"/>
                </a:lnTo>
                <a:lnTo>
                  <a:pt x="2014" y="331"/>
                </a:lnTo>
                <a:lnTo>
                  <a:pt x="2031" y="357"/>
                </a:lnTo>
                <a:lnTo>
                  <a:pt x="2040" y="375"/>
                </a:lnTo>
                <a:lnTo>
                  <a:pt x="2058" y="393"/>
                </a:lnTo>
                <a:lnTo>
                  <a:pt x="2076" y="429"/>
                </a:lnTo>
                <a:lnTo>
                  <a:pt x="2085" y="438"/>
                </a:lnTo>
                <a:lnTo>
                  <a:pt x="2094" y="456"/>
                </a:lnTo>
                <a:lnTo>
                  <a:pt x="2112" y="483"/>
                </a:lnTo>
                <a:lnTo>
                  <a:pt x="2121" y="500"/>
                </a:lnTo>
                <a:lnTo>
                  <a:pt x="2139" y="518"/>
                </a:lnTo>
                <a:lnTo>
                  <a:pt x="2157" y="554"/>
                </a:lnTo>
                <a:lnTo>
                  <a:pt x="2166" y="563"/>
                </a:lnTo>
                <a:lnTo>
                  <a:pt x="2175" y="572"/>
                </a:lnTo>
                <a:lnTo>
                  <a:pt x="2192" y="590"/>
                </a:lnTo>
                <a:lnTo>
                  <a:pt x="2210" y="608"/>
                </a:lnTo>
                <a:lnTo>
                  <a:pt x="2228" y="635"/>
                </a:lnTo>
                <a:lnTo>
                  <a:pt x="2237" y="643"/>
                </a:lnTo>
                <a:lnTo>
                  <a:pt x="2246" y="652"/>
                </a:lnTo>
                <a:lnTo>
                  <a:pt x="2282" y="706"/>
                </a:lnTo>
                <a:lnTo>
                  <a:pt x="2318" y="751"/>
                </a:lnTo>
                <a:lnTo>
                  <a:pt x="2353" y="804"/>
                </a:lnTo>
                <a:lnTo>
                  <a:pt x="2380" y="8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85960" y="2712960"/>
            <a:ext cx="3779640" cy="852480"/>
          </a:xfrm>
          <a:custGeom>
            <a:avLst/>
            <a:gdLst/>
            <a:ahLst/>
            <a:rect l="l" t="t" r="r" b="b"/>
            <a:pathLst>
              <a:path w="2381" h="537">
                <a:moveTo>
                  <a:pt x="0" y="214"/>
                </a:moveTo>
                <a:lnTo>
                  <a:pt x="36" y="205"/>
                </a:lnTo>
                <a:lnTo>
                  <a:pt x="99" y="178"/>
                </a:lnTo>
                <a:lnTo>
                  <a:pt x="161" y="161"/>
                </a:lnTo>
                <a:lnTo>
                  <a:pt x="206" y="143"/>
                </a:lnTo>
                <a:lnTo>
                  <a:pt x="233" y="134"/>
                </a:lnTo>
                <a:lnTo>
                  <a:pt x="269" y="125"/>
                </a:lnTo>
                <a:lnTo>
                  <a:pt x="349" y="98"/>
                </a:lnTo>
                <a:lnTo>
                  <a:pt x="385" y="80"/>
                </a:lnTo>
                <a:lnTo>
                  <a:pt x="421" y="71"/>
                </a:lnTo>
                <a:lnTo>
                  <a:pt x="501" y="53"/>
                </a:lnTo>
                <a:lnTo>
                  <a:pt x="546" y="44"/>
                </a:lnTo>
                <a:lnTo>
                  <a:pt x="564" y="44"/>
                </a:lnTo>
                <a:lnTo>
                  <a:pt x="600" y="44"/>
                </a:lnTo>
                <a:lnTo>
                  <a:pt x="636" y="44"/>
                </a:lnTo>
                <a:lnTo>
                  <a:pt x="671" y="35"/>
                </a:lnTo>
                <a:lnTo>
                  <a:pt x="680" y="35"/>
                </a:lnTo>
                <a:lnTo>
                  <a:pt x="707" y="35"/>
                </a:lnTo>
                <a:lnTo>
                  <a:pt x="770" y="26"/>
                </a:lnTo>
                <a:lnTo>
                  <a:pt x="797" y="26"/>
                </a:lnTo>
                <a:lnTo>
                  <a:pt x="824" y="26"/>
                </a:lnTo>
                <a:lnTo>
                  <a:pt x="886" y="18"/>
                </a:lnTo>
                <a:lnTo>
                  <a:pt x="913" y="18"/>
                </a:lnTo>
                <a:lnTo>
                  <a:pt x="931" y="18"/>
                </a:lnTo>
                <a:lnTo>
                  <a:pt x="949" y="18"/>
                </a:lnTo>
                <a:lnTo>
                  <a:pt x="967" y="18"/>
                </a:lnTo>
                <a:lnTo>
                  <a:pt x="985" y="18"/>
                </a:lnTo>
                <a:lnTo>
                  <a:pt x="994" y="18"/>
                </a:lnTo>
                <a:lnTo>
                  <a:pt x="1002" y="18"/>
                </a:lnTo>
                <a:lnTo>
                  <a:pt x="1011" y="18"/>
                </a:lnTo>
                <a:lnTo>
                  <a:pt x="1029" y="18"/>
                </a:lnTo>
                <a:lnTo>
                  <a:pt x="1065" y="9"/>
                </a:lnTo>
                <a:lnTo>
                  <a:pt x="1074" y="9"/>
                </a:lnTo>
                <a:lnTo>
                  <a:pt x="1110" y="9"/>
                </a:lnTo>
                <a:lnTo>
                  <a:pt x="1163" y="9"/>
                </a:lnTo>
                <a:lnTo>
                  <a:pt x="1181" y="9"/>
                </a:lnTo>
                <a:lnTo>
                  <a:pt x="1190" y="9"/>
                </a:lnTo>
                <a:lnTo>
                  <a:pt x="1217" y="9"/>
                </a:lnTo>
                <a:lnTo>
                  <a:pt x="1244" y="9"/>
                </a:lnTo>
                <a:lnTo>
                  <a:pt x="1271" y="9"/>
                </a:lnTo>
                <a:lnTo>
                  <a:pt x="1289" y="9"/>
                </a:lnTo>
                <a:lnTo>
                  <a:pt x="1325" y="9"/>
                </a:lnTo>
                <a:lnTo>
                  <a:pt x="1387" y="9"/>
                </a:lnTo>
                <a:lnTo>
                  <a:pt x="1414" y="9"/>
                </a:lnTo>
                <a:lnTo>
                  <a:pt x="1441" y="9"/>
                </a:lnTo>
                <a:lnTo>
                  <a:pt x="1495" y="9"/>
                </a:lnTo>
                <a:lnTo>
                  <a:pt x="1530" y="0"/>
                </a:lnTo>
                <a:lnTo>
                  <a:pt x="1539" y="0"/>
                </a:lnTo>
                <a:lnTo>
                  <a:pt x="1566" y="0"/>
                </a:lnTo>
                <a:lnTo>
                  <a:pt x="1593" y="0"/>
                </a:lnTo>
                <a:lnTo>
                  <a:pt x="1620" y="0"/>
                </a:lnTo>
                <a:lnTo>
                  <a:pt x="1629" y="0"/>
                </a:lnTo>
                <a:lnTo>
                  <a:pt x="1647" y="0"/>
                </a:lnTo>
                <a:lnTo>
                  <a:pt x="1673" y="0"/>
                </a:lnTo>
                <a:lnTo>
                  <a:pt x="1691" y="0"/>
                </a:lnTo>
                <a:lnTo>
                  <a:pt x="1709" y="0"/>
                </a:lnTo>
                <a:lnTo>
                  <a:pt x="1745" y="0"/>
                </a:lnTo>
                <a:lnTo>
                  <a:pt x="1763" y="0"/>
                </a:lnTo>
                <a:lnTo>
                  <a:pt x="1781" y="0"/>
                </a:lnTo>
                <a:lnTo>
                  <a:pt x="1808" y="0"/>
                </a:lnTo>
                <a:lnTo>
                  <a:pt x="1826" y="0"/>
                </a:lnTo>
                <a:lnTo>
                  <a:pt x="1843" y="9"/>
                </a:lnTo>
                <a:lnTo>
                  <a:pt x="1870" y="9"/>
                </a:lnTo>
                <a:lnTo>
                  <a:pt x="1888" y="9"/>
                </a:lnTo>
                <a:lnTo>
                  <a:pt x="1906" y="9"/>
                </a:lnTo>
                <a:lnTo>
                  <a:pt x="1933" y="9"/>
                </a:lnTo>
                <a:lnTo>
                  <a:pt x="1951" y="0"/>
                </a:lnTo>
                <a:lnTo>
                  <a:pt x="1969" y="0"/>
                </a:lnTo>
                <a:lnTo>
                  <a:pt x="1996" y="9"/>
                </a:lnTo>
                <a:lnTo>
                  <a:pt x="2005" y="9"/>
                </a:lnTo>
                <a:lnTo>
                  <a:pt x="2013" y="9"/>
                </a:lnTo>
                <a:lnTo>
                  <a:pt x="2040" y="18"/>
                </a:lnTo>
                <a:lnTo>
                  <a:pt x="2058" y="18"/>
                </a:lnTo>
                <a:lnTo>
                  <a:pt x="2076" y="26"/>
                </a:lnTo>
                <a:lnTo>
                  <a:pt x="2085" y="35"/>
                </a:lnTo>
                <a:lnTo>
                  <a:pt x="2103" y="53"/>
                </a:lnTo>
                <a:lnTo>
                  <a:pt x="2112" y="62"/>
                </a:lnTo>
                <a:lnTo>
                  <a:pt x="2130" y="80"/>
                </a:lnTo>
                <a:lnTo>
                  <a:pt x="2148" y="116"/>
                </a:lnTo>
                <a:lnTo>
                  <a:pt x="2157" y="134"/>
                </a:lnTo>
                <a:lnTo>
                  <a:pt x="2166" y="152"/>
                </a:lnTo>
                <a:lnTo>
                  <a:pt x="2174" y="178"/>
                </a:lnTo>
                <a:lnTo>
                  <a:pt x="2183" y="187"/>
                </a:lnTo>
                <a:lnTo>
                  <a:pt x="2192" y="205"/>
                </a:lnTo>
                <a:lnTo>
                  <a:pt x="2201" y="232"/>
                </a:lnTo>
                <a:lnTo>
                  <a:pt x="2210" y="250"/>
                </a:lnTo>
                <a:lnTo>
                  <a:pt x="2219" y="268"/>
                </a:lnTo>
                <a:lnTo>
                  <a:pt x="2237" y="286"/>
                </a:lnTo>
                <a:lnTo>
                  <a:pt x="2246" y="295"/>
                </a:lnTo>
                <a:lnTo>
                  <a:pt x="2255" y="304"/>
                </a:lnTo>
                <a:lnTo>
                  <a:pt x="2264" y="330"/>
                </a:lnTo>
                <a:lnTo>
                  <a:pt x="2264" y="348"/>
                </a:lnTo>
                <a:lnTo>
                  <a:pt x="2273" y="366"/>
                </a:lnTo>
                <a:lnTo>
                  <a:pt x="2291" y="393"/>
                </a:lnTo>
                <a:lnTo>
                  <a:pt x="2300" y="402"/>
                </a:lnTo>
                <a:lnTo>
                  <a:pt x="2309" y="420"/>
                </a:lnTo>
                <a:lnTo>
                  <a:pt x="2318" y="438"/>
                </a:lnTo>
                <a:lnTo>
                  <a:pt x="2327" y="447"/>
                </a:lnTo>
                <a:lnTo>
                  <a:pt x="2327" y="456"/>
                </a:lnTo>
                <a:lnTo>
                  <a:pt x="2336" y="473"/>
                </a:lnTo>
                <a:lnTo>
                  <a:pt x="2344" y="482"/>
                </a:lnTo>
                <a:lnTo>
                  <a:pt x="2344" y="491"/>
                </a:lnTo>
                <a:lnTo>
                  <a:pt x="2353" y="509"/>
                </a:lnTo>
                <a:lnTo>
                  <a:pt x="2362" y="518"/>
                </a:lnTo>
                <a:lnTo>
                  <a:pt x="2371" y="527"/>
                </a:lnTo>
                <a:lnTo>
                  <a:pt x="2380" y="536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85960" y="3152880"/>
            <a:ext cx="3751200" cy="1306440"/>
          </a:xfrm>
          <a:custGeom>
            <a:avLst/>
            <a:gdLst/>
            <a:ahLst/>
            <a:rect l="l" t="t" r="r" b="b"/>
            <a:pathLst>
              <a:path w="2363" h="823">
                <a:moveTo>
                  <a:pt x="0" y="804"/>
                </a:moveTo>
                <a:lnTo>
                  <a:pt x="18" y="795"/>
                </a:lnTo>
                <a:lnTo>
                  <a:pt x="54" y="787"/>
                </a:lnTo>
                <a:lnTo>
                  <a:pt x="72" y="778"/>
                </a:lnTo>
                <a:lnTo>
                  <a:pt x="99" y="769"/>
                </a:lnTo>
                <a:lnTo>
                  <a:pt x="117" y="760"/>
                </a:lnTo>
                <a:lnTo>
                  <a:pt x="135" y="751"/>
                </a:lnTo>
                <a:lnTo>
                  <a:pt x="152" y="742"/>
                </a:lnTo>
                <a:lnTo>
                  <a:pt x="170" y="733"/>
                </a:lnTo>
                <a:lnTo>
                  <a:pt x="179" y="724"/>
                </a:lnTo>
                <a:lnTo>
                  <a:pt x="206" y="706"/>
                </a:lnTo>
                <a:lnTo>
                  <a:pt x="260" y="679"/>
                </a:lnTo>
                <a:lnTo>
                  <a:pt x="287" y="670"/>
                </a:lnTo>
                <a:lnTo>
                  <a:pt x="314" y="661"/>
                </a:lnTo>
                <a:lnTo>
                  <a:pt x="376" y="635"/>
                </a:lnTo>
                <a:lnTo>
                  <a:pt x="403" y="617"/>
                </a:lnTo>
                <a:lnTo>
                  <a:pt x="430" y="608"/>
                </a:lnTo>
                <a:lnTo>
                  <a:pt x="492" y="572"/>
                </a:lnTo>
                <a:lnTo>
                  <a:pt x="528" y="554"/>
                </a:lnTo>
                <a:lnTo>
                  <a:pt x="564" y="536"/>
                </a:lnTo>
                <a:lnTo>
                  <a:pt x="627" y="509"/>
                </a:lnTo>
                <a:lnTo>
                  <a:pt x="671" y="491"/>
                </a:lnTo>
                <a:lnTo>
                  <a:pt x="707" y="474"/>
                </a:lnTo>
                <a:lnTo>
                  <a:pt x="779" y="447"/>
                </a:lnTo>
                <a:lnTo>
                  <a:pt x="824" y="429"/>
                </a:lnTo>
                <a:lnTo>
                  <a:pt x="868" y="411"/>
                </a:lnTo>
                <a:lnTo>
                  <a:pt x="940" y="384"/>
                </a:lnTo>
                <a:lnTo>
                  <a:pt x="976" y="375"/>
                </a:lnTo>
                <a:lnTo>
                  <a:pt x="1011" y="366"/>
                </a:lnTo>
                <a:lnTo>
                  <a:pt x="1074" y="340"/>
                </a:lnTo>
                <a:lnTo>
                  <a:pt x="1110" y="322"/>
                </a:lnTo>
                <a:lnTo>
                  <a:pt x="1146" y="313"/>
                </a:lnTo>
                <a:lnTo>
                  <a:pt x="1199" y="295"/>
                </a:lnTo>
                <a:lnTo>
                  <a:pt x="1226" y="286"/>
                </a:lnTo>
                <a:lnTo>
                  <a:pt x="1253" y="277"/>
                </a:lnTo>
                <a:lnTo>
                  <a:pt x="1307" y="250"/>
                </a:lnTo>
                <a:lnTo>
                  <a:pt x="1325" y="241"/>
                </a:lnTo>
                <a:lnTo>
                  <a:pt x="1333" y="232"/>
                </a:lnTo>
                <a:lnTo>
                  <a:pt x="1360" y="214"/>
                </a:lnTo>
                <a:lnTo>
                  <a:pt x="1387" y="196"/>
                </a:lnTo>
                <a:lnTo>
                  <a:pt x="1414" y="179"/>
                </a:lnTo>
                <a:lnTo>
                  <a:pt x="1441" y="161"/>
                </a:lnTo>
                <a:lnTo>
                  <a:pt x="1459" y="152"/>
                </a:lnTo>
                <a:lnTo>
                  <a:pt x="1495" y="134"/>
                </a:lnTo>
                <a:lnTo>
                  <a:pt x="1521" y="116"/>
                </a:lnTo>
                <a:lnTo>
                  <a:pt x="1539" y="107"/>
                </a:lnTo>
                <a:lnTo>
                  <a:pt x="1548" y="98"/>
                </a:lnTo>
                <a:lnTo>
                  <a:pt x="1557" y="89"/>
                </a:lnTo>
                <a:lnTo>
                  <a:pt x="1584" y="62"/>
                </a:lnTo>
                <a:lnTo>
                  <a:pt x="1602" y="44"/>
                </a:lnTo>
                <a:lnTo>
                  <a:pt x="1611" y="36"/>
                </a:lnTo>
                <a:lnTo>
                  <a:pt x="1647" y="18"/>
                </a:lnTo>
                <a:lnTo>
                  <a:pt x="1665" y="9"/>
                </a:lnTo>
                <a:lnTo>
                  <a:pt x="1682" y="9"/>
                </a:lnTo>
                <a:lnTo>
                  <a:pt x="1718" y="0"/>
                </a:lnTo>
                <a:lnTo>
                  <a:pt x="1727" y="0"/>
                </a:lnTo>
                <a:lnTo>
                  <a:pt x="1736" y="9"/>
                </a:lnTo>
                <a:lnTo>
                  <a:pt x="1754" y="18"/>
                </a:lnTo>
                <a:lnTo>
                  <a:pt x="1763" y="18"/>
                </a:lnTo>
                <a:lnTo>
                  <a:pt x="1772" y="27"/>
                </a:lnTo>
                <a:lnTo>
                  <a:pt x="1799" y="36"/>
                </a:lnTo>
                <a:lnTo>
                  <a:pt x="1808" y="44"/>
                </a:lnTo>
                <a:lnTo>
                  <a:pt x="1826" y="53"/>
                </a:lnTo>
                <a:lnTo>
                  <a:pt x="1852" y="80"/>
                </a:lnTo>
                <a:lnTo>
                  <a:pt x="1861" y="98"/>
                </a:lnTo>
                <a:lnTo>
                  <a:pt x="1870" y="116"/>
                </a:lnTo>
                <a:lnTo>
                  <a:pt x="1897" y="143"/>
                </a:lnTo>
                <a:lnTo>
                  <a:pt x="1906" y="152"/>
                </a:lnTo>
                <a:lnTo>
                  <a:pt x="1915" y="170"/>
                </a:lnTo>
                <a:lnTo>
                  <a:pt x="1933" y="196"/>
                </a:lnTo>
                <a:lnTo>
                  <a:pt x="1942" y="205"/>
                </a:lnTo>
                <a:lnTo>
                  <a:pt x="1951" y="214"/>
                </a:lnTo>
                <a:lnTo>
                  <a:pt x="1960" y="241"/>
                </a:lnTo>
                <a:lnTo>
                  <a:pt x="1969" y="250"/>
                </a:lnTo>
                <a:lnTo>
                  <a:pt x="1978" y="268"/>
                </a:lnTo>
                <a:lnTo>
                  <a:pt x="1996" y="295"/>
                </a:lnTo>
                <a:lnTo>
                  <a:pt x="2005" y="313"/>
                </a:lnTo>
                <a:lnTo>
                  <a:pt x="2013" y="331"/>
                </a:lnTo>
                <a:lnTo>
                  <a:pt x="2031" y="357"/>
                </a:lnTo>
                <a:lnTo>
                  <a:pt x="2040" y="375"/>
                </a:lnTo>
                <a:lnTo>
                  <a:pt x="2058" y="393"/>
                </a:lnTo>
                <a:lnTo>
                  <a:pt x="2076" y="429"/>
                </a:lnTo>
                <a:lnTo>
                  <a:pt x="2085" y="438"/>
                </a:lnTo>
                <a:lnTo>
                  <a:pt x="2094" y="456"/>
                </a:lnTo>
                <a:lnTo>
                  <a:pt x="2112" y="483"/>
                </a:lnTo>
                <a:lnTo>
                  <a:pt x="2121" y="500"/>
                </a:lnTo>
                <a:lnTo>
                  <a:pt x="2139" y="518"/>
                </a:lnTo>
                <a:lnTo>
                  <a:pt x="2157" y="554"/>
                </a:lnTo>
                <a:lnTo>
                  <a:pt x="2166" y="563"/>
                </a:lnTo>
                <a:lnTo>
                  <a:pt x="2174" y="572"/>
                </a:lnTo>
                <a:lnTo>
                  <a:pt x="2192" y="590"/>
                </a:lnTo>
                <a:lnTo>
                  <a:pt x="2210" y="608"/>
                </a:lnTo>
                <a:lnTo>
                  <a:pt x="2228" y="635"/>
                </a:lnTo>
                <a:lnTo>
                  <a:pt x="2237" y="643"/>
                </a:lnTo>
                <a:lnTo>
                  <a:pt x="2246" y="652"/>
                </a:lnTo>
                <a:lnTo>
                  <a:pt x="2273" y="697"/>
                </a:lnTo>
                <a:lnTo>
                  <a:pt x="2309" y="742"/>
                </a:lnTo>
                <a:lnTo>
                  <a:pt x="2344" y="795"/>
                </a:lnTo>
                <a:lnTo>
                  <a:pt x="2362" y="822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97160" y="3394080"/>
            <a:ext cx="3098520" cy="1079640"/>
          </a:xfrm>
          <a:custGeom>
            <a:avLst/>
            <a:gdLst/>
            <a:ahLst/>
            <a:rect l="l" t="t" r="r" b="b"/>
            <a:pathLst>
              <a:path w="1952" h="680">
                <a:moveTo>
                  <a:pt x="0" y="670"/>
                </a:moveTo>
                <a:lnTo>
                  <a:pt x="63" y="635"/>
                </a:lnTo>
                <a:lnTo>
                  <a:pt x="81" y="617"/>
                </a:lnTo>
                <a:lnTo>
                  <a:pt x="108" y="599"/>
                </a:lnTo>
                <a:lnTo>
                  <a:pt x="144" y="590"/>
                </a:lnTo>
                <a:lnTo>
                  <a:pt x="278" y="518"/>
                </a:lnTo>
                <a:lnTo>
                  <a:pt x="430" y="456"/>
                </a:lnTo>
                <a:lnTo>
                  <a:pt x="591" y="393"/>
                </a:lnTo>
                <a:lnTo>
                  <a:pt x="734" y="348"/>
                </a:lnTo>
                <a:lnTo>
                  <a:pt x="859" y="304"/>
                </a:lnTo>
                <a:lnTo>
                  <a:pt x="967" y="259"/>
                </a:lnTo>
                <a:lnTo>
                  <a:pt x="1047" y="214"/>
                </a:lnTo>
                <a:lnTo>
                  <a:pt x="1208" y="116"/>
                </a:lnTo>
                <a:lnTo>
                  <a:pt x="1262" y="71"/>
                </a:lnTo>
                <a:lnTo>
                  <a:pt x="1316" y="18"/>
                </a:lnTo>
                <a:lnTo>
                  <a:pt x="1387" y="0"/>
                </a:lnTo>
                <a:lnTo>
                  <a:pt x="1432" y="9"/>
                </a:lnTo>
                <a:lnTo>
                  <a:pt x="1468" y="27"/>
                </a:lnTo>
                <a:lnTo>
                  <a:pt x="1521" y="62"/>
                </a:lnTo>
                <a:lnTo>
                  <a:pt x="1566" y="125"/>
                </a:lnTo>
                <a:lnTo>
                  <a:pt x="1611" y="179"/>
                </a:lnTo>
                <a:lnTo>
                  <a:pt x="1638" y="223"/>
                </a:lnTo>
                <a:lnTo>
                  <a:pt x="1674" y="277"/>
                </a:lnTo>
                <a:lnTo>
                  <a:pt x="1709" y="339"/>
                </a:lnTo>
                <a:lnTo>
                  <a:pt x="1754" y="411"/>
                </a:lnTo>
                <a:lnTo>
                  <a:pt x="1790" y="465"/>
                </a:lnTo>
                <a:lnTo>
                  <a:pt x="1835" y="536"/>
                </a:lnTo>
                <a:lnTo>
                  <a:pt x="1879" y="590"/>
                </a:lnTo>
                <a:lnTo>
                  <a:pt x="1906" y="617"/>
                </a:lnTo>
                <a:lnTo>
                  <a:pt x="1951" y="679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70680" y="2911320"/>
            <a:ext cx="3779640" cy="1335240"/>
          </a:xfrm>
          <a:custGeom>
            <a:avLst/>
            <a:gdLst/>
            <a:ahLst/>
            <a:rect l="l" t="t" r="r" b="b"/>
            <a:pathLst>
              <a:path w="2381" h="841">
                <a:moveTo>
                  <a:pt x="0" y="804"/>
                </a:moveTo>
                <a:lnTo>
                  <a:pt x="18" y="795"/>
                </a:lnTo>
                <a:lnTo>
                  <a:pt x="54" y="787"/>
                </a:lnTo>
                <a:lnTo>
                  <a:pt x="72" y="778"/>
                </a:lnTo>
                <a:lnTo>
                  <a:pt x="98" y="769"/>
                </a:lnTo>
                <a:lnTo>
                  <a:pt x="116" y="760"/>
                </a:lnTo>
                <a:lnTo>
                  <a:pt x="134" y="751"/>
                </a:lnTo>
                <a:lnTo>
                  <a:pt x="152" y="742"/>
                </a:lnTo>
                <a:lnTo>
                  <a:pt x="170" y="733"/>
                </a:lnTo>
                <a:lnTo>
                  <a:pt x="179" y="724"/>
                </a:lnTo>
                <a:lnTo>
                  <a:pt x="206" y="706"/>
                </a:lnTo>
                <a:lnTo>
                  <a:pt x="259" y="679"/>
                </a:lnTo>
                <a:lnTo>
                  <a:pt x="286" y="670"/>
                </a:lnTo>
                <a:lnTo>
                  <a:pt x="313" y="661"/>
                </a:lnTo>
                <a:lnTo>
                  <a:pt x="376" y="635"/>
                </a:lnTo>
                <a:lnTo>
                  <a:pt x="403" y="617"/>
                </a:lnTo>
                <a:lnTo>
                  <a:pt x="429" y="608"/>
                </a:lnTo>
                <a:lnTo>
                  <a:pt x="492" y="572"/>
                </a:lnTo>
                <a:lnTo>
                  <a:pt x="528" y="554"/>
                </a:lnTo>
                <a:lnTo>
                  <a:pt x="564" y="536"/>
                </a:lnTo>
                <a:lnTo>
                  <a:pt x="626" y="509"/>
                </a:lnTo>
                <a:lnTo>
                  <a:pt x="671" y="492"/>
                </a:lnTo>
                <a:lnTo>
                  <a:pt x="707" y="474"/>
                </a:lnTo>
                <a:lnTo>
                  <a:pt x="778" y="447"/>
                </a:lnTo>
                <a:lnTo>
                  <a:pt x="823" y="429"/>
                </a:lnTo>
                <a:lnTo>
                  <a:pt x="868" y="411"/>
                </a:lnTo>
                <a:lnTo>
                  <a:pt x="939" y="384"/>
                </a:lnTo>
                <a:lnTo>
                  <a:pt x="975" y="375"/>
                </a:lnTo>
                <a:lnTo>
                  <a:pt x="1011" y="366"/>
                </a:lnTo>
                <a:lnTo>
                  <a:pt x="1074" y="340"/>
                </a:lnTo>
                <a:lnTo>
                  <a:pt x="1109" y="322"/>
                </a:lnTo>
                <a:lnTo>
                  <a:pt x="1145" y="313"/>
                </a:lnTo>
                <a:lnTo>
                  <a:pt x="1199" y="295"/>
                </a:lnTo>
                <a:lnTo>
                  <a:pt x="1226" y="286"/>
                </a:lnTo>
                <a:lnTo>
                  <a:pt x="1253" y="277"/>
                </a:lnTo>
                <a:lnTo>
                  <a:pt x="1306" y="250"/>
                </a:lnTo>
                <a:lnTo>
                  <a:pt x="1324" y="241"/>
                </a:lnTo>
                <a:lnTo>
                  <a:pt x="1333" y="232"/>
                </a:lnTo>
                <a:lnTo>
                  <a:pt x="1360" y="214"/>
                </a:lnTo>
                <a:lnTo>
                  <a:pt x="1387" y="196"/>
                </a:lnTo>
                <a:lnTo>
                  <a:pt x="1414" y="179"/>
                </a:lnTo>
                <a:lnTo>
                  <a:pt x="1440" y="161"/>
                </a:lnTo>
                <a:lnTo>
                  <a:pt x="1458" y="152"/>
                </a:lnTo>
                <a:lnTo>
                  <a:pt x="1494" y="134"/>
                </a:lnTo>
                <a:lnTo>
                  <a:pt x="1521" y="116"/>
                </a:lnTo>
                <a:lnTo>
                  <a:pt x="1539" y="107"/>
                </a:lnTo>
                <a:lnTo>
                  <a:pt x="1548" y="98"/>
                </a:lnTo>
                <a:lnTo>
                  <a:pt x="1557" y="89"/>
                </a:lnTo>
                <a:lnTo>
                  <a:pt x="1584" y="62"/>
                </a:lnTo>
                <a:lnTo>
                  <a:pt x="1602" y="45"/>
                </a:lnTo>
                <a:lnTo>
                  <a:pt x="1610" y="36"/>
                </a:lnTo>
                <a:lnTo>
                  <a:pt x="1646" y="18"/>
                </a:lnTo>
                <a:lnTo>
                  <a:pt x="1664" y="9"/>
                </a:lnTo>
                <a:lnTo>
                  <a:pt x="1682" y="9"/>
                </a:lnTo>
                <a:lnTo>
                  <a:pt x="1718" y="0"/>
                </a:lnTo>
                <a:lnTo>
                  <a:pt x="1727" y="0"/>
                </a:lnTo>
                <a:lnTo>
                  <a:pt x="1736" y="9"/>
                </a:lnTo>
                <a:lnTo>
                  <a:pt x="1754" y="18"/>
                </a:lnTo>
                <a:lnTo>
                  <a:pt x="1763" y="18"/>
                </a:lnTo>
                <a:lnTo>
                  <a:pt x="1772" y="27"/>
                </a:lnTo>
                <a:lnTo>
                  <a:pt x="1798" y="36"/>
                </a:lnTo>
                <a:lnTo>
                  <a:pt x="1807" y="45"/>
                </a:lnTo>
                <a:lnTo>
                  <a:pt x="1825" y="53"/>
                </a:lnTo>
                <a:lnTo>
                  <a:pt x="1852" y="80"/>
                </a:lnTo>
                <a:lnTo>
                  <a:pt x="1861" y="98"/>
                </a:lnTo>
                <a:lnTo>
                  <a:pt x="1870" y="116"/>
                </a:lnTo>
                <a:lnTo>
                  <a:pt x="1897" y="143"/>
                </a:lnTo>
                <a:lnTo>
                  <a:pt x="1906" y="152"/>
                </a:lnTo>
                <a:lnTo>
                  <a:pt x="1915" y="170"/>
                </a:lnTo>
                <a:lnTo>
                  <a:pt x="1933" y="196"/>
                </a:lnTo>
                <a:lnTo>
                  <a:pt x="1942" y="205"/>
                </a:lnTo>
                <a:lnTo>
                  <a:pt x="1950" y="214"/>
                </a:lnTo>
                <a:lnTo>
                  <a:pt x="1959" y="241"/>
                </a:lnTo>
                <a:lnTo>
                  <a:pt x="1968" y="250"/>
                </a:lnTo>
                <a:lnTo>
                  <a:pt x="1977" y="268"/>
                </a:lnTo>
                <a:lnTo>
                  <a:pt x="1995" y="295"/>
                </a:lnTo>
                <a:lnTo>
                  <a:pt x="2004" y="313"/>
                </a:lnTo>
                <a:lnTo>
                  <a:pt x="2013" y="331"/>
                </a:lnTo>
                <a:lnTo>
                  <a:pt x="2031" y="357"/>
                </a:lnTo>
                <a:lnTo>
                  <a:pt x="2040" y="375"/>
                </a:lnTo>
                <a:lnTo>
                  <a:pt x="2058" y="393"/>
                </a:lnTo>
                <a:lnTo>
                  <a:pt x="2076" y="429"/>
                </a:lnTo>
                <a:lnTo>
                  <a:pt x="2085" y="438"/>
                </a:lnTo>
                <a:lnTo>
                  <a:pt x="2094" y="456"/>
                </a:lnTo>
                <a:lnTo>
                  <a:pt x="2111" y="483"/>
                </a:lnTo>
                <a:lnTo>
                  <a:pt x="2120" y="500"/>
                </a:lnTo>
                <a:lnTo>
                  <a:pt x="2138" y="518"/>
                </a:lnTo>
                <a:lnTo>
                  <a:pt x="2156" y="554"/>
                </a:lnTo>
                <a:lnTo>
                  <a:pt x="2165" y="563"/>
                </a:lnTo>
                <a:lnTo>
                  <a:pt x="2174" y="572"/>
                </a:lnTo>
                <a:lnTo>
                  <a:pt x="2192" y="590"/>
                </a:lnTo>
                <a:lnTo>
                  <a:pt x="2210" y="608"/>
                </a:lnTo>
                <a:lnTo>
                  <a:pt x="2228" y="635"/>
                </a:lnTo>
                <a:lnTo>
                  <a:pt x="2237" y="643"/>
                </a:lnTo>
                <a:lnTo>
                  <a:pt x="2246" y="652"/>
                </a:lnTo>
                <a:lnTo>
                  <a:pt x="2281" y="706"/>
                </a:lnTo>
                <a:lnTo>
                  <a:pt x="2317" y="751"/>
                </a:lnTo>
                <a:lnTo>
                  <a:pt x="2353" y="804"/>
                </a:lnTo>
                <a:lnTo>
                  <a:pt x="2380" y="840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71560" y="2911320"/>
            <a:ext cx="3779640" cy="1335240"/>
          </a:xfrm>
          <a:custGeom>
            <a:avLst/>
            <a:gdLst/>
            <a:ahLst/>
            <a:rect l="l" t="t" r="r" b="b"/>
            <a:pathLst>
              <a:path w="2381" h="841">
                <a:moveTo>
                  <a:pt x="0" y="804"/>
                </a:moveTo>
                <a:lnTo>
                  <a:pt x="18" y="795"/>
                </a:lnTo>
                <a:lnTo>
                  <a:pt x="54" y="787"/>
                </a:lnTo>
                <a:lnTo>
                  <a:pt x="72" y="778"/>
                </a:lnTo>
                <a:lnTo>
                  <a:pt x="99" y="769"/>
                </a:lnTo>
                <a:lnTo>
                  <a:pt x="117" y="760"/>
                </a:lnTo>
                <a:lnTo>
                  <a:pt x="135" y="751"/>
                </a:lnTo>
                <a:lnTo>
                  <a:pt x="153" y="742"/>
                </a:lnTo>
                <a:lnTo>
                  <a:pt x="170" y="733"/>
                </a:lnTo>
                <a:lnTo>
                  <a:pt x="179" y="724"/>
                </a:lnTo>
                <a:lnTo>
                  <a:pt x="206" y="706"/>
                </a:lnTo>
                <a:lnTo>
                  <a:pt x="260" y="679"/>
                </a:lnTo>
                <a:lnTo>
                  <a:pt x="287" y="670"/>
                </a:lnTo>
                <a:lnTo>
                  <a:pt x="314" y="661"/>
                </a:lnTo>
                <a:lnTo>
                  <a:pt x="376" y="635"/>
                </a:lnTo>
                <a:lnTo>
                  <a:pt x="403" y="617"/>
                </a:lnTo>
                <a:lnTo>
                  <a:pt x="430" y="608"/>
                </a:lnTo>
                <a:lnTo>
                  <a:pt x="493" y="572"/>
                </a:lnTo>
                <a:lnTo>
                  <a:pt x="528" y="554"/>
                </a:lnTo>
                <a:lnTo>
                  <a:pt x="564" y="536"/>
                </a:lnTo>
                <a:lnTo>
                  <a:pt x="627" y="509"/>
                </a:lnTo>
                <a:lnTo>
                  <a:pt x="671" y="492"/>
                </a:lnTo>
                <a:lnTo>
                  <a:pt x="707" y="474"/>
                </a:lnTo>
                <a:lnTo>
                  <a:pt x="779" y="447"/>
                </a:lnTo>
                <a:lnTo>
                  <a:pt x="824" y="429"/>
                </a:lnTo>
                <a:lnTo>
                  <a:pt x="868" y="411"/>
                </a:lnTo>
                <a:lnTo>
                  <a:pt x="940" y="384"/>
                </a:lnTo>
                <a:lnTo>
                  <a:pt x="976" y="375"/>
                </a:lnTo>
                <a:lnTo>
                  <a:pt x="1011" y="366"/>
                </a:lnTo>
                <a:lnTo>
                  <a:pt x="1074" y="340"/>
                </a:lnTo>
                <a:lnTo>
                  <a:pt x="1110" y="322"/>
                </a:lnTo>
                <a:lnTo>
                  <a:pt x="1146" y="313"/>
                </a:lnTo>
                <a:lnTo>
                  <a:pt x="1199" y="295"/>
                </a:lnTo>
                <a:lnTo>
                  <a:pt x="1226" y="286"/>
                </a:lnTo>
                <a:lnTo>
                  <a:pt x="1253" y="277"/>
                </a:lnTo>
                <a:lnTo>
                  <a:pt x="1307" y="250"/>
                </a:lnTo>
                <a:lnTo>
                  <a:pt x="1325" y="241"/>
                </a:lnTo>
                <a:lnTo>
                  <a:pt x="1334" y="232"/>
                </a:lnTo>
                <a:lnTo>
                  <a:pt x="1360" y="214"/>
                </a:lnTo>
                <a:lnTo>
                  <a:pt x="1387" y="196"/>
                </a:lnTo>
                <a:lnTo>
                  <a:pt x="1414" y="179"/>
                </a:lnTo>
                <a:lnTo>
                  <a:pt x="1441" y="161"/>
                </a:lnTo>
                <a:lnTo>
                  <a:pt x="1459" y="152"/>
                </a:lnTo>
                <a:lnTo>
                  <a:pt x="1495" y="134"/>
                </a:lnTo>
                <a:lnTo>
                  <a:pt x="1521" y="116"/>
                </a:lnTo>
                <a:lnTo>
                  <a:pt x="1539" y="107"/>
                </a:lnTo>
                <a:lnTo>
                  <a:pt x="1548" y="98"/>
                </a:lnTo>
                <a:lnTo>
                  <a:pt x="1557" y="89"/>
                </a:lnTo>
                <a:lnTo>
                  <a:pt x="1584" y="62"/>
                </a:lnTo>
                <a:lnTo>
                  <a:pt x="1602" y="45"/>
                </a:lnTo>
                <a:lnTo>
                  <a:pt x="1611" y="36"/>
                </a:lnTo>
                <a:lnTo>
                  <a:pt x="1647" y="18"/>
                </a:lnTo>
                <a:lnTo>
                  <a:pt x="1665" y="9"/>
                </a:lnTo>
                <a:lnTo>
                  <a:pt x="1682" y="9"/>
                </a:lnTo>
                <a:lnTo>
                  <a:pt x="1718" y="0"/>
                </a:lnTo>
                <a:lnTo>
                  <a:pt x="1727" y="0"/>
                </a:lnTo>
                <a:lnTo>
                  <a:pt x="1736" y="9"/>
                </a:lnTo>
                <a:lnTo>
                  <a:pt x="1754" y="18"/>
                </a:lnTo>
                <a:lnTo>
                  <a:pt x="1763" y="18"/>
                </a:lnTo>
                <a:lnTo>
                  <a:pt x="1772" y="27"/>
                </a:lnTo>
                <a:lnTo>
                  <a:pt x="1799" y="36"/>
                </a:lnTo>
                <a:lnTo>
                  <a:pt x="1808" y="45"/>
                </a:lnTo>
                <a:lnTo>
                  <a:pt x="1826" y="53"/>
                </a:lnTo>
                <a:lnTo>
                  <a:pt x="1852" y="80"/>
                </a:lnTo>
                <a:lnTo>
                  <a:pt x="1861" y="98"/>
                </a:lnTo>
                <a:lnTo>
                  <a:pt x="1870" y="116"/>
                </a:lnTo>
                <a:lnTo>
                  <a:pt x="1897" y="143"/>
                </a:lnTo>
                <a:lnTo>
                  <a:pt x="1906" y="152"/>
                </a:lnTo>
                <a:lnTo>
                  <a:pt x="1915" y="170"/>
                </a:lnTo>
                <a:lnTo>
                  <a:pt x="1933" y="196"/>
                </a:lnTo>
                <a:lnTo>
                  <a:pt x="1942" y="205"/>
                </a:lnTo>
                <a:lnTo>
                  <a:pt x="1951" y="214"/>
                </a:lnTo>
                <a:lnTo>
                  <a:pt x="1960" y="241"/>
                </a:lnTo>
                <a:lnTo>
                  <a:pt x="1969" y="250"/>
                </a:lnTo>
                <a:lnTo>
                  <a:pt x="1978" y="268"/>
                </a:lnTo>
                <a:lnTo>
                  <a:pt x="1996" y="295"/>
                </a:lnTo>
                <a:lnTo>
                  <a:pt x="2005" y="313"/>
                </a:lnTo>
                <a:lnTo>
                  <a:pt x="2014" y="331"/>
                </a:lnTo>
                <a:lnTo>
                  <a:pt x="2031" y="357"/>
                </a:lnTo>
                <a:lnTo>
                  <a:pt x="2040" y="375"/>
                </a:lnTo>
                <a:lnTo>
                  <a:pt x="2058" y="393"/>
                </a:lnTo>
                <a:lnTo>
                  <a:pt x="2076" y="429"/>
                </a:lnTo>
                <a:lnTo>
                  <a:pt x="2085" y="438"/>
                </a:lnTo>
                <a:lnTo>
                  <a:pt x="2094" y="456"/>
                </a:lnTo>
                <a:lnTo>
                  <a:pt x="2112" y="483"/>
                </a:lnTo>
                <a:lnTo>
                  <a:pt x="2121" y="500"/>
                </a:lnTo>
                <a:lnTo>
                  <a:pt x="2139" y="518"/>
                </a:lnTo>
                <a:lnTo>
                  <a:pt x="2157" y="554"/>
                </a:lnTo>
                <a:lnTo>
                  <a:pt x="2166" y="563"/>
                </a:lnTo>
                <a:lnTo>
                  <a:pt x="2175" y="572"/>
                </a:lnTo>
                <a:lnTo>
                  <a:pt x="2192" y="590"/>
                </a:lnTo>
                <a:lnTo>
                  <a:pt x="2210" y="608"/>
                </a:lnTo>
                <a:lnTo>
                  <a:pt x="2228" y="635"/>
                </a:lnTo>
                <a:lnTo>
                  <a:pt x="2237" y="643"/>
                </a:lnTo>
                <a:lnTo>
                  <a:pt x="2246" y="652"/>
                </a:lnTo>
                <a:lnTo>
                  <a:pt x="2282" y="706"/>
                </a:lnTo>
                <a:lnTo>
                  <a:pt x="2318" y="751"/>
                </a:lnTo>
                <a:lnTo>
                  <a:pt x="2353" y="804"/>
                </a:lnTo>
                <a:lnTo>
                  <a:pt x="2380" y="840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70680" y="2911320"/>
            <a:ext cx="3779640" cy="1320840"/>
          </a:xfrm>
          <a:custGeom>
            <a:avLst/>
            <a:gdLst/>
            <a:ahLst/>
            <a:rect l="l" t="t" r="r" b="b"/>
            <a:pathLst>
              <a:path w="2381" h="832">
                <a:moveTo>
                  <a:pt x="0" y="643"/>
                </a:moveTo>
                <a:lnTo>
                  <a:pt x="18" y="635"/>
                </a:lnTo>
                <a:lnTo>
                  <a:pt x="72" y="608"/>
                </a:lnTo>
                <a:lnTo>
                  <a:pt x="89" y="599"/>
                </a:lnTo>
                <a:lnTo>
                  <a:pt x="116" y="590"/>
                </a:lnTo>
                <a:lnTo>
                  <a:pt x="170" y="572"/>
                </a:lnTo>
                <a:lnTo>
                  <a:pt x="197" y="563"/>
                </a:lnTo>
                <a:lnTo>
                  <a:pt x="224" y="554"/>
                </a:lnTo>
                <a:lnTo>
                  <a:pt x="286" y="536"/>
                </a:lnTo>
                <a:lnTo>
                  <a:pt x="313" y="527"/>
                </a:lnTo>
                <a:lnTo>
                  <a:pt x="322" y="527"/>
                </a:lnTo>
                <a:lnTo>
                  <a:pt x="367" y="509"/>
                </a:lnTo>
                <a:lnTo>
                  <a:pt x="412" y="492"/>
                </a:lnTo>
                <a:lnTo>
                  <a:pt x="456" y="474"/>
                </a:lnTo>
                <a:lnTo>
                  <a:pt x="483" y="465"/>
                </a:lnTo>
                <a:lnTo>
                  <a:pt x="510" y="456"/>
                </a:lnTo>
                <a:lnTo>
                  <a:pt x="564" y="438"/>
                </a:lnTo>
                <a:lnTo>
                  <a:pt x="608" y="420"/>
                </a:lnTo>
                <a:lnTo>
                  <a:pt x="644" y="411"/>
                </a:lnTo>
                <a:lnTo>
                  <a:pt x="662" y="402"/>
                </a:lnTo>
                <a:lnTo>
                  <a:pt x="707" y="393"/>
                </a:lnTo>
                <a:lnTo>
                  <a:pt x="769" y="375"/>
                </a:lnTo>
                <a:lnTo>
                  <a:pt x="805" y="357"/>
                </a:lnTo>
                <a:lnTo>
                  <a:pt x="841" y="348"/>
                </a:lnTo>
                <a:lnTo>
                  <a:pt x="913" y="331"/>
                </a:lnTo>
                <a:lnTo>
                  <a:pt x="957" y="313"/>
                </a:lnTo>
                <a:lnTo>
                  <a:pt x="984" y="304"/>
                </a:lnTo>
                <a:lnTo>
                  <a:pt x="1020" y="295"/>
                </a:lnTo>
                <a:lnTo>
                  <a:pt x="1056" y="286"/>
                </a:lnTo>
                <a:lnTo>
                  <a:pt x="1083" y="277"/>
                </a:lnTo>
                <a:lnTo>
                  <a:pt x="1092" y="277"/>
                </a:lnTo>
                <a:lnTo>
                  <a:pt x="1109" y="277"/>
                </a:lnTo>
                <a:lnTo>
                  <a:pt x="1172" y="259"/>
                </a:lnTo>
                <a:lnTo>
                  <a:pt x="1199" y="250"/>
                </a:lnTo>
                <a:lnTo>
                  <a:pt x="1226" y="241"/>
                </a:lnTo>
                <a:lnTo>
                  <a:pt x="1297" y="214"/>
                </a:lnTo>
                <a:lnTo>
                  <a:pt x="1324" y="205"/>
                </a:lnTo>
                <a:lnTo>
                  <a:pt x="1351" y="196"/>
                </a:lnTo>
                <a:lnTo>
                  <a:pt x="1414" y="170"/>
                </a:lnTo>
                <a:lnTo>
                  <a:pt x="1449" y="152"/>
                </a:lnTo>
                <a:lnTo>
                  <a:pt x="1467" y="143"/>
                </a:lnTo>
                <a:lnTo>
                  <a:pt x="1503" y="125"/>
                </a:lnTo>
                <a:lnTo>
                  <a:pt x="1530" y="107"/>
                </a:lnTo>
                <a:lnTo>
                  <a:pt x="1539" y="98"/>
                </a:lnTo>
                <a:lnTo>
                  <a:pt x="1548" y="89"/>
                </a:lnTo>
                <a:lnTo>
                  <a:pt x="1566" y="80"/>
                </a:lnTo>
                <a:lnTo>
                  <a:pt x="1584" y="62"/>
                </a:lnTo>
                <a:lnTo>
                  <a:pt x="1602" y="45"/>
                </a:lnTo>
                <a:lnTo>
                  <a:pt x="1610" y="36"/>
                </a:lnTo>
                <a:lnTo>
                  <a:pt x="1646" y="18"/>
                </a:lnTo>
                <a:lnTo>
                  <a:pt x="1664" y="9"/>
                </a:lnTo>
                <a:lnTo>
                  <a:pt x="1673" y="9"/>
                </a:lnTo>
                <a:lnTo>
                  <a:pt x="1682" y="0"/>
                </a:lnTo>
                <a:lnTo>
                  <a:pt x="1700" y="0"/>
                </a:lnTo>
                <a:lnTo>
                  <a:pt x="1727" y="0"/>
                </a:lnTo>
                <a:lnTo>
                  <a:pt x="1736" y="0"/>
                </a:lnTo>
                <a:lnTo>
                  <a:pt x="1754" y="9"/>
                </a:lnTo>
                <a:lnTo>
                  <a:pt x="1763" y="9"/>
                </a:lnTo>
                <a:lnTo>
                  <a:pt x="1772" y="18"/>
                </a:lnTo>
                <a:lnTo>
                  <a:pt x="1798" y="36"/>
                </a:lnTo>
                <a:lnTo>
                  <a:pt x="1807" y="45"/>
                </a:lnTo>
                <a:lnTo>
                  <a:pt x="1825" y="53"/>
                </a:lnTo>
                <a:lnTo>
                  <a:pt x="1852" y="80"/>
                </a:lnTo>
                <a:lnTo>
                  <a:pt x="1861" y="89"/>
                </a:lnTo>
                <a:lnTo>
                  <a:pt x="1870" y="107"/>
                </a:lnTo>
                <a:lnTo>
                  <a:pt x="1897" y="134"/>
                </a:lnTo>
                <a:lnTo>
                  <a:pt x="1906" y="143"/>
                </a:lnTo>
                <a:lnTo>
                  <a:pt x="1915" y="161"/>
                </a:lnTo>
                <a:lnTo>
                  <a:pt x="1933" y="188"/>
                </a:lnTo>
                <a:lnTo>
                  <a:pt x="1942" y="196"/>
                </a:lnTo>
                <a:lnTo>
                  <a:pt x="1950" y="214"/>
                </a:lnTo>
                <a:lnTo>
                  <a:pt x="1959" y="241"/>
                </a:lnTo>
                <a:lnTo>
                  <a:pt x="1968" y="250"/>
                </a:lnTo>
                <a:lnTo>
                  <a:pt x="1977" y="259"/>
                </a:lnTo>
                <a:lnTo>
                  <a:pt x="1995" y="286"/>
                </a:lnTo>
                <a:lnTo>
                  <a:pt x="2004" y="304"/>
                </a:lnTo>
                <a:lnTo>
                  <a:pt x="2013" y="322"/>
                </a:lnTo>
                <a:lnTo>
                  <a:pt x="2031" y="357"/>
                </a:lnTo>
                <a:lnTo>
                  <a:pt x="2040" y="375"/>
                </a:lnTo>
                <a:lnTo>
                  <a:pt x="2058" y="393"/>
                </a:lnTo>
                <a:lnTo>
                  <a:pt x="2076" y="429"/>
                </a:lnTo>
                <a:lnTo>
                  <a:pt x="2085" y="438"/>
                </a:lnTo>
                <a:lnTo>
                  <a:pt x="2094" y="456"/>
                </a:lnTo>
                <a:lnTo>
                  <a:pt x="2111" y="483"/>
                </a:lnTo>
                <a:lnTo>
                  <a:pt x="2120" y="500"/>
                </a:lnTo>
                <a:lnTo>
                  <a:pt x="2138" y="518"/>
                </a:lnTo>
                <a:lnTo>
                  <a:pt x="2156" y="545"/>
                </a:lnTo>
                <a:lnTo>
                  <a:pt x="2165" y="554"/>
                </a:lnTo>
                <a:lnTo>
                  <a:pt x="2183" y="572"/>
                </a:lnTo>
                <a:lnTo>
                  <a:pt x="2219" y="617"/>
                </a:lnTo>
                <a:lnTo>
                  <a:pt x="2237" y="643"/>
                </a:lnTo>
                <a:lnTo>
                  <a:pt x="2246" y="652"/>
                </a:lnTo>
                <a:lnTo>
                  <a:pt x="2255" y="661"/>
                </a:lnTo>
                <a:lnTo>
                  <a:pt x="2273" y="688"/>
                </a:lnTo>
                <a:lnTo>
                  <a:pt x="2290" y="706"/>
                </a:lnTo>
                <a:lnTo>
                  <a:pt x="2308" y="733"/>
                </a:lnTo>
                <a:lnTo>
                  <a:pt x="2326" y="760"/>
                </a:lnTo>
                <a:lnTo>
                  <a:pt x="2344" y="778"/>
                </a:lnTo>
                <a:lnTo>
                  <a:pt x="2371" y="822"/>
                </a:lnTo>
                <a:lnTo>
                  <a:pt x="2380" y="831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50080" y="2322360"/>
            <a:ext cx="742680" cy="24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0360" y="2306520"/>
            <a:ext cx="721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lop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62720" y="3387600"/>
            <a:ext cx="342720" cy="201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36080" y="3357720"/>
            <a:ext cx="36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86600" y="3784680"/>
            <a:ext cx="344520" cy="201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75800" y="3754440"/>
            <a:ext cx="364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2322360"/>
            <a:ext cx="741240" cy="24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53520" y="2306520"/>
            <a:ext cx="721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10040" y="3755880"/>
            <a:ext cx="741240" cy="24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42800" y="3740040"/>
            <a:ext cx="638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i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73280" y="5087880"/>
            <a:ext cx="655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:  100/35,30,25/15,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Phonak Matrice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71320" y="2190240"/>
            <a:ext cx="9188280" cy="34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17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K-Amp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 Class D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SuperC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8cf4ea"/>
                </a:solidFill>
                <a:latin typeface="Book Antiqua"/>
              </a:rPr>
              <a:t>WDRC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/9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/85/2•6•12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/100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/95/2•6•12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/105/2•6•12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/105/2•6•12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/110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/105/2•6•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/105/2•6•12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286000"/>
                <a:tab algn="l" pos="45720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Couplers (artificial ears)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ormal ear canal has about 4-cc volum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Ear with earmold or hearing aid is about 2-cc volume between earmold and TM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ypes of 2-cc couplers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HA-1 (for ITE and ITC aids)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HA-2 (for BTE, eyeglass, and body aids)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earing Aid Graphs With Data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"/>
          <p:cNvSpPr/>
          <p:nvPr/>
        </p:nvSpPr>
        <p:spPr>
          <a:xfrm>
            <a:off x="5925960" y="1730520"/>
            <a:ext cx="3519720" cy="1780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24520" y="1727280"/>
            <a:ext cx="3522600" cy="1785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3728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1836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5311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71976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1668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1360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31844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940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81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91676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1368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31060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2948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72640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9233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12816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30924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32440" y="2100240"/>
            <a:ext cx="352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32440" y="2465280"/>
            <a:ext cx="352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932440" y="2830680"/>
            <a:ext cx="352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932440" y="3209760"/>
            <a:ext cx="352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26480" y="34941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53600" y="3494160"/>
            <a:ext cx="33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410960" y="349416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99416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59284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17712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42920" y="33782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95320" y="269244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95320" y="232740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95680" y="1947960"/>
            <a:ext cx="52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2920" y="30574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409320" y="33638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02680" y="2678040"/>
            <a:ext cx="68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9202680" y="2298600"/>
            <a:ext cx="68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202680" y="1947960"/>
            <a:ext cx="68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483120" y="3041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130800" y="2124000"/>
            <a:ext cx="2818080" cy="1300320"/>
          </a:xfrm>
          <a:custGeom>
            <a:avLst/>
            <a:gdLst/>
            <a:ahLst/>
            <a:rect l="l" t="t" r="r" b="b"/>
            <a:pathLst>
              <a:path w="1775" h="819">
                <a:moveTo>
                  <a:pt x="0" y="781"/>
                </a:moveTo>
                <a:lnTo>
                  <a:pt x="27" y="763"/>
                </a:lnTo>
                <a:lnTo>
                  <a:pt x="82" y="726"/>
                </a:lnTo>
                <a:lnTo>
                  <a:pt x="137" y="680"/>
                </a:lnTo>
                <a:lnTo>
                  <a:pt x="183" y="634"/>
                </a:lnTo>
                <a:lnTo>
                  <a:pt x="202" y="606"/>
                </a:lnTo>
                <a:lnTo>
                  <a:pt x="248" y="560"/>
                </a:lnTo>
                <a:lnTo>
                  <a:pt x="340" y="468"/>
                </a:lnTo>
                <a:lnTo>
                  <a:pt x="386" y="422"/>
                </a:lnTo>
                <a:lnTo>
                  <a:pt x="413" y="404"/>
                </a:lnTo>
                <a:lnTo>
                  <a:pt x="459" y="367"/>
                </a:lnTo>
                <a:lnTo>
                  <a:pt x="505" y="340"/>
                </a:lnTo>
                <a:lnTo>
                  <a:pt x="542" y="312"/>
                </a:lnTo>
                <a:lnTo>
                  <a:pt x="560" y="303"/>
                </a:lnTo>
                <a:lnTo>
                  <a:pt x="579" y="294"/>
                </a:lnTo>
                <a:lnTo>
                  <a:pt x="625" y="275"/>
                </a:lnTo>
                <a:lnTo>
                  <a:pt x="671" y="257"/>
                </a:lnTo>
                <a:lnTo>
                  <a:pt x="726" y="239"/>
                </a:lnTo>
                <a:lnTo>
                  <a:pt x="753" y="229"/>
                </a:lnTo>
                <a:lnTo>
                  <a:pt x="781" y="229"/>
                </a:lnTo>
                <a:lnTo>
                  <a:pt x="836" y="211"/>
                </a:lnTo>
                <a:lnTo>
                  <a:pt x="882" y="193"/>
                </a:lnTo>
                <a:lnTo>
                  <a:pt x="919" y="174"/>
                </a:lnTo>
                <a:lnTo>
                  <a:pt x="928" y="165"/>
                </a:lnTo>
                <a:lnTo>
                  <a:pt x="965" y="147"/>
                </a:lnTo>
                <a:lnTo>
                  <a:pt x="1038" y="92"/>
                </a:lnTo>
                <a:lnTo>
                  <a:pt x="1075" y="55"/>
                </a:lnTo>
                <a:lnTo>
                  <a:pt x="1094" y="36"/>
                </a:lnTo>
                <a:lnTo>
                  <a:pt x="1121" y="18"/>
                </a:lnTo>
                <a:lnTo>
                  <a:pt x="1158" y="0"/>
                </a:lnTo>
                <a:lnTo>
                  <a:pt x="1176" y="0"/>
                </a:lnTo>
                <a:lnTo>
                  <a:pt x="1185" y="0"/>
                </a:lnTo>
                <a:lnTo>
                  <a:pt x="1195" y="9"/>
                </a:lnTo>
                <a:lnTo>
                  <a:pt x="1222" y="18"/>
                </a:lnTo>
                <a:lnTo>
                  <a:pt x="1241" y="36"/>
                </a:lnTo>
                <a:lnTo>
                  <a:pt x="1268" y="55"/>
                </a:lnTo>
                <a:lnTo>
                  <a:pt x="1277" y="64"/>
                </a:lnTo>
                <a:lnTo>
                  <a:pt x="1287" y="73"/>
                </a:lnTo>
                <a:lnTo>
                  <a:pt x="1305" y="82"/>
                </a:lnTo>
                <a:lnTo>
                  <a:pt x="1323" y="92"/>
                </a:lnTo>
                <a:lnTo>
                  <a:pt x="1333" y="92"/>
                </a:lnTo>
                <a:lnTo>
                  <a:pt x="1351" y="101"/>
                </a:lnTo>
                <a:lnTo>
                  <a:pt x="1360" y="101"/>
                </a:lnTo>
                <a:lnTo>
                  <a:pt x="1388" y="92"/>
                </a:lnTo>
                <a:lnTo>
                  <a:pt x="1397" y="92"/>
                </a:lnTo>
                <a:lnTo>
                  <a:pt x="1406" y="82"/>
                </a:lnTo>
                <a:lnTo>
                  <a:pt x="1434" y="73"/>
                </a:lnTo>
                <a:lnTo>
                  <a:pt x="1452" y="73"/>
                </a:lnTo>
                <a:lnTo>
                  <a:pt x="1470" y="82"/>
                </a:lnTo>
                <a:lnTo>
                  <a:pt x="1489" y="92"/>
                </a:lnTo>
                <a:lnTo>
                  <a:pt x="1498" y="101"/>
                </a:lnTo>
                <a:lnTo>
                  <a:pt x="1507" y="119"/>
                </a:lnTo>
                <a:lnTo>
                  <a:pt x="1516" y="138"/>
                </a:lnTo>
                <a:lnTo>
                  <a:pt x="1535" y="183"/>
                </a:lnTo>
                <a:lnTo>
                  <a:pt x="1553" y="229"/>
                </a:lnTo>
                <a:lnTo>
                  <a:pt x="1562" y="285"/>
                </a:lnTo>
                <a:lnTo>
                  <a:pt x="1572" y="321"/>
                </a:lnTo>
                <a:lnTo>
                  <a:pt x="1581" y="358"/>
                </a:lnTo>
                <a:lnTo>
                  <a:pt x="1590" y="413"/>
                </a:lnTo>
                <a:lnTo>
                  <a:pt x="1608" y="478"/>
                </a:lnTo>
                <a:lnTo>
                  <a:pt x="1636" y="551"/>
                </a:lnTo>
                <a:lnTo>
                  <a:pt x="1654" y="588"/>
                </a:lnTo>
                <a:lnTo>
                  <a:pt x="1673" y="625"/>
                </a:lnTo>
                <a:lnTo>
                  <a:pt x="1700" y="689"/>
                </a:lnTo>
                <a:lnTo>
                  <a:pt x="1728" y="744"/>
                </a:lnTo>
                <a:lnTo>
                  <a:pt x="1765" y="799"/>
                </a:lnTo>
                <a:lnTo>
                  <a:pt x="1774" y="818"/>
                </a:lnTo>
              </a:path>
            </a:pathLst>
          </a:custGeom>
          <a:noFill/>
          <a:ln cap="rnd" w="255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127920" y="2311560"/>
            <a:ext cx="2819160" cy="1109520"/>
          </a:xfrm>
          <a:custGeom>
            <a:avLst/>
            <a:gdLst/>
            <a:ahLst/>
            <a:rect l="l" t="t" r="r" b="b"/>
            <a:pathLst>
              <a:path w="1776" h="699">
                <a:moveTo>
                  <a:pt x="0" y="331"/>
                </a:moveTo>
                <a:lnTo>
                  <a:pt x="46" y="312"/>
                </a:lnTo>
                <a:lnTo>
                  <a:pt x="138" y="285"/>
                </a:lnTo>
                <a:lnTo>
                  <a:pt x="221" y="257"/>
                </a:lnTo>
                <a:lnTo>
                  <a:pt x="295" y="230"/>
                </a:lnTo>
                <a:lnTo>
                  <a:pt x="331" y="221"/>
                </a:lnTo>
                <a:lnTo>
                  <a:pt x="368" y="211"/>
                </a:lnTo>
                <a:lnTo>
                  <a:pt x="432" y="193"/>
                </a:lnTo>
                <a:lnTo>
                  <a:pt x="488" y="184"/>
                </a:lnTo>
                <a:lnTo>
                  <a:pt x="534" y="193"/>
                </a:lnTo>
                <a:lnTo>
                  <a:pt x="552" y="193"/>
                </a:lnTo>
                <a:lnTo>
                  <a:pt x="561" y="193"/>
                </a:lnTo>
                <a:lnTo>
                  <a:pt x="616" y="193"/>
                </a:lnTo>
                <a:lnTo>
                  <a:pt x="662" y="184"/>
                </a:lnTo>
                <a:lnTo>
                  <a:pt x="717" y="175"/>
                </a:lnTo>
                <a:lnTo>
                  <a:pt x="745" y="165"/>
                </a:lnTo>
                <a:lnTo>
                  <a:pt x="773" y="156"/>
                </a:lnTo>
                <a:lnTo>
                  <a:pt x="828" y="138"/>
                </a:lnTo>
                <a:lnTo>
                  <a:pt x="864" y="129"/>
                </a:lnTo>
                <a:lnTo>
                  <a:pt x="901" y="119"/>
                </a:lnTo>
                <a:lnTo>
                  <a:pt x="920" y="110"/>
                </a:lnTo>
                <a:lnTo>
                  <a:pt x="929" y="110"/>
                </a:lnTo>
                <a:lnTo>
                  <a:pt x="956" y="92"/>
                </a:lnTo>
                <a:lnTo>
                  <a:pt x="984" y="73"/>
                </a:lnTo>
                <a:lnTo>
                  <a:pt x="1002" y="55"/>
                </a:lnTo>
                <a:lnTo>
                  <a:pt x="1012" y="37"/>
                </a:lnTo>
                <a:lnTo>
                  <a:pt x="1021" y="28"/>
                </a:lnTo>
                <a:lnTo>
                  <a:pt x="1030" y="18"/>
                </a:lnTo>
                <a:lnTo>
                  <a:pt x="1048" y="9"/>
                </a:lnTo>
                <a:lnTo>
                  <a:pt x="1058" y="0"/>
                </a:lnTo>
                <a:lnTo>
                  <a:pt x="1067" y="0"/>
                </a:lnTo>
                <a:lnTo>
                  <a:pt x="1076" y="0"/>
                </a:lnTo>
                <a:lnTo>
                  <a:pt x="1094" y="9"/>
                </a:lnTo>
                <a:lnTo>
                  <a:pt x="1104" y="18"/>
                </a:lnTo>
                <a:lnTo>
                  <a:pt x="1131" y="28"/>
                </a:lnTo>
                <a:lnTo>
                  <a:pt x="1149" y="46"/>
                </a:lnTo>
                <a:lnTo>
                  <a:pt x="1168" y="64"/>
                </a:lnTo>
                <a:lnTo>
                  <a:pt x="1177" y="73"/>
                </a:lnTo>
                <a:lnTo>
                  <a:pt x="1186" y="83"/>
                </a:lnTo>
                <a:lnTo>
                  <a:pt x="1214" y="101"/>
                </a:lnTo>
                <a:lnTo>
                  <a:pt x="1232" y="110"/>
                </a:lnTo>
                <a:lnTo>
                  <a:pt x="1251" y="119"/>
                </a:lnTo>
                <a:lnTo>
                  <a:pt x="1260" y="119"/>
                </a:lnTo>
                <a:lnTo>
                  <a:pt x="1269" y="119"/>
                </a:lnTo>
                <a:lnTo>
                  <a:pt x="1287" y="119"/>
                </a:lnTo>
                <a:lnTo>
                  <a:pt x="1315" y="110"/>
                </a:lnTo>
                <a:lnTo>
                  <a:pt x="1343" y="101"/>
                </a:lnTo>
                <a:lnTo>
                  <a:pt x="1361" y="92"/>
                </a:lnTo>
                <a:lnTo>
                  <a:pt x="1388" y="83"/>
                </a:lnTo>
                <a:lnTo>
                  <a:pt x="1407" y="83"/>
                </a:lnTo>
                <a:lnTo>
                  <a:pt x="1425" y="92"/>
                </a:lnTo>
                <a:lnTo>
                  <a:pt x="1434" y="101"/>
                </a:lnTo>
                <a:lnTo>
                  <a:pt x="1453" y="110"/>
                </a:lnTo>
                <a:lnTo>
                  <a:pt x="1462" y="129"/>
                </a:lnTo>
                <a:lnTo>
                  <a:pt x="1471" y="138"/>
                </a:lnTo>
                <a:lnTo>
                  <a:pt x="1480" y="147"/>
                </a:lnTo>
                <a:lnTo>
                  <a:pt x="1490" y="165"/>
                </a:lnTo>
                <a:lnTo>
                  <a:pt x="1508" y="193"/>
                </a:lnTo>
                <a:lnTo>
                  <a:pt x="1526" y="230"/>
                </a:lnTo>
                <a:lnTo>
                  <a:pt x="1545" y="257"/>
                </a:lnTo>
                <a:lnTo>
                  <a:pt x="1563" y="294"/>
                </a:lnTo>
                <a:lnTo>
                  <a:pt x="1582" y="331"/>
                </a:lnTo>
                <a:lnTo>
                  <a:pt x="1600" y="368"/>
                </a:lnTo>
                <a:lnTo>
                  <a:pt x="1609" y="386"/>
                </a:lnTo>
                <a:lnTo>
                  <a:pt x="1628" y="423"/>
                </a:lnTo>
                <a:lnTo>
                  <a:pt x="1673" y="515"/>
                </a:lnTo>
                <a:lnTo>
                  <a:pt x="1710" y="588"/>
                </a:lnTo>
                <a:lnTo>
                  <a:pt x="1756" y="671"/>
                </a:lnTo>
                <a:lnTo>
                  <a:pt x="1775" y="698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6086160" y="3745080"/>
            <a:ext cx="3242880" cy="255240"/>
            <a:chOff x="6086160" y="3745080"/>
            <a:chExt cx="3242880" cy="255240"/>
          </a:xfrm>
        </p:grpSpPr>
        <p:sp>
          <p:nvSpPr>
            <p:cNvPr id="853" name=""/>
            <p:cNvSpPr/>
            <p:nvPr/>
          </p:nvSpPr>
          <p:spPr>
            <a:xfrm>
              <a:off x="6332400" y="3745080"/>
              <a:ext cx="1380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60 dB RESP CUR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086160" y="3865680"/>
              <a:ext cx="235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86040" y="375912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SPL90 CUR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924320" y="3857760"/>
              <a:ext cx="24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04840" y="2313000"/>
            <a:ext cx="453960" cy="68724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760320" y="1730520"/>
            <a:ext cx="3517920" cy="1780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1727280"/>
            <a:ext cx="3522960" cy="1785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6984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5236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36368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541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74960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4796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5280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376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56068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511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94624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4496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6384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5932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5768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62520" y="1736640"/>
            <a:ext cx="0" cy="178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43240" y="1727280"/>
            <a:ext cx="0" cy="178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6800" y="2100240"/>
            <a:ext cx="351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6800" y="2465280"/>
            <a:ext cx="351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800" y="2830680"/>
            <a:ext cx="351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6800" y="3209760"/>
            <a:ext cx="351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59040" y="34941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87960" y="3494160"/>
            <a:ext cx="33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43520" y="349416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2852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2720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11120" y="3494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9320" y="1568520"/>
            <a:ext cx="530280" cy="2097360"/>
            <a:chOff x="229320" y="1568520"/>
            <a:chExt cx="530280" cy="2097360"/>
          </a:xfrm>
        </p:grpSpPr>
        <p:sp>
          <p:nvSpPr>
            <p:cNvPr id="888" name=""/>
            <p:cNvSpPr/>
            <p:nvPr/>
          </p:nvSpPr>
          <p:spPr>
            <a:xfrm>
              <a:off x="376560" y="3363840"/>
              <a:ext cx="380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9320" y="2678040"/>
              <a:ext cx="530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9320" y="2327400"/>
              <a:ext cx="530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9320" y="1933560"/>
              <a:ext cx="530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7280" y="30574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320" y="1568520"/>
              <a:ext cx="530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036680" y="1582560"/>
            <a:ext cx="680040" cy="2083320"/>
            <a:chOff x="4036680" y="1582560"/>
            <a:chExt cx="680040" cy="2083320"/>
          </a:xfrm>
        </p:grpSpPr>
        <p:sp>
          <p:nvSpPr>
            <p:cNvPr id="895" name=""/>
            <p:cNvSpPr/>
            <p:nvPr/>
          </p:nvSpPr>
          <p:spPr>
            <a:xfrm>
              <a:off x="4243680" y="33638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36680" y="2678040"/>
              <a:ext cx="68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36680" y="2298600"/>
              <a:ext cx="68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36680" y="1947960"/>
              <a:ext cx="68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17120" y="3041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6680" y="1582560"/>
              <a:ext cx="68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4656240" y="2254320"/>
            <a:ext cx="453960" cy="64440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963720" y="2124000"/>
            <a:ext cx="2817720" cy="1300320"/>
          </a:xfrm>
          <a:custGeom>
            <a:avLst/>
            <a:gdLst/>
            <a:ahLst/>
            <a:rect l="l" t="t" r="r" b="b"/>
            <a:pathLst>
              <a:path w="1775" h="819">
                <a:moveTo>
                  <a:pt x="0" y="781"/>
                </a:moveTo>
                <a:lnTo>
                  <a:pt x="28" y="763"/>
                </a:lnTo>
                <a:lnTo>
                  <a:pt x="83" y="726"/>
                </a:lnTo>
                <a:lnTo>
                  <a:pt x="138" y="680"/>
                </a:lnTo>
                <a:lnTo>
                  <a:pt x="184" y="634"/>
                </a:lnTo>
                <a:lnTo>
                  <a:pt x="202" y="606"/>
                </a:lnTo>
                <a:lnTo>
                  <a:pt x="248" y="560"/>
                </a:lnTo>
                <a:lnTo>
                  <a:pt x="340" y="468"/>
                </a:lnTo>
                <a:lnTo>
                  <a:pt x="386" y="422"/>
                </a:lnTo>
                <a:lnTo>
                  <a:pt x="414" y="404"/>
                </a:lnTo>
                <a:lnTo>
                  <a:pt x="460" y="367"/>
                </a:lnTo>
                <a:lnTo>
                  <a:pt x="506" y="340"/>
                </a:lnTo>
                <a:lnTo>
                  <a:pt x="543" y="312"/>
                </a:lnTo>
                <a:lnTo>
                  <a:pt x="561" y="303"/>
                </a:lnTo>
                <a:lnTo>
                  <a:pt x="579" y="294"/>
                </a:lnTo>
                <a:lnTo>
                  <a:pt x="625" y="275"/>
                </a:lnTo>
                <a:lnTo>
                  <a:pt x="671" y="257"/>
                </a:lnTo>
                <a:lnTo>
                  <a:pt x="726" y="239"/>
                </a:lnTo>
                <a:lnTo>
                  <a:pt x="754" y="229"/>
                </a:lnTo>
                <a:lnTo>
                  <a:pt x="782" y="229"/>
                </a:lnTo>
                <a:lnTo>
                  <a:pt x="837" y="211"/>
                </a:lnTo>
                <a:lnTo>
                  <a:pt x="883" y="193"/>
                </a:lnTo>
                <a:lnTo>
                  <a:pt x="920" y="174"/>
                </a:lnTo>
                <a:lnTo>
                  <a:pt x="929" y="165"/>
                </a:lnTo>
                <a:lnTo>
                  <a:pt x="965" y="147"/>
                </a:lnTo>
                <a:lnTo>
                  <a:pt x="1039" y="92"/>
                </a:lnTo>
                <a:lnTo>
                  <a:pt x="1076" y="55"/>
                </a:lnTo>
                <a:lnTo>
                  <a:pt x="1094" y="36"/>
                </a:lnTo>
                <a:lnTo>
                  <a:pt x="1122" y="18"/>
                </a:lnTo>
                <a:lnTo>
                  <a:pt x="1159" y="0"/>
                </a:lnTo>
                <a:lnTo>
                  <a:pt x="1177" y="0"/>
                </a:lnTo>
                <a:lnTo>
                  <a:pt x="1186" y="0"/>
                </a:lnTo>
                <a:lnTo>
                  <a:pt x="1195" y="9"/>
                </a:lnTo>
                <a:lnTo>
                  <a:pt x="1223" y="18"/>
                </a:lnTo>
                <a:lnTo>
                  <a:pt x="1241" y="36"/>
                </a:lnTo>
                <a:lnTo>
                  <a:pt x="1269" y="55"/>
                </a:lnTo>
                <a:lnTo>
                  <a:pt x="1278" y="64"/>
                </a:lnTo>
                <a:lnTo>
                  <a:pt x="1287" y="73"/>
                </a:lnTo>
                <a:lnTo>
                  <a:pt x="1306" y="82"/>
                </a:lnTo>
                <a:lnTo>
                  <a:pt x="1324" y="92"/>
                </a:lnTo>
                <a:lnTo>
                  <a:pt x="1333" y="92"/>
                </a:lnTo>
                <a:lnTo>
                  <a:pt x="1352" y="101"/>
                </a:lnTo>
                <a:lnTo>
                  <a:pt x="1361" y="101"/>
                </a:lnTo>
                <a:lnTo>
                  <a:pt x="1388" y="92"/>
                </a:lnTo>
                <a:lnTo>
                  <a:pt x="1398" y="92"/>
                </a:lnTo>
                <a:lnTo>
                  <a:pt x="1407" y="82"/>
                </a:lnTo>
                <a:lnTo>
                  <a:pt x="1434" y="73"/>
                </a:lnTo>
                <a:lnTo>
                  <a:pt x="1453" y="73"/>
                </a:lnTo>
                <a:lnTo>
                  <a:pt x="1471" y="82"/>
                </a:lnTo>
                <a:lnTo>
                  <a:pt x="1489" y="92"/>
                </a:lnTo>
                <a:lnTo>
                  <a:pt x="1499" y="101"/>
                </a:lnTo>
                <a:lnTo>
                  <a:pt x="1508" y="119"/>
                </a:lnTo>
                <a:lnTo>
                  <a:pt x="1517" y="138"/>
                </a:lnTo>
                <a:lnTo>
                  <a:pt x="1535" y="183"/>
                </a:lnTo>
                <a:lnTo>
                  <a:pt x="1554" y="229"/>
                </a:lnTo>
                <a:lnTo>
                  <a:pt x="1563" y="285"/>
                </a:lnTo>
                <a:lnTo>
                  <a:pt x="1572" y="321"/>
                </a:lnTo>
                <a:lnTo>
                  <a:pt x="1581" y="358"/>
                </a:lnTo>
                <a:lnTo>
                  <a:pt x="1591" y="413"/>
                </a:lnTo>
                <a:lnTo>
                  <a:pt x="1609" y="478"/>
                </a:lnTo>
                <a:lnTo>
                  <a:pt x="1637" y="551"/>
                </a:lnTo>
                <a:lnTo>
                  <a:pt x="1655" y="588"/>
                </a:lnTo>
                <a:lnTo>
                  <a:pt x="1673" y="625"/>
                </a:lnTo>
                <a:lnTo>
                  <a:pt x="1701" y="689"/>
                </a:lnTo>
                <a:lnTo>
                  <a:pt x="1729" y="744"/>
                </a:lnTo>
                <a:lnTo>
                  <a:pt x="1765" y="799"/>
                </a:lnTo>
                <a:lnTo>
                  <a:pt x="1774" y="818"/>
                </a:lnTo>
              </a:path>
            </a:pathLst>
          </a:custGeom>
          <a:noFill/>
          <a:ln cap="rnd" w="255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61920" y="2311560"/>
            <a:ext cx="2818080" cy="1109520"/>
          </a:xfrm>
          <a:custGeom>
            <a:avLst/>
            <a:gdLst/>
            <a:ahLst/>
            <a:rect l="l" t="t" r="r" b="b"/>
            <a:pathLst>
              <a:path w="1775" h="699">
                <a:moveTo>
                  <a:pt x="0" y="331"/>
                </a:moveTo>
                <a:lnTo>
                  <a:pt x="46" y="312"/>
                </a:lnTo>
                <a:lnTo>
                  <a:pt x="138" y="285"/>
                </a:lnTo>
                <a:lnTo>
                  <a:pt x="221" y="257"/>
                </a:lnTo>
                <a:lnTo>
                  <a:pt x="294" y="230"/>
                </a:lnTo>
                <a:lnTo>
                  <a:pt x="331" y="221"/>
                </a:lnTo>
                <a:lnTo>
                  <a:pt x="368" y="211"/>
                </a:lnTo>
                <a:lnTo>
                  <a:pt x="432" y="193"/>
                </a:lnTo>
                <a:lnTo>
                  <a:pt x="487" y="184"/>
                </a:lnTo>
                <a:lnTo>
                  <a:pt x="533" y="193"/>
                </a:lnTo>
                <a:lnTo>
                  <a:pt x="552" y="193"/>
                </a:lnTo>
                <a:lnTo>
                  <a:pt x="561" y="193"/>
                </a:lnTo>
                <a:lnTo>
                  <a:pt x="616" y="193"/>
                </a:lnTo>
                <a:lnTo>
                  <a:pt x="662" y="184"/>
                </a:lnTo>
                <a:lnTo>
                  <a:pt x="717" y="175"/>
                </a:lnTo>
                <a:lnTo>
                  <a:pt x="745" y="165"/>
                </a:lnTo>
                <a:lnTo>
                  <a:pt x="772" y="156"/>
                </a:lnTo>
                <a:lnTo>
                  <a:pt x="827" y="138"/>
                </a:lnTo>
                <a:lnTo>
                  <a:pt x="864" y="129"/>
                </a:lnTo>
                <a:lnTo>
                  <a:pt x="901" y="119"/>
                </a:lnTo>
                <a:lnTo>
                  <a:pt x="919" y="110"/>
                </a:lnTo>
                <a:lnTo>
                  <a:pt x="929" y="110"/>
                </a:lnTo>
                <a:lnTo>
                  <a:pt x="956" y="92"/>
                </a:lnTo>
                <a:lnTo>
                  <a:pt x="984" y="73"/>
                </a:lnTo>
                <a:lnTo>
                  <a:pt x="1002" y="55"/>
                </a:lnTo>
                <a:lnTo>
                  <a:pt x="1011" y="37"/>
                </a:lnTo>
                <a:lnTo>
                  <a:pt x="1020" y="28"/>
                </a:lnTo>
                <a:lnTo>
                  <a:pt x="1030" y="18"/>
                </a:lnTo>
                <a:lnTo>
                  <a:pt x="1048" y="9"/>
                </a:lnTo>
                <a:lnTo>
                  <a:pt x="1057" y="0"/>
                </a:lnTo>
                <a:lnTo>
                  <a:pt x="1066" y="0"/>
                </a:lnTo>
                <a:lnTo>
                  <a:pt x="1076" y="0"/>
                </a:lnTo>
                <a:lnTo>
                  <a:pt x="1094" y="9"/>
                </a:lnTo>
                <a:lnTo>
                  <a:pt x="1103" y="18"/>
                </a:lnTo>
                <a:lnTo>
                  <a:pt x="1131" y="28"/>
                </a:lnTo>
                <a:lnTo>
                  <a:pt x="1149" y="46"/>
                </a:lnTo>
                <a:lnTo>
                  <a:pt x="1168" y="64"/>
                </a:lnTo>
                <a:lnTo>
                  <a:pt x="1177" y="73"/>
                </a:lnTo>
                <a:lnTo>
                  <a:pt x="1186" y="83"/>
                </a:lnTo>
                <a:lnTo>
                  <a:pt x="1214" y="101"/>
                </a:lnTo>
                <a:lnTo>
                  <a:pt x="1232" y="110"/>
                </a:lnTo>
                <a:lnTo>
                  <a:pt x="1250" y="119"/>
                </a:lnTo>
                <a:lnTo>
                  <a:pt x="1259" y="119"/>
                </a:lnTo>
                <a:lnTo>
                  <a:pt x="1269" y="119"/>
                </a:lnTo>
                <a:lnTo>
                  <a:pt x="1287" y="119"/>
                </a:lnTo>
                <a:lnTo>
                  <a:pt x="1315" y="110"/>
                </a:lnTo>
                <a:lnTo>
                  <a:pt x="1342" y="101"/>
                </a:lnTo>
                <a:lnTo>
                  <a:pt x="1361" y="92"/>
                </a:lnTo>
                <a:lnTo>
                  <a:pt x="1388" y="83"/>
                </a:lnTo>
                <a:lnTo>
                  <a:pt x="1407" y="83"/>
                </a:lnTo>
                <a:lnTo>
                  <a:pt x="1425" y="92"/>
                </a:lnTo>
                <a:lnTo>
                  <a:pt x="1434" y="101"/>
                </a:lnTo>
                <a:lnTo>
                  <a:pt x="1453" y="110"/>
                </a:lnTo>
                <a:lnTo>
                  <a:pt x="1462" y="129"/>
                </a:lnTo>
                <a:lnTo>
                  <a:pt x="1471" y="138"/>
                </a:lnTo>
                <a:lnTo>
                  <a:pt x="1480" y="147"/>
                </a:lnTo>
                <a:lnTo>
                  <a:pt x="1489" y="165"/>
                </a:lnTo>
                <a:lnTo>
                  <a:pt x="1508" y="193"/>
                </a:lnTo>
                <a:lnTo>
                  <a:pt x="1526" y="230"/>
                </a:lnTo>
                <a:lnTo>
                  <a:pt x="1544" y="257"/>
                </a:lnTo>
                <a:lnTo>
                  <a:pt x="1563" y="294"/>
                </a:lnTo>
                <a:lnTo>
                  <a:pt x="1581" y="331"/>
                </a:lnTo>
                <a:lnTo>
                  <a:pt x="1600" y="368"/>
                </a:lnTo>
                <a:lnTo>
                  <a:pt x="1609" y="386"/>
                </a:lnTo>
                <a:lnTo>
                  <a:pt x="1627" y="423"/>
                </a:lnTo>
                <a:lnTo>
                  <a:pt x="1673" y="515"/>
                </a:lnTo>
                <a:lnTo>
                  <a:pt x="1710" y="588"/>
                </a:lnTo>
                <a:lnTo>
                  <a:pt x="1756" y="671"/>
                </a:lnTo>
                <a:lnTo>
                  <a:pt x="1774" y="698"/>
                </a:lnTo>
              </a:path>
            </a:pathLst>
          </a:custGeom>
          <a:noFill/>
          <a:ln cap="rnd" w="50760">
            <a:solidFill>
              <a:srgbClr val="0340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920880" y="3745080"/>
            <a:ext cx="3242160" cy="255240"/>
            <a:chOff x="920880" y="3745080"/>
            <a:chExt cx="3242160" cy="255240"/>
          </a:xfrm>
        </p:grpSpPr>
        <p:sp>
          <p:nvSpPr>
            <p:cNvPr id="905" name=""/>
            <p:cNvSpPr/>
            <p:nvPr/>
          </p:nvSpPr>
          <p:spPr>
            <a:xfrm>
              <a:off x="1166760" y="3745080"/>
              <a:ext cx="1380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60 dB RESP CUR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920880" y="3865680"/>
              <a:ext cx="234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20040" y="375912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SPL90 CUR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2759040" y="3857760"/>
              <a:ext cx="249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442120" y="1700280"/>
            <a:ext cx="1298520" cy="302040"/>
            <a:chOff x="5442120" y="1700280"/>
            <a:chExt cx="1298520" cy="302040"/>
          </a:xfrm>
        </p:grpSpPr>
        <p:sp>
          <p:nvSpPr>
            <p:cNvPr id="910" name=""/>
            <p:cNvSpPr/>
            <p:nvPr/>
          </p:nvSpPr>
          <p:spPr>
            <a:xfrm>
              <a:off x="5487840" y="1730520"/>
              <a:ext cx="1184400" cy="220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1727280"/>
              <a:ext cx="1187280" cy="2253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42120" y="1700280"/>
              <a:ext cx="129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 dBSP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8723160" y="1685880"/>
            <a:ext cx="1546920" cy="302040"/>
            <a:chOff x="8723160" y="1685880"/>
            <a:chExt cx="1546920" cy="302040"/>
          </a:xfrm>
        </p:grpSpPr>
        <p:sp>
          <p:nvSpPr>
            <p:cNvPr id="914" name=""/>
            <p:cNvSpPr/>
            <p:nvPr/>
          </p:nvSpPr>
          <p:spPr>
            <a:xfrm>
              <a:off x="8771040" y="1714680"/>
              <a:ext cx="1360440" cy="2203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769240" y="1712880"/>
              <a:ext cx="1363680" cy="2253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23160" y="1685880"/>
              <a:ext cx="1546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PL90 dB SP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14280" y="4218120"/>
            <a:ext cx="5804640" cy="1679400"/>
            <a:chOff x="314280" y="4218120"/>
            <a:chExt cx="5804640" cy="1679400"/>
          </a:xfrm>
        </p:grpSpPr>
        <p:sp>
          <p:nvSpPr>
            <p:cNvPr id="918" name=""/>
            <p:cNvSpPr/>
            <p:nvPr/>
          </p:nvSpPr>
          <p:spPr>
            <a:xfrm>
              <a:off x="359280" y="4218120"/>
              <a:ext cx="2084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X OSPL90:      113.3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1800" y="4394160"/>
              <a:ext cx="2071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:       1500 H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1440" y="4568760"/>
              <a:ext cx="2077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F AVG:      110.1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3240" y="4743360"/>
              <a:ext cx="193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F AVG FULL ON GAIN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1080" y="4919760"/>
              <a:ext cx="2094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 60 dB IN            37.3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0000" y="5094360"/>
              <a:ext cx="2080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PONSE CURVE GAIN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3240" y="5268960"/>
              <a:ext cx="2090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      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3.5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1440" y="5443560"/>
              <a:ext cx="2028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FERENCE TEST GAIN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3240" y="5619600"/>
              <a:ext cx="209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      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3.1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21080" y="4248000"/>
              <a:ext cx="1682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P LIMIT: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73.5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19280" y="4422600"/>
              <a:ext cx="2127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1 = 330 HZ    F2 = 4500 H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23960" y="4597560"/>
              <a:ext cx="2092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D          FREQ          SR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19640" y="4773600"/>
              <a:ext cx="211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0%        500 Hz       70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19640" y="4948200"/>
              <a:ext cx="211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.8%        800 Hz       70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18920" y="5122800"/>
              <a:ext cx="21139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.9%       1600 Hz      65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21440" y="5299200"/>
              <a:ext cx="2110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Q INP NOISE:       22.6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21080" y="5473800"/>
              <a:ext cx="2136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T (1.3V)              0.93 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20240" y="4540320"/>
              <a:ext cx="1466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SI S3.22 - 199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23840" y="4714920"/>
              <a:ext cx="14950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INEAR TYPE AI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4560" y="4889520"/>
              <a:ext cx="1344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.O.G. AT 60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4280" y="4230720"/>
              <a:ext cx="570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1760" y="5821200"/>
              <a:ext cx="566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59160" y="4230720"/>
              <a:ext cx="0" cy="157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3680" y="4230720"/>
              <a:ext cx="0" cy="157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6154200" y="4114800"/>
            <a:ext cx="3822120" cy="1935360"/>
            <a:chOff x="6154200" y="4114800"/>
            <a:chExt cx="3822120" cy="1935360"/>
          </a:xfrm>
        </p:grpSpPr>
        <p:sp>
          <p:nvSpPr>
            <p:cNvPr id="943" name=""/>
            <p:cNvSpPr/>
            <p:nvPr/>
          </p:nvSpPr>
          <p:spPr>
            <a:xfrm>
              <a:off x="6157440" y="4114800"/>
              <a:ext cx="3814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primary difference between the graphic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54920" y="4317840"/>
              <a:ext cx="36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presentation of these two curves is in th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54200" y="4522680"/>
              <a:ext cx="3674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eft hand scale.  The curve to the left show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60320" y="4727520"/>
              <a:ext cx="3270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60 dB Response Curve in dB gain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55640" y="4930560"/>
              <a:ext cx="3691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hereas the curve to the right shows the 6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159600" y="5135400"/>
              <a:ext cx="362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 Response Curve in dB SPL.  To equa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54200" y="5340240"/>
              <a:ext cx="3822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two, subtract the input level of 60 dB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157800" y="5543280"/>
              <a:ext cx="379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RESP dB SPL curves on the right graph.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163920" y="5748120"/>
              <a:ext cx="2455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is will provide the dB gain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IEC vs. ANSI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409680" y="1781280"/>
            <a:ext cx="9398520" cy="4489200"/>
            <a:chOff x="409680" y="1781280"/>
            <a:chExt cx="9398520" cy="4489200"/>
          </a:xfrm>
        </p:grpSpPr>
        <p:grpSp>
          <p:nvGrpSpPr>
            <p:cNvPr id="955" name=""/>
            <p:cNvGrpSpPr/>
            <p:nvPr/>
          </p:nvGrpSpPr>
          <p:grpSpPr>
            <a:xfrm>
              <a:off x="736200" y="1839960"/>
              <a:ext cx="7077600" cy="363240"/>
              <a:chOff x="736200" y="1839960"/>
              <a:chExt cx="7077600" cy="363240"/>
            </a:xfrm>
          </p:grpSpPr>
          <p:sp>
            <p:nvSpPr>
              <p:cNvPr id="956" name=""/>
              <p:cNvSpPr/>
              <p:nvPr/>
            </p:nvSpPr>
            <p:spPr>
              <a:xfrm>
                <a:off x="736200" y="1839960"/>
                <a:ext cx="1007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Subj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64040" y="1839960"/>
                <a:ext cx="56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IE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86600" y="1839960"/>
                <a:ext cx="727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ANS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737280" y="2362320"/>
              <a:ext cx="8460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RTGCP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36560" y="2712960"/>
              <a:ext cx="1814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4760" y="3063960"/>
              <a:ext cx="15530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Battery curre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32240" y="3414600"/>
              <a:ext cx="17802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Input, full-on gai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6560" y="3765600"/>
              <a:ext cx="1814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5480" y="4116240"/>
              <a:ext cx="10821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istor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5120" y="4467240"/>
              <a:ext cx="17190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Frequency rang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5480" y="4818240"/>
              <a:ext cx="11901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Toleran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6560" y="5170320"/>
              <a:ext cx="20055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GC measurement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3680" y="5521320"/>
              <a:ext cx="16048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irectional mic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4760" y="5872320"/>
              <a:ext cx="18532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mbient condi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44600" y="2362320"/>
              <a:ext cx="23454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ingle frequency, 15 d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43160" y="2712960"/>
              <a:ext cx="21992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gain control setback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46760" y="3063960"/>
              <a:ext cx="16416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60 dB SPL inpu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46760" y="3414600"/>
              <a:ext cx="1293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50 dB SPL if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44960" y="3765600"/>
              <a:ext cx="2508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SPL90-SPL60 is &lt;5 d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46760" y="4116240"/>
              <a:ext cx="12542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 frequency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48200" y="4467240"/>
              <a:ext cx="4345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48200" y="4818240"/>
              <a:ext cx="4345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48200" y="5170320"/>
              <a:ext cx="4345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48200" y="5521320"/>
              <a:ext cx="434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085160" y="2362320"/>
              <a:ext cx="221436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HFA (SPA), 17 dB gai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82640" y="2712960"/>
              <a:ext cx="1754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control setback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85160" y="3063960"/>
              <a:ext cx="16416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65 dB SPL inpu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084800" y="3414600"/>
              <a:ext cx="272340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50 dB SPL if OSPL90-SPL6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83720" y="3765600"/>
              <a:ext cx="1079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is &lt;4 d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84440" y="4116240"/>
              <a:ext cx="14144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 frequenc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086240" y="4467240"/>
              <a:ext cx="521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86240" y="4818240"/>
              <a:ext cx="521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86240" y="5170320"/>
              <a:ext cx="521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86240" y="5521320"/>
              <a:ext cx="5212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3720" y="5872320"/>
              <a:ext cx="17647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mall differen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9680" y="1781280"/>
              <a:ext cx="9362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9680" y="2279520"/>
              <a:ext cx="9362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9680" y="6270480"/>
              <a:ext cx="936288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548640" y="6435720"/>
            <a:ext cx="6111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TGCP = reference test gain control position.  Redrawn from Dyrlund, 1992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859280" y="706320"/>
            <a:ext cx="454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ison of main test methods and conditions specified in ANSI S3.22-1996 to those in IEC 118-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earing Aid Coupler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86680" y="3314880"/>
            <a:ext cx="3682800" cy="3073320"/>
          </a:xfrm>
          <a:prstGeom prst="rect">
            <a:avLst/>
          </a:prstGeom>
          <a:ln w="50760">
            <a:solidFill>
              <a:srgbClr val="fafd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35416" t="47309" r="167887" b="54086"/>
          <a:stretch/>
        </p:blipFill>
        <p:spPr>
          <a:xfrm>
            <a:off x="878040" y="2585880"/>
            <a:ext cx="2815920" cy="240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16200" y="2266920"/>
            <a:ext cx="1870200" cy="3341880"/>
          </a:xfrm>
          <a:prstGeom prst="rect">
            <a:avLst/>
          </a:prstGeom>
          <a:solidFill>
            <a:srgbClr val="034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6200" y="2266920"/>
            <a:ext cx="18702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8520" y="3108240"/>
            <a:ext cx="1357200" cy="154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06880" y="3108240"/>
            <a:ext cx="888840" cy="50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6880" y="4145040"/>
            <a:ext cx="888840" cy="50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0320" y="3476520"/>
            <a:ext cx="606240" cy="806400"/>
          </a:xfrm>
          <a:prstGeom prst="rect">
            <a:avLst/>
          </a:prstGeom>
          <a:solidFill>
            <a:srgbClr val="d4a45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0160" y="3559320"/>
            <a:ext cx="238320" cy="62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89280" y="3809880"/>
            <a:ext cx="654120" cy="10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0" y="3443400"/>
            <a:ext cx="87480" cy="83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3080" y="3736800"/>
            <a:ext cx="83880" cy="219240"/>
          </a:xfrm>
          <a:custGeom>
            <a:avLst/>
            <a:gdLst/>
            <a:ahLst/>
            <a:rect l="l" t="t" r="r" b="b"/>
            <a:pathLst>
              <a:path w="53" h="138">
                <a:moveTo>
                  <a:pt x="0" y="32"/>
                </a:moveTo>
                <a:lnTo>
                  <a:pt x="0" y="32"/>
                </a:lnTo>
                <a:lnTo>
                  <a:pt x="52" y="0"/>
                </a:lnTo>
                <a:lnTo>
                  <a:pt x="52" y="137"/>
                </a:lnTo>
                <a:lnTo>
                  <a:pt x="0" y="116"/>
                </a:lnTo>
                <a:lnTo>
                  <a:pt x="0" y="74"/>
                </a:lnTo>
                <a:lnTo>
                  <a:pt x="0" y="32"/>
                </a:lnTo>
                <a:lnTo>
                  <a:pt x="52" y="0"/>
                </a:lnTo>
                <a:lnTo>
                  <a:pt x="52" y="137"/>
                </a:lnTo>
                <a:lnTo>
                  <a:pt x="0" y="116"/>
                </a:lnTo>
                <a:lnTo>
                  <a:pt x="0" y="74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57800" y="4191120"/>
            <a:ext cx="74520" cy="458640"/>
          </a:xfrm>
          <a:prstGeom prst="rect">
            <a:avLst/>
          </a:prstGeom>
          <a:solidFill>
            <a:srgbClr val="034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94160" y="417816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3080" y="4187880"/>
            <a:ext cx="2840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13080" y="4187880"/>
            <a:ext cx="2840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7280" y="3427560"/>
            <a:ext cx="838080" cy="711000"/>
          </a:xfrm>
          <a:custGeom>
            <a:avLst/>
            <a:gdLst/>
            <a:ahLst/>
            <a:rect l="l" t="t" r="r" b="b"/>
            <a:pathLst>
              <a:path w="528" h="448">
                <a:moveTo>
                  <a:pt x="0" y="32"/>
                </a:moveTo>
                <a:lnTo>
                  <a:pt x="34" y="11"/>
                </a:lnTo>
                <a:lnTo>
                  <a:pt x="60" y="5"/>
                </a:lnTo>
                <a:lnTo>
                  <a:pt x="87" y="0"/>
                </a:lnTo>
                <a:lnTo>
                  <a:pt x="124" y="5"/>
                </a:lnTo>
                <a:lnTo>
                  <a:pt x="145" y="21"/>
                </a:lnTo>
                <a:lnTo>
                  <a:pt x="160" y="42"/>
                </a:lnTo>
                <a:lnTo>
                  <a:pt x="166" y="74"/>
                </a:lnTo>
                <a:lnTo>
                  <a:pt x="166" y="105"/>
                </a:lnTo>
                <a:lnTo>
                  <a:pt x="155" y="137"/>
                </a:lnTo>
                <a:lnTo>
                  <a:pt x="155" y="158"/>
                </a:lnTo>
                <a:lnTo>
                  <a:pt x="155" y="184"/>
                </a:lnTo>
                <a:lnTo>
                  <a:pt x="160" y="206"/>
                </a:lnTo>
                <a:lnTo>
                  <a:pt x="187" y="237"/>
                </a:lnTo>
                <a:lnTo>
                  <a:pt x="218" y="258"/>
                </a:lnTo>
                <a:lnTo>
                  <a:pt x="281" y="290"/>
                </a:lnTo>
                <a:lnTo>
                  <a:pt x="313" y="295"/>
                </a:lnTo>
                <a:lnTo>
                  <a:pt x="365" y="311"/>
                </a:lnTo>
                <a:lnTo>
                  <a:pt x="418" y="322"/>
                </a:lnTo>
                <a:lnTo>
                  <a:pt x="460" y="343"/>
                </a:lnTo>
                <a:lnTo>
                  <a:pt x="504" y="373"/>
                </a:lnTo>
                <a:lnTo>
                  <a:pt x="528" y="415"/>
                </a:lnTo>
                <a:lnTo>
                  <a:pt x="526" y="441"/>
                </a:lnTo>
                <a:lnTo>
                  <a:pt x="502" y="448"/>
                </a:lnTo>
                <a:lnTo>
                  <a:pt x="460" y="435"/>
                </a:lnTo>
                <a:lnTo>
                  <a:pt x="414" y="429"/>
                </a:lnTo>
                <a:lnTo>
                  <a:pt x="372" y="417"/>
                </a:lnTo>
                <a:lnTo>
                  <a:pt x="336" y="407"/>
                </a:lnTo>
                <a:lnTo>
                  <a:pt x="300" y="403"/>
                </a:lnTo>
                <a:lnTo>
                  <a:pt x="254" y="375"/>
                </a:lnTo>
                <a:lnTo>
                  <a:pt x="228" y="355"/>
                </a:lnTo>
                <a:lnTo>
                  <a:pt x="197" y="332"/>
                </a:lnTo>
                <a:lnTo>
                  <a:pt x="155" y="306"/>
                </a:lnTo>
                <a:lnTo>
                  <a:pt x="126" y="281"/>
                </a:lnTo>
                <a:lnTo>
                  <a:pt x="118" y="261"/>
                </a:lnTo>
                <a:lnTo>
                  <a:pt x="108" y="216"/>
                </a:lnTo>
                <a:lnTo>
                  <a:pt x="97" y="195"/>
                </a:lnTo>
                <a:lnTo>
                  <a:pt x="56" y="177"/>
                </a:lnTo>
                <a:lnTo>
                  <a:pt x="32" y="167"/>
                </a:lnTo>
                <a:lnTo>
                  <a:pt x="14" y="165"/>
                </a:lnTo>
                <a:lnTo>
                  <a:pt x="0" y="171"/>
                </a:lnTo>
                <a:lnTo>
                  <a:pt x="0" y="32"/>
                </a:lnTo>
              </a:path>
            </a:pathLst>
          </a:custGeom>
          <a:solidFill>
            <a:srgbClr val="00968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4680" y="3870360"/>
            <a:ext cx="842760" cy="434880"/>
          </a:xfrm>
          <a:custGeom>
            <a:avLst/>
            <a:gdLst/>
            <a:ahLst/>
            <a:rect l="l" t="t" r="r" b="b"/>
            <a:pathLst>
              <a:path w="531" h="274">
                <a:moveTo>
                  <a:pt x="0" y="0"/>
                </a:moveTo>
                <a:lnTo>
                  <a:pt x="21" y="16"/>
                </a:lnTo>
                <a:lnTo>
                  <a:pt x="42" y="16"/>
                </a:lnTo>
                <a:lnTo>
                  <a:pt x="74" y="16"/>
                </a:lnTo>
                <a:lnTo>
                  <a:pt x="105" y="26"/>
                </a:lnTo>
                <a:lnTo>
                  <a:pt x="131" y="47"/>
                </a:lnTo>
                <a:lnTo>
                  <a:pt x="168" y="76"/>
                </a:lnTo>
                <a:lnTo>
                  <a:pt x="196" y="96"/>
                </a:lnTo>
                <a:lnTo>
                  <a:pt x="228" y="114"/>
                </a:lnTo>
                <a:lnTo>
                  <a:pt x="268" y="144"/>
                </a:lnTo>
                <a:lnTo>
                  <a:pt x="292" y="152"/>
                </a:lnTo>
                <a:lnTo>
                  <a:pt x="315" y="163"/>
                </a:lnTo>
                <a:lnTo>
                  <a:pt x="384" y="179"/>
                </a:lnTo>
                <a:lnTo>
                  <a:pt x="442" y="190"/>
                </a:lnTo>
                <a:lnTo>
                  <a:pt x="490" y="204"/>
                </a:lnTo>
                <a:lnTo>
                  <a:pt x="520" y="208"/>
                </a:lnTo>
                <a:lnTo>
                  <a:pt x="531" y="216"/>
                </a:lnTo>
                <a:lnTo>
                  <a:pt x="526" y="232"/>
                </a:lnTo>
                <a:lnTo>
                  <a:pt x="510" y="258"/>
                </a:lnTo>
                <a:lnTo>
                  <a:pt x="489" y="274"/>
                </a:lnTo>
                <a:lnTo>
                  <a:pt x="468" y="274"/>
                </a:lnTo>
                <a:lnTo>
                  <a:pt x="432" y="270"/>
                </a:lnTo>
                <a:lnTo>
                  <a:pt x="400" y="263"/>
                </a:lnTo>
                <a:lnTo>
                  <a:pt x="358" y="263"/>
                </a:lnTo>
                <a:lnTo>
                  <a:pt x="326" y="264"/>
                </a:lnTo>
                <a:lnTo>
                  <a:pt x="284" y="263"/>
                </a:lnTo>
                <a:lnTo>
                  <a:pt x="238" y="262"/>
                </a:lnTo>
                <a:lnTo>
                  <a:pt x="179" y="263"/>
                </a:lnTo>
                <a:lnTo>
                  <a:pt x="148" y="264"/>
                </a:lnTo>
                <a:lnTo>
                  <a:pt x="116" y="262"/>
                </a:lnTo>
                <a:lnTo>
                  <a:pt x="90" y="260"/>
                </a:lnTo>
                <a:lnTo>
                  <a:pt x="72" y="254"/>
                </a:lnTo>
                <a:lnTo>
                  <a:pt x="63" y="248"/>
                </a:lnTo>
                <a:lnTo>
                  <a:pt x="42" y="237"/>
                </a:lnTo>
                <a:lnTo>
                  <a:pt x="32" y="211"/>
                </a:lnTo>
                <a:lnTo>
                  <a:pt x="11" y="195"/>
                </a:lnTo>
                <a:lnTo>
                  <a:pt x="0" y="174"/>
                </a:lnTo>
                <a:lnTo>
                  <a:pt x="0" y="0"/>
                </a:lnTo>
              </a:path>
            </a:pathLst>
          </a:custGeom>
          <a:solidFill>
            <a:srgbClr val="00968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57280" y="4289400"/>
            <a:ext cx="1711440" cy="655560"/>
          </a:xfrm>
          <a:custGeom>
            <a:avLst/>
            <a:gdLst/>
            <a:ahLst/>
            <a:rect l="l" t="t" r="r" b="b"/>
            <a:pathLst>
              <a:path w="1078" h="413">
                <a:moveTo>
                  <a:pt x="1075" y="250"/>
                </a:moveTo>
                <a:lnTo>
                  <a:pt x="1004" y="200"/>
                </a:lnTo>
                <a:lnTo>
                  <a:pt x="950" y="182"/>
                </a:lnTo>
                <a:lnTo>
                  <a:pt x="898" y="174"/>
                </a:lnTo>
                <a:lnTo>
                  <a:pt x="854" y="172"/>
                </a:lnTo>
                <a:lnTo>
                  <a:pt x="806" y="172"/>
                </a:lnTo>
                <a:lnTo>
                  <a:pt x="764" y="162"/>
                </a:lnTo>
                <a:lnTo>
                  <a:pt x="710" y="142"/>
                </a:lnTo>
                <a:lnTo>
                  <a:pt x="660" y="122"/>
                </a:lnTo>
                <a:lnTo>
                  <a:pt x="602" y="92"/>
                </a:lnTo>
                <a:lnTo>
                  <a:pt x="558" y="64"/>
                </a:lnTo>
                <a:lnTo>
                  <a:pt x="526" y="46"/>
                </a:lnTo>
                <a:lnTo>
                  <a:pt x="468" y="28"/>
                </a:lnTo>
                <a:lnTo>
                  <a:pt x="418" y="20"/>
                </a:lnTo>
                <a:lnTo>
                  <a:pt x="376" y="16"/>
                </a:lnTo>
                <a:lnTo>
                  <a:pt x="316" y="14"/>
                </a:lnTo>
                <a:lnTo>
                  <a:pt x="268" y="16"/>
                </a:lnTo>
                <a:lnTo>
                  <a:pt x="232" y="16"/>
                </a:lnTo>
                <a:lnTo>
                  <a:pt x="178" y="14"/>
                </a:lnTo>
                <a:lnTo>
                  <a:pt x="130" y="16"/>
                </a:lnTo>
                <a:lnTo>
                  <a:pt x="92" y="13"/>
                </a:lnTo>
                <a:lnTo>
                  <a:pt x="58" y="8"/>
                </a:lnTo>
                <a:lnTo>
                  <a:pt x="37" y="0"/>
                </a:lnTo>
                <a:lnTo>
                  <a:pt x="10" y="8"/>
                </a:lnTo>
                <a:lnTo>
                  <a:pt x="0" y="32"/>
                </a:lnTo>
                <a:lnTo>
                  <a:pt x="6" y="70"/>
                </a:lnTo>
                <a:lnTo>
                  <a:pt x="14" y="94"/>
                </a:lnTo>
                <a:lnTo>
                  <a:pt x="22" y="120"/>
                </a:lnTo>
                <a:lnTo>
                  <a:pt x="26" y="150"/>
                </a:lnTo>
                <a:lnTo>
                  <a:pt x="40" y="179"/>
                </a:lnTo>
                <a:lnTo>
                  <a:pt x="40" y="200"/>
                </a:lnTo>
                <a:lnTo>
                  <a:pt x="47" y="224"/>
                </a:lnTo>
                <a:lnTo>
                  <a:pt x="58" y="239"/>
                </a:lnTo>
                <a:lnTo>
                  <a:pt x="68" y="266"/>
                </a:lnTo>
                <a:lnTo>
                  <a:pt x="84" y="287"/>
                </a:lnTo>
                <a:lnTo>
                  <a:pt x="104" y="310"/>
                </a:lnTo>
                <a:lnTo>
                  <a:pt x="121" y="316"/>
                </a:lnTo>
                <a:lnTo>
                  <a:pt x="142" y="324"/>
                </a:lnTo>
                <a:lnTo>
                  <a:pt x="158" y="334"/>
                </a:lnTo>
                <a:lnTo>
                  <a:pt x="179" y="326"/>
                </a:lnTo>
                <a:lnTo>
                  <a:pt x="187" y="321"/>
                </a:lnTo>
                <a:lnTo>
                  <a:pt x="203" y="305"/>
                </a:lnTo>
                <a:lnTo>
                  <a:pt x="216" y="302"/>
                </a:lnTo>
                <a:lnTo>
                  <a:pt x="224" y="304"/>
                </a:lnTo>
                <a:lnTo>
                  <a:pt x="232" y="314"/>
                </a:lnTo>
                <a:lnTo>
                  <a:pt x="234" y="338"/>
                </a:lnTo>
                <a:lnTo>
                  <a:pt x="239" y="413"/>
                </a:lnTo>
                <a:lnTo>
                  <a:pt x="1078" y="26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12960" y="4105440"/>
            <a:ext cx="235080" cy="455400"/>
          </a:xfrm>
          <a:custGeom>
            <a:avLst/>
            <a:gdLst/>
            <a:ahLst/>
            <a:rect l="l" t="t" r="r" b="b"/>
            <a:pathLst>
              <a:path w="148" h="287">
                <a:moveTo>
                  <a:pt x="148" y="287"/>
                </a:moveTo>
                <a:lnTo>
                  <a:pt x="137" y="262"/>
                </a:lnTo>
                <a:lnTo>
                  <a:pt x="129" y="226"/>
                </a:lnTo>
                <a:lnTo>
                  <a:pt x="116" y="190"/>
                </a:lnTo>
                <a:lnTo>
                  <a:pt x="99" y="156"/>
                </a:lnTo>
                <a:lnTo>
                  <a:pt x="83" y="126"/>
                </a:lnTo>
                <a:lnTo>
                  <a:pt x="69" y="106"/>
                </a:lnTo>
                <a:lnTo>
                  <a:pt x="48" y="71"/>
                </a:lnTo>
                <a:lnTo>
                  <a:pt x="34" y="42"/>
                </a:lnTo>
                <a:lnTo>
                  <a:pt x="11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835360"/>
            <a:ext cx="1349280" cy="1292040"/>
          </a:xfrm>
          <a:custGeom>
            <a:avLst/>
            <a:gdLst/>
            <a:ahLst/>
            <a:rect l="l" t="t" r="r" b="b"/>
            <a:pathLst>
              <a:path w="850" h="814">
                <a:moveTo>
                  <a:pt x="850" y="563"/>
                </a:moveTo>
                <a:lnTo>
                  <a:pt x="829" y="579"/>
                </a:lnTo>
                <a:lnTo>
                  <a:pt x="811" y="608"/>
                </a:lnTo>
                <a:lnTo>
                  <a:pt x="800" y="645"/>
                </a:lnTo>
                <a:lnTo>
                  <a:pt x="800" y="676"/>
                </a:lnTo>
                <a:lnTo>
                  <a:pt x="800" y="716"/>
                </a:lnTo>
                <a:lnTo>
                  <a:pt x="804" y="740"/>
                </a:lnTo>
                <a:lnTo>
                  <a:pt x="802" y="778"/>
                </a:lnTo>
                <a:lnTo>
                  <a:pt x="784" y="804"/>
                </a:lnTo>
                <a:lnTo>
                  <a:pt x="754" y="814"/>
                </a:lnTo>
                <a:lnTo>
                  <a:pt x="708" y="812"/>
                </a:lnTo>
                <a:lnTo>
                  <a:pt x="666" y="810"/>
                </a:lnTo>
                <a:lnTo>
                  <a:pt x="622" y="806"/>
                </a:lnTo>
                <a:lnTo>
                  <a:pt x="584" y="792"/>
                </a:lnTo>
                <a:lnTo>
                  <a:pt x="547" y="769"/>
                </a:lnTo>
                <a:lnTo>
                  <a:pt x="521" y="747"/>
                </a:lnTo>
                <a:lnTo>
                  <a:pt x="495" y="726"/>
                </a:lnTo>
                <a:lnTo>
                  <a:pt x="468" y="716"/>
                </a:lnTo>
                <a:lnTo>
                  <a:pt x="439" y="697"/>
                </a:lnTo>
                <a:lnTo>
                  <a:pt x="413" y="690"/>
                </a:lnTo>
                <a:lnTo>
                  <a:pt x="382" y="682"/>
                </a:lnTo>
                <a:lnTo>
                  <a:pt x="347" y="674"/>
                </a:lnTo>
                <a:lnTo>
                  <a:pt x="313" y="666"/>
                </a:lnTo>
                <a:lnTo>
                  <a:pt x="276" y="655"/>
                </a:lnTo>
                <a:lnTo>
                  <a:pt x="253" y="642"/>
                </a:lnTo>
                <a:lnTo>
                  <a:pt x="221" y="629"/>
                </a:lnTo>
                <a:lnTo>
                  <a:pt x="195" y="611"/>
                </a:lnTo>
                <a:lnTo>
                  <a:pt x="179" y="595"/>
                </a:lnTo>
                <a:lnTo>
                  <a:pt x="166" y="576"/>
                </a:lnTo>
                <a:lnTo>
                  <a:pt x="161" y="553"/>
                </a:lnTo>
                <a:lnTo>
                  <a:pt x="161" y="529"/>
                </a:lnTo>
                <a:lnTo>
                  <a:pt x="166" y="500"/>
                </a:lnTo>
                <a:lnTo>
                  <a:pt x="171" y="479"/>
                </a:lnTo>
                <a:lnTo>
                  <a:pt x="174" y="455"/>
                </a:lnTo>
                <a:lnTo>
                  <a:pt x="171" y="440"/>
                </a:lnTo>
                <a:lnTo>
                  <a:pt x="168" y="419"/>
                </a:lnTo>
                <a:lnTo>
                  <a:pt x="158" y="400"/>
                </a:lnTo>
                <a:lnTo>
                  <a:pt x="137" y="382"/>
                </a:lnTo>
                <a:lnTo>
                  <a:pt x="105" y="374"/>
                </a:lnTo>
                <a:lnTo>
                  <a:pt x="97" y="371"/>
                </a:lnTo>
                <a:lnTo>
                  <a:pt x="76" y="374"/>
                </a:lnTo>
                <a:lnTo>
                  <a:pt x="45" y="382"/>
                </a:lnTo>
                <a:lnTo>
                  <a:pt x="32" y="390"/>
                </a:lnTo>
                <a:lnTo>
                  <a:pt x="18" y="397"/>
                </a:lnTo>
                <a:lnTo>
                  <a:pt x="0" y="400"/>
                </a:lnTo>
                <a:lnTo>
                  <a:pt x="8" y="374"/>
                </a:lnTo>
                <a:lnTo>
                  <a:pt x="5" y="334"/>
                </a:lnTo>
                <a:lnTo>
                  <a:pt x="16" y="311"/>
                </a:lnTo>
                <a:lnTo>
                  <a:pt x="29" y="290"/>
                </a:lnTo>
                <a:lnTo>
                  <a:pt x="53" y="255"/>
                </a:lnTo>
                <a:lnTo>
                  <a:pt x="63" y="240"/>
                </a:lnTo>
                <a:lnTo>
                  <a:pt x="76" y="216"/>
                </a:lnTo>
                <a:lnTo>
                  <a:pt x="92" y="195"/>
                </a:lnTo>
                <a:lnTo>
                  <a:pt x="111" y="182"/>
                </a:lnTo>
                <a:lnTo>
                  <a:pt x="139" y="169"/>
                </a:lnTo>
                <a:lnTo>
                  <a:pt x="158" y="169"/>
                </a:lnTo>
                <a:lnTo>
                  <a:pt x="163" y="184"/>
                </a:lnTo>
                <a:lnTo>
                  <a:pt x="174" y="224"/>
                </a:lnTo>
                <a:lnTo>
                  <a:pt x="179" y="250"/>
                </a:lnTo>
                <a:lnTo>
                  <a:pt x="192" y="284"/>
                </a:lnTo>
                <a:lnTo>
                  <a:pt x="205" y="321"/>
                </a:lnTo>
                <a:lnTo>
                  <a:pt x="224" y="337"/>
                </a:lnTo>
                <a:lnTo>
                  <a:pt x="250" y="345"/>
                </a:lnTo>
                <a:lnTo>
                  <a:pt x="244" y="322"/>
                </a:lnTo>
                <a:lnTo>
                  <a:pt x="242" y="288"/>
                </a:lnTo>
                <a:lnTo>
                  <a:pt x="236" y="254"/>
                </a:lnTo>
                <a:lnTo>
                  <a:pt x="228" y="226"/>
                </a:lnTo>
                <a:lnTo>
                  <a:pt x="220" y="196"/>
                </a:lnTo>
                <a:lnTo>
                  <a:pt x="218" y="171"/>
                </a:lnTo>
                <a:lnTo>
                  <a:pt x="210" y="142"/>
                </a:lnTo>
                <a:lnTo>
                  <a:pt x="208" y="120"/>
                </a:lnTo>
                <a:lnTo>
                  <a:pt x="204" y="94"/>
                </a:lnTo>
                <a:lnTo>
                  <a:pt x="206" y="78"/>
                </a:lnTo>
                <a:lnTo>
                  <a:pt x="204" y="60"/>
                </a:lnTo>
                <a:lnTo>
                  <a:pt x="204" y="40"/>
                </a:lnTo>
                <a:lnTo>
                  <a:pt x="202" y="20"/>
                </a:lnTo>
                <a:lnTo>
                  <a:pt x="204" y="0"/>
                </a:lnTo>
                <a:lnTo>
                  <a:pt x="288" y="36"/>
                </a:lnTo>
                <a:lnTo>
                  <a:pt x="279" y="74"/>
                </a:lnTo>
                <a:lnTo>
                  <a:pt x="276" y="118"/>
                </a:lnTo>
                <a:lnTo>
                  <a:pt x="282" y="187"/>
                </a:lnTo>
                <a:lnTo>
                  <a:pt x="292" y="232"/>
                </a:lnTo>
                <a:lnTo>
                  <a:pt x="320" y="298"/>
                </a:lnTo>
                <a:lnTo>
                  <a:pt x="334" y="334"/>
                </a:lnTo>
                <a:lnTo>
                  <a:pt x="362" y="368"/>
                </a:lnTo>
                <a:lnTo>
                  <a:pt x="396" y="416"/>
                </a:lnTo>
                <a:lnTo>
                  <a:pt x="436" y="448"/>
                </a:lnTo>
                <a:lnTo>
                  <a:pt x="472" y="478"/>
                </a:lnTo>
                <a:lnTo>
                  <a:pt x="518" y="502"/>
                </a:lnTo>
                <a:lnTo>
                  <a:pt x="552" y="524"/>
                </a:lnTo>
                <a:lnTo>
                  <a:pt x="580" y="538"/>
                </a:lnTo>
                <a:lnTo>
                  <a:pt x="608" y="547"/>
                </a:lnTo>
                <a:lnTo>
                  <a:pt x="660" y="558"/>
                </a:lnTo>
                <a:lnTo>
                  <a:pt x="696" y="556"/>
                </a:lnTo>
                <a:lnTo>
                  <a:pt x="732" y="550"/>
                </a:lnTo>
                <a:lnTo>
                  <a:pt x="760" y="542"/>
                </a:lnTo>
                <a:lnTo>
                  <a:pt x="782" y="532"/>
                </a:lnTo>
                <a:lnTo>
                  <a:pt x="806" y="522"/>
                </a:lnTo>
                <a:lnTo>
                  <a:pt x="818" y="526"/>
                </a:lnTo>
                <a:lnTo>
                  <a:pt x="850" y="563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1480" y="2268360"/>
            <a:ext cx="149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nd B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4520" y="5240160"/>
            <a:ext cx="182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it L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4560" y="3678120"/>
            <a:ext cx="106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33840" y="4960800"/>
            <a:ext cx="98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79560" y="2571480"/>
            <a:ext cx="939960" cy="149868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57680" y="2584440"/>
            <a:ext cx="1143000" cy="127008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993680" y="4299120"/>
            <a:ext cx="888840" cy="93960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95480" y="4476600"/>
            <a:ext cx="1460520" cy="7495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16120" y="4336920"/>
            <a:ext cx="1231920" cy="648000"/>
          </a:xfrm>
          <a:prstGeom prst="line">
            <a:avLst/>
          </a:prstGeom>
          <a:ln w="25560">
            <a:solidFill>
              <a:srgbClr val="d07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73600" y="3879360"/>
            <a:ext cx="558720" cy="1117800"/>
          </a:xfrm>
          <a:prstGeom prst="line">
            <a:avLst/>
          </a:prstGeom>
          <a:ln w="25560">
            <a:solidFill>
              <a:srgbClr val="d07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86200"/>
            <a:ext cx="519120" cy="639720"/>
          </a:xfrm>
          <a:custGeom>
            <a:avLst/>
            <a:gdLst/>
            <a:ahLst/>
            <a:rect l="l" t="t" r="r" b="b"/>
            <a:pathLst>
              <a:path w="277" h="339">
                <a:moveTo>
                  <a:pt x="0" y="54"/>
                </a:moveTo>
                <a:lnTo>
                  <a:pt x="86" y="0"/>
                </a:lnTo>
                <a:lnTo>
                  <a:pt x="276" y="302"/>
                </a:lnTo>
                <a:lnTo>
                  <a:pt x="178" y="338"/>
                </a:lnTo>
                <a:lnTo>
                  <a:pt x="0" y="5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33560" y="4210200"/>
            <a:ext cx="116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cf4ea"/>
                </a:solidFill>
                <a:latin typeface="Arial"/>
              </a:rPr>
              <a:t>Eard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6261120" y="762120"/>
            <a:ext cx="3670200" cy="2387520"/>
          </a:xfrm>
          <a:prstGeom prst="rect">
            <a:avLst/>
          </a:prstGeom>
          <a:ln w="50760">
            <a:solidFill>
              <a:srgbClr val="fafd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8859960" y="2649600"/>
            <a:ext cx="1101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A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59960" y="5888160"/>
            <a:ext cx="1101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A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5840" y="2014560"/>
            <a:ext cx="7535880" cy="3387600"/>
          </a:xfrm>
          <a:prstGeom prst="rect">
            <a:avLst/>
          </a:prstGeom>
          <a:solidFill>
            <a:srgbClr val="0340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A-3 and HA-4 2cc Coupler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8920" y="2255760"/>
            <a:ext cx="3391200" cy="2921040"/>
          </a:xfrm>
          <a:prstGeom prst="rect">
            <a:avLst/>
          </a:prstGeom>
          <a:ln w="38160">
            <a:solidFill>
              <a:srgbClr val="fafd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09640" y="2271600"/>
            <a:ext cx="3353040" cy="2921040"/>
          </a:xfrm>
          <a:prstGeom prst="rect">
            <a:avLst/>
          </a:prstGeom>
          <a:ln w="28440">
            <a:solidFill>
              <a:srgbClr val="faf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Definition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3800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ference Sound Pressur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20µPa (0.0002 dynes/cm2)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 Sound Pressur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Level at the microphone of the HA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oustic Gai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Difference between what is put into vs. what comes out of the HA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C Hearing Aid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Automatic Gain Control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C Knee Poin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Where a linear input/output curve deviates from linearity by 2 dB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rectional Hearing Aid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82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a45a"/>
                </a:solidFill>
                <a:latin typeface="Book Antiqua"/>
              </a:rPr>
              <a:t>= Hearing aid with 1 mic having 2 openings </a:t>
            </a:r>
            <a:endParaRPr b="1" lang="en-US" sz="2000" spc="-1" strike="noStrike">
              <a:solidFill>
                <a:srgbClr val="d4a45a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Basic Formula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2630520" y="3297240"/>
            <a:ext cx="557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PUT + GAIN =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Calculation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2782800" y="1773360"/>
            <a:ext cx="5502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    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in     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54280" y="2711520"/>
            <a:ext cx="5130720" cy="507960"/>
            <a:chOff x="2654280" y="2711520"/>
            <a:chExt cx="5130720" cy="507960"/>
          </a:xfrm>
        </p:grpSpPr>
        <p:sp>
          <p:nvSpPr>
            <p:cNvPr id="105" name=""/>
            <p:cNvSpPr/>
            <p:nvPr/>
          </p:nvSpPr>
          <p:spPr>
            <a:xfrm>
              <a:off x="2654280" y="271152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2320" y="271152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52920" y="271764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666880" y="3448080"/>
            <a:ext cx="5131080" cy="507960"/>
            <a:chOff x="2666880" y="3448080"/>
            <a:chExt cx="5131080" cy="507960"/>
          </a:xfrm>
        </p:grpSpPr>
        <p:sp>
          <p:nvSpPr>
            <p:cNvPr id="109" name=""/>
            <p:cNvSpPr/>
            <p:nvPr/>
          </p:nvSpPr>
          <p:spPr>
            <a:xfrm>
              <a:off x="2666880" y="344808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5280" y="344808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65520" y="345456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679840" y="4184640"/>
            <a:ext cx="5130720" cy="507960"/>
            <a:chOff x="2679840" y="4184640"/>
            <a:chExt cx="5130720" cy="507960"/>
          </a:xfrm>
        </p:grpSpPr>
        <p:sp>
          <p:nvSpPr>
            <p:cNvPr id="113" name=""/>
            <p:cNvSpPr/>
            <p:nvPr/>
          </p:nvSpPr>
          <p:spPr>
            <a:xfrm>
              <a:off x="2679840" y="418464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27880" y="418464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8480" y="419112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92440" y="4921200"/>
            <a:ext cx="5130720" cy="507960"/>
            <a:chOff x="2692440" y="4921200"/>
            <a:chExt cx="5130720" cy="507960"/>
          </a:xfrm>
        </p:grpSpPr>
        <p:sp>
          <p:nvSpPr>
            <p:cNvPr id="117" name=""/>
            <p:cNvSpPr/>
            <p:nvPr/>
          </p:nvSpPr>
          <p:spPr>
            <a:xfrm>
              <a:off x="2692440" y="492120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0480" y="492120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1080" y="492768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05040" y="5657760"/>
            <a:ext cx="5130720" cy="507960"/>
            <a:chOff x="2705040" y="5657760"/>
            <a:chExt cx="5130720" cy="507960"/>
          </a:xfrm>
        </p:grpSpPr>
        <p:sp>
          <p:nvSpPr>
            <p:cNvPr id="121" name=""/>
            <p:cNvSpPr/>
            <p:nvPr/>
          </p:nvSpPr>
          <p:spPr>
            <a:xfrm>
              <a:off x="2705040" y="565776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5657760"/>
              <a:ext cx="1282680" cy="50184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03680" y="5664240"/>
              <a:ext cx="1282680" cy="50148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30480" y="2763720"/>
            <a:ext cx="4988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3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30480" y="3487680"/>
            <a:ext cx="4988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?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30480" y="4211640"/>
            <a:ext cx="4988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5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1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11400" y="4954680"/>
            <a:ext cx="4988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5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30480" y="5697360"/>
            <a:ext cx="4988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50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      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743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34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952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4952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638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340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552240"/>
            <a:ext cx="842004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</a:rPr>
              <a:t>Hearing Aid Graphs</a:t>
            </a:r>
            <a:endParaRPr b="1" i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ese are obtained from a hearing aid as measured in a hearing aid analyzer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d1be"/>
                </a:solidFill>
                <a:latin typeface="Book Antiqua"/>
              </a:rPr>
              <a:t>General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representation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One graph</a:t>
            </a: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= Gain in dB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Another graph</a:t>
            </a: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8cf4ea"/>
                </a:solidFill>
                <a:latin typeface="Book Antiqua"/>
              </a:rPr>
              <a:t>= Output in dB SPL</a:t>
            </a:r>
            <a:endParaRPr b="1" lang="en-US" sz="2400" spc="-1" strike="noStrike">
              <a:solidFill>
                <a:srgbClr val="8cf4ea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ut can vary considerably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8:58:09Z</dcterms:created>
  <dc:creator>Dr. Wayne J. Staab</dc:creator>
  <dc:description/>
  <dc:language>en-US</dc:language>
  <cp:lastModifiedBy>Alan Rose</cp:lastModifiedBy>
  <cp:lastPrinted>2001-02-08T08:23:39Z</cp:lastPrinted>
  <dcterms:modified xsi:type="dcterms:W3CDTF">2003-03-08T00:01:30Z</dcterms:modified>
  <cp:revision>14</cp:revision>
  <dc:subject/>
  <dc:title>HEARING INSTRUMENTS</dc:title>
</cp:coreProperties>
</file>