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20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1.png" ContentType="image/png"/>
  <Override PartName="/ppt/media/image1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A792-5023-4D68-8525-2A80249C6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1BD2-61A1-4C71-83C1-A32F3B81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4ADA-5D2E-45B9-8028-441F55FD3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25E0-BF5D-4163-9977-791069298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BB80-1691-4A65-A43C-AF93187F5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6D88-53D1-4291-9D61-0176AFB2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D923-FF7C-44E7-8A29-2F0D928D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8292-61C1-4D2F-8642-5D816D8F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7ADC-CE90-40C2-8567-20BC5EFA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7E91-21A2-4C81-90DB-25CCD53D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DAB5-C30C-4415-8F9D-101D4E4E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1FAA-45D4-4B21-8170-14A2683F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0E0B-3858-438E-8E52-FFA0AA4B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8215A-7F8F-419E-8355-297A49F3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308EB-911A-444B-A4BA-B181D29D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EDA9-DF95-4BA2-A885-4893D1454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8707-E5F8-4811-AE8C-AA6D2367B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0CDB-0E26-4DE3-A6AE-7AC1338D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7FC0-42C2-4F41-A28E-DC4E3125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4F9C-9F02-40C0-BEDC-21231031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A9A6-7277-4E63-9C28-F7CD4D42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3865-2C64-4337-A3F0-3F327AD2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603D-D53C-45CC-8330-86BCFB91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9A2D-2852-418F-978B-3AB60EAD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E68F-0FBA-4D61-BA06-9C7761CD7A1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15EF-0B81-4E73-837B-ABC27220499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Impact"/>
              </a:rPr>
              <a:t>Electroacoustic Analysis of Hearing Aid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</a:t>
            </a:r>
            <a:r>
              <a:rPr b="1" lang="en-US" sz="3200" spc="-1" strike="noStrike">
                <a:solidFill>
                  <a:srgbClr val="ffffcc"/>
                </a:solidFill>
                <a:latin typeface="Impact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Impact"/>
              </a:rPr>
              <a:t>ANSI-1996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</a:t>
            </a:r>
            <a:r>
              <a:rPr b="1" lang="en-US" sz="3200" spc="-1" strike="noStrike">
                <a:solidFill>
                  <a:srgbClr val="ffffcc"/>
                </a:solidFill>
                <a:latin typeface="Impact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Impact"/>
              </a:rPr>
              <a:t>ANSI-199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</a:t>
            </a:r>
            <a:r>
              <a:rPr b="1" lang="en-US" sz="3200" spc="-1" strike="noStrike">
                <a:solidFill>
                  <a:srgbClr val="ffffcc"/>
                </a:solidFill>
                <a:latin typeface="Impact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Impact"/>
              </a:rPr>
              <a:t>Profil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ANSI ‘96 Result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7" name="ansi96%20widex%20screen%202" descr=""/>
          <p:cNvPicPr/>
          <p:nvPr/>
        </p:nvPicPr>
        <p:blipFill>
          <a:blip r:embed="rId1"/>
          <a:stretch/>
        </p:blipFill>
        <p:spPr>
          <a:xfrm>
            <a:off x="457200" y="1619280"/>
            <a:ext cx="6477120" cy="4857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715000" y="5410080"/>
            <a:ext cx="3139920" cy="1008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LITS telecoil curve: should match 50 dB response curv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4800240" y="4343400"/>
            <a:ext cx="2133720" cy="9144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5040" y="1141560"/>
            <a:ext cx="28951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e I/O curv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7320" y="6172200"/>
            <a:ext cx="317988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tack and Release Tim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1752120" y="5028840"/>
            <a:ext cx="228600" cy="1143000"/>
          </a:xfrm>
          <a:prstGeom prst="line">
            <a:avLst/>
          </a:prstGeom>
          <a:ln w="7632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figure%2048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8153280" cy="32180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520640" y="838080"/>
            <a:ext cx="649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/O Curve @ 2000 Hz for a linear hearing ai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ith output limiting at 130 dB SP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figure%2049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534520" cy="33685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85800" y="304920"/>
            <a:ext cx="7047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/O Curve @ 2000 Hz for a nonlinear hearing ai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ith a CR of 1.7: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6480" y="5192640"/>
            <a:ext cx="4446360" cy="1008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ge of Input = 40 dB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ge of output = 23 dB (82 to 105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 = 40/23 = 1.7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9" name="figure%202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315200" cy="49262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051000" y="838080"/>
            <a:ext cx="249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Telewand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figure%2059" descr=""/>
          <p:cNvPicPr/>
          <p:nvPr/>
        </p:nvPicPr>
        <p:blipFill>
          <a:blip r:embed="rId1"/>
          <a:stretch/>
        </p:blipFill>
        <p:spPr>
          <a:xfrm>
            <a:off x="1979640" y="379440"/>
            <a:ext cx="5183280" cy="60976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095880" y="4952880"/>
            <a:ext cx="2485080" cy="7038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elecoil Frequenc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spon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ANSI S3.42-1992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NSI-92 is different from ANSI-96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This standard uses a composite signal (“speech-like”) instead of pure tone signal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Four measurements (50-60-70-80 dB SPL or 60-70-80-90 dB SPL) are made in 10 dB increments to measure the change in the frequency response as a function of change in input level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Entering ANSI ‘92 Screen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6" name="ansi%20menu%20ansi92" descr=""/>
          <p:cNvPicPr/>
          <p:nvPr/>
        </p:nvPicPr>
        <p:blipFill>
          <a:blip r:embed="rId1"/>
          <a:srcRect l="4163" t="5551" r="6250" b="11115"/>
          <a:stretch/>
        </p:blipFill>
        <p:spPr>
          <a:xfrm>
            <a:off x="3352680" y="2016000"/>
            <a:ext cx="5410440" cy="3775320"/>
          </a:xfrm>
          <a:prstGeom prst="rect">
            <a:avLst/>
          </a:prstGeom>
          <a:ln w="0">
            <a:noFill/>
          </a:ln>
        </p:spPr>
      </p:pic>
      <p:pic>
        <p:nvPicPr>
          <p:cNvPr id="157" name="menufinger" descr=""/>
          <p:cNvPicPr/>
          <p:nvPr/>
        </p:nvPicPr>
        <p:blipFill>
          <a:blip r:embed="rId2"/>
          <a:srcRect l="16984" t="23567" r="11323" b="18821"/>
          <a:stretch/>
        </p:blipFill>
        <p:spPr>
          <a:xfrm>
            <a:off x="152280" y="1066680"/>
            <a:ext cx="2895840" cy="16765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0" y="4575240"/>
            <a:ext cx="54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nu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+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NSI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Butt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Go to screen and scrol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Down to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“ANSI-92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nd press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[Start]</a:t>
            </a:r>
            <a:r>
              <a:rPr b="1" lang="en-US" sz="2400" spc="-1" strike="noStrike">
                <a:solidFill>
                  <a:srgbClr val="9898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n Modu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838080" y="1752480"/>
            <a:ext cx="76320" cy="3733920"/>
          </a:xfrm>
          <a:prstGeom prst="line">
            <a:avLst/>
          </a:prstGeom>
          <a:ln w="7632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600200" y="2361960"/>
            <a:ext cx="228600" cy="2971800"/>
          </a:xfrm>
          <a:prstGeom prst="line">
            <a:avLst/>
          </a:prstGeom>
          <a:ln w="7632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514600" y="4571640"/>
            <a:ext cx="990720" cy="1600200"/>
          </a:xfrm>
          <a:prstGeom prst="line">
            <a:avLst/>
          </a:prstGeom>
          <a:ln w="7632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076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ANSI ‘92 Result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3" name="ansi92%20linear" descr=""/>
          <p:cNvPicPr/>
          <p:nvPr/>
        </p:nvPicPr>
        <p:blipFill>
          <a:blip r:embed="rId1"/>
          <a:srcRect l="0" t="4042" r="9094" b="9094"/>
          <a:stretch/>
        </p:blipFill>
        <p:spPr>
          <a:xfrm>
            <a:off x="1143000" y="2052720"/>
            <a:ext cx="6705720" cy="48052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141560" y="457200"/>
            <a:ext cx="738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inear hearing aid: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no change in frequency-gai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s input level increases from 50 to 80 dB SPL 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no IMD because response at 80 dB SPL has sam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morphology” as response at 50 dB SP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375680" y="2754360"/>
            <a:ext cx="174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Kneepoint @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80 dB SP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7238520" y="2743200"/>
            <a:ext cx="228600" cy="457200"/>
          </a:xfrm>
          <a:prstGeom prst="line">
            <a:avLst/>
          </a:prstGeom>
          <a:ln w="7632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ANSI ‘92 Result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8" name="ansi92%20widex" descr=""/>
          <p:cNvPicPr/>
          <p:nvPr/>
        </p:nvPicPr>
        <p:blipFill>
          <a:blip r:embed="rId1"/>
          <a:srcRect l="0" t="5879" r="7352" b="15682"/>
          <a:stretch/>
        </p:blipFill>
        <p:spPr>
          <a:xfrm>
            <a:off x="914400" y="2068560"/>
            <a:ext cx="7543800" cy="4789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989280" y="457200"/>
            <a:ext cx="738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onlinear hearing aid: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change in frequency-gai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s input level increases from 50 to 80 dB SPL 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no IMD because response at 80 dB SPL has sam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morphology” as response at 50 dB SP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35360" y="2895480"/>
            <a:ext cx="2370600" cy="1067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= 2.1 (40 dB chang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input (50-90); 19 dB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82-101 dB) change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output.)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40/19=2.1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The Profiler Option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lternative to ANSI-92 and ANSI-96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Uses composite or digital speech signals instead of pure tone sweep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Very quick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Good for establishing a baselin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Good for identifying characteristics of unknown hearing aid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ANSI S3.22-1996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Multiple I/O and attack &amp; release measuremen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Improved telecoil measuremen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GC aids tested at reduced reference test gai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Entering the Profiler Screen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219320" y="1447920"/>
          <a:ext cx="3276360" cy="23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3276360" cy="23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6" name="FINGER" descr=""/>
          <p:cNvPicPr/>
          <p:nvPr/>
        </p:nvPicPr>
        <p:blipFill>
          <a:blip r:embed="rId3"/>
          <a:stretch/>
        </p:blipFill>
        <p:spPr>
          <a:xfrm>
            <a:off x="1143000" y="3962520"/>
            <a:ext cx="3276720" cy="2359080"/>
          </a:xfrm>
          <a:prstGeom prst="rect">
            <a:avLst/>
          </a:prstGeom>
          <a:ln w="0">
            <a:noFill/>
          </a:ln>
        </p:spPr>
      </p:pic>
      <p:pic>
        <p:nvPicPr>
          <p:cNvPr id="177" name="startfinger" descr=""/>
          <p:cNvPicPr/>
          <p:nvPr/>
        </p:nvPicPr>
        <p:blipFill>
          <a:blip r:embed="rId4"/>
          <a:stretch/>
        </p:blipFill>
        <p:spPr>
          <a:xfrm>
            <a:off x="4648320" y="3962520"/>
            <a:ext cx="3276360" cy="23590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830600" y="129528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ess [Menu]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514240" y="1676520"/>
            <a:ext cx="228600" cy="914400"/>
          </a:xfrm>
          <a:prstGeom prst="line">
            <a:avLst/>
          </a:prstGeom>
          <a:ln w="7632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63640" y="4078440"/>
            <a:ext cx="22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ess * Butt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2133360" y="4419720"/>
            <a:ext cx="533160" cy="1218960"/>
          </a:xfrm>
          <a:prstGeom prst="line">
            <a:avLst/>
          </a:prstGeom>
          <a:ln w="7632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91480" y="36972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ess [Start]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24480" y="4038480"/>
            <a:ext cx="762120" cy="914400"/>
          </a:xfrm>
          <a:prstGeom prst="line">
            <a:avLst/>
          </a:prstGeom>
          <a:ln w="7632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Profiler Result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5" name="P1010036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5334120" cy="40006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839160" y="83808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Output Curv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1219320"/>
            <a:ext cx="762120" cy="914400"/>
          </a:xfrm>
          <a:prstGeom prst="line">
            <a:avLst/>
          </a:prstGeom>
          <a:ln w="7632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72520" y="10666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Distor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590560" y="1447920"/>
            <a:ext cx="990360" cy="1600200"/>
          </a:xfrm>
          <a:prstGeom prst="line">
            <a:avLst/>
          </a:prstGeom>
          <a:ln w="7632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819520" y="2514240"/>
            <a:ext cx="1218960" cy="6094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990720" y="2057400"/>
            <a:ext cx="1218960" cy="76320"/>
          </a:xfrm>
          <a:prstGeom prst="line">
            <a:avLst/>
          </a:prstGeom>
          <a:ln w="7632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4320" y="5638680"/>
            <a:ext cx="378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requency Responses a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50-65-80 dB using DSP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743200" y="4190760"/>
            <a:ext cx="0" cy="1523880"/>
          </a:xfrm>
          <a:prstGeom prst="line">
            <a:avLst/>
          </a:prstGeom>
          <a:ln w="7632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33040" y="3468600"/>
            <a:ext cx="248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Eqv Input Noi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Battery Drai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5562720" y="3581280"/>
            <a:ext cx="761760" cy="152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5486400" y="3733920"/>
            <a:ext cx="838080" cy="380880"/>
          </a:xfrm>
          <a:prstGeom prst="line">
            <a:avLst/>
          </a:prstGeom>
          <a:ln w="7632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Getting to ANSI ‘96 Screen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7" name="ansi" descr=""/>
          <p:cNvPicPr/>
          <p:nvPr/>
        </p:nvPicPr>
        <p:blipFill>
          <a:blip r:embed="rId1"/>
          <a:stretch/>
        </p:blipFill>
        <p:spPr>
          <a:xfrm>
            <a:off x="304920" y="3086280"/>
            <a:ext cx="4419360" cy="3314520"/>
          </a:xfrm>
          <a:prstGeom prst="rect">
            <a:avLst/>
          </a:prstGeom>
          <a:ln w="0">
            <a:noFill/>
          </a:ln>
        </p:spPr>
      </p:pic>
      <p:pic>
        <p:nvPicPr>
          <p:cNvPr id="98" name="ansi%20menu%20ansi%2096" descr=""/>
          <p:cNvPicPr/>
          <p:nvPr/>
        </p:nvPicPr>
        <p:blipFill>
          <a:blip r:embed="rId2"/>
          <a:srcRect l="5177" t="47677" r="63799" b="31037"/>
          <a:stretch/>
        </p:blipFill>
        <p:spPr>
          <a:xfrm>
            <a:off x="4952880" y="3809880"/>
            <a:ext cx="3733920" cy="19227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91920" y="2019240"/>
            <a:ext cx="58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ess [ANSI] and </a:t>
            </a:r>
            <a:r>
              <a:rPr b="1" lang="en-US" sz="2400" spc="-1" strike="noStrike">
                <a:solidFill>
                  <a:srgbClr val="ffffcc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button to “ANSI-96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62320" y="2438280"/>
            <a:ext cx="685800" cy="2590920"/>
          </a:xfrm>
          <a:prstGeom prst="line">
            <a:avLst/>
          </a:prstGeom>
          <a:ln w="7632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38280" y="2438280"/>
            <a:ext cx="2590920" cy="2743200"/>
          </a:xfrm>
          <a:prstGeom prst="line">
            <a:avLst/>
          </a:prstGeom>
          <a:ln w="7632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ANSI ‘96 Option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3" name="menufinger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4038480" cy="2909880"/>
          </a:xfrm>
          <a:prstGeom prst="rect">
            <a:avLst/>
          </a:prstGeom>
          <a:ln w="0">
            <a:noFill/>
          </a:ln>
        </p:spPr>
      </p:pic>
      <p:pic>
        <p:nvPicPr>
          <p:cNvPr id="104" name="ansi%2096%20menu" descr=""/>
          <p:cNvPicPr/>
          <p:nvPr/>
        </p:nvPicPr>
        <p:blipFill>
          <a:blip r:embed="rId2"/>
          <a:srcRect l="5886" t="48228" r="47067" b="11115"/>
          <a:stretch/>
        </p:blipFill>
        <p:spPr>
          <a:xfrm>
            <a:off x="4648320" y="2590920"/>
            <a:ext cx="4114800" cy="26668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052640" y="529740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ess [Menu]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1980720" y="3124080"/>
            <a:ext cx="304920" cy="2286000"/>
          </a:xfrm>
          <a:prstGeom prst="line">
            <a:avLst/>
          </a:prstGeom>
          <a:ln w="7632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666880" y="3885840"/>
            <a:ext cx="2210040" cy="1523880"/>
          </a:xfrm>
          <a:prstGeom prst="line">
            <a:avLst/>
          </a:prstGeom>
          <a:ln w="7632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ANSI ‘96 AGC Menu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9" name="ansi%2096%20agc%20menu" descr=""/>
          <p:cNvPicPr/>
          <p:nvPr/>
        </p:nvPicPr>
        <p:blipFill>
          <a:blip r:embed="rId1"/>
          <a:srcRect l="6152" t="48451" r="55394" b="15892"/>
          <a:stretch/>
        </p:blipFill>
        <p:spPr>
          <a:xfrm>
            <a:off x="1676520" y="2133720"/>
            <a:ext cx="617220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figure%203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553080" cy="5461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919080" y="380880"/>
            <a:ext cx="692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Battery Pills to Measure Battery Curr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ANSI-96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3" name="ansi96%20widex%20screen%201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6172200" cy="4629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909800" y="914400"/>
            <a:ext cx="420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Output Curv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requency Response Curv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1600200"/>
            <a:ext cx="457200" cy="914400"/>
          </a:xfrm>
          <a:prstGeom prst="line">
            <a:avLst/>
          </a:prstGeom>
          <a:ln w="7632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38280" y="1219320"/>
            <a:ext cx="1219320" cy="1752480"/>
          </a:xfrm>
          <a:prstGeom prst="line">
            <a:avLst/>
          </a:prstGeom>
          <a:ln w="7632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3429000"/>
            <a:ext cx="1524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Avg an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Max Output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4114800"/>
            <a:ext cx="838080" cy="304920"/>
          </a:xfrm>
          <a:prstGeom prst="line">
            <a:avLst/>
          </a:prstGeom>
          <a:ln w="7632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1960" y="4876920"/>
            <a:ext cx="114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Avg and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Ref Test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Gai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5334120"/>
            <a:ext cx="609840" cy="0"/>
          </a:xfrm>
          <a:prstGeom prst="line">
            <a:avLst/>
          </a:prstGeom>
          <a:ln w="7632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0" y="262728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Freq Rang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867280" y="2895480"/>
            <a:ext cx="1067040" cy="1371600"/>
          </a:xfrm>
          <a:prstGeom prst="line">
            <a:avLst/>
          </a:prstGeom>
          <a:ln w="7632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240" y="3313080"/>
            <a:ext cx="12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Harmonic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stort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648320" y="3733920"/>
            <a:ext cx="2286000" cy="1295280"/>
          </a:xfrm>
          <a:prstGeom prst="line">
            <a:avLst/>
          </a:prstGeom>
          <a:ln w="7632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42520" y="5675400"/>
            <a:ext cx="191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Eqv Input Nois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5943600" y="5562720"/>
            <a:ext cx="990720" cy="304560"/>
          </a:xfrm>
          <a:prstGeom prst="line">
            <a:avLst/>
          </a:prstGeom>
          <a:ln w="7632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83200" y="613260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attery Drai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5790960" y="5867280"/>
            <a:ext cx="1143000" cy="457200"/>
          </a:xfrm>
          <a:prstGeom prst="line">
            <a:avLst/>
          </a:prstGeom>
          <a:ln w="7632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fig_27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458200" cy="5075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911880" y="457200"/>
            <a:ext cx="671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Example of similar gain resul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hen using pure-tone and composite signa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2666880"/>
            <a:ext cx="180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D Measur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209680" y="2971800"/>
            <a:ext cx="763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fig_28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8076960" cy="33512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70800" y="1066680"/>
            <a:ext cx="780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Example of “seeing” intermodulation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distortion with a high input level (85 dB SPL)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99160" y="2666880"/>
            <a:ext cx="47023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rregular” frequency respon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19:24:24Z</dcterms:created>
  <dc:creator>Kris frye</dc:creator>
  <dc:description/>
  <dc:language>en-US</dc:language>
  <cp:lastModifiedBy>Alan Rose</cp:lastModifiedBy>
  <cp:lastPrinted>2009-04-22T19:24:48Z</cp:lastPrinted>
  <dcterms:modified xsi:type="dcterms:W3CDTF">2003-03-08T00:03:33Z</dcterms:modified>
  <cp:revision>1</cp:revision>
  <dc:subject/>
  <dc:title>Electroacoustic Analysis of Hearing Aids</dc:title>
</cp:coreProperties>
</file>