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D9FE-FFAB-49E8-A8E1-A2C66192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C4C-5C92-41FE-9D4B-934F0193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049-7A10-4AAD-8791-6DCA80E3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FD0-4B11-44B3-BEC4-2010CFAF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BD7D-B995-43D4-9DEB-DD06FE40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E244-0B8F-4735-A5E1-0EFC5FCC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5475-C4F6-42CD-8D33-5691EFAC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65D3-4B05-4D3F-96BD-F5F42A3B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298A-7697-4860-B14F-1916AA98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F992-467A-4F09-9D34-4A45ED6D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01F0-9A15-424F-8EC6-9CDA913D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A91E-7A3C-4EF2-946E-313EB8AB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AE6E-5A69-4984-B024-50E819C1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D19F-378B-4522-9540-AEEEAFBB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2964-E404-4EA1-9459-28A760D4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A139-2088-4CEE-8F75-A9EDE811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9A36-6EDC-441D-B82E-A9A35D2A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3D2-61FF-4F93-B2E7-1A706B66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6C21-AAEE-4104-A1AB-FAFDAFB5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93F-467F-433E-9CBF-08369B86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D50A-7614-42EF-AFF0-314DE069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92A1-0744-4B90-BFCD-F248EABF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BDCB-9FA5-481F-99A5-8614C341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0F6-43CE-4FAC-8FED-D873DFD9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B50F-E72E-4E0C-B160-02AF920528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56DB-78D2-4EA2-84DD-4A86A62454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sertion G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Unaided Response (REUG)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[START/STOP] to begin unaided measurement and again when satisf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n Man mode, press [unaided] to save REU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fingerstartstop" descr=""/>
          <p:cNvPicPr/>
          <p:nvPr/>
        </p:nvPicPr>
        <p:blipFill>
          <a:blip r:embed="rId1"/>
          <a:srcRect l="33337" t="22218" r="2087" b="16667"/>
          <a:stretch/>
        </p:blipFill>
        <p:spPr>
          <a:xfrm>
            <a:off x="304920" y="495288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140" name="PC180011" descr=""/>
          <p:cNvPicPr/>
          <p:nvPr/>
        </p:nvPicPr>
        <p:blipFill>
          <a:blip r:embed="rId2"/>
          <a:srcRect l="0" t="0" r="0" b="13937"/>
          <a:stretch/>
        </p:blipFill>
        <p:spPr>
          <a:xfrm>
            <a:off x="3352680" y="2800440"/>
            <a:ext cx="5105520" cy="3295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H="1">
            <a:off x="990720" y="1295280"/>
            <a:ext cx="1371600" cy="4343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294920" y="2057400"/>
            <a:ext cx="3124440" cy="3276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1840" y="25542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U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2895480"/>
            <a:ext cx="76320" cy="2057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Insert hearing aid into ear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e careful not to move the probe tube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kemar2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863800" cy="3886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0440" y="3962520"/>
            <a:ext cx="211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earing a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 pl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057400" y="4266720"/>
            <a:ext cx="1828800" cy="228600"/>
          </a:xfrm>
          <a:prstGeom prst="line">
            <a:avLst/>
          </a:prstGeom>
          <a:ln w="7632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Aided Response @ 50 dB SPL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ss [START/STOP] to start sig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e arrow keys to adjust source to 50 dB SP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ss [START/STOP] to stop sig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2" name="downarrow" descr=""/>
          <p:cNvPicPr/>
          <p:nvPr/>
        </p:nvPicPr>
        <p:blipFill>
          <a:blip r:embed="rId1"/>
          <a:srcRect l="10413" t="25000" r="12500" b="22231"/>
          <a:stretch/>
        </p:blipFill>
        <p:spPr>
          <a:xfrm>
            <a:off x="380880" y="4952880"/>
            <a:ext cx="2819520" cy="1447920"/>
          </a:xfrm>
          <a:prstGeom prst="rect">
            <a:avLst/>
          </a:prstGeom>
          <a:ln w="0">
            <a:noFill/>
          </a:ln>
        </p:spPr>
      </p:pic>
      <p:pic>
        <p:nvPicPr>
          <p:cNvPr id="153" name="PC180022" descr=""/>
          <p:cNvPicPr/>
          <p:nvPr/>
        </p:nvPicPr>
        <p:blipFill>
          <a:blip r:embed="rId2"/>
          <a:stretch/>
        </p:blipFill>
        <p:spPr>
          <a:xfrm>
            <a:off x="3733920" y="280044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>
            <a:off x="1523880" y="1371600"/>
            <a:ext cx="914400" cy="4419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514240" y="1828800"/>
            <a:ext cx="685800" cy="3886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1905120"/>
            <a:ext cx="1143000" cy="2133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04760" y="2438280"/>
            <a:ext cx="1904760" cy="3353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29360" y="263052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AG @ 50 d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2971800"/>
            <a:ext cx="6858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Store 50 dB Response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[AIDED] + [STORE] to sto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lect REIR and REF 1 with arrow ke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[START/STOP] to sto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[MENU] to resume test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2" name="STORE" descr=""/>
          <p:cNvPicPr/>
          <p:nvPr/>
        </p:nvPicPr>
        <p:blipFill>
          <a:blip r:embed="rId1"/>
          <a:srcRect l="12500" t="30564" r="12500" b="25000"/>
          <a:stretch/>
        </p:blipFill>
        <p:spPr>
          <a:xfrm>
            <a:off x="304920" y="5257800"/>
            <a:ext cx="2743200" cy="1219320"/>
          </a:xfrm>
          <a:prstGeom prst="rect">
            <a:avLst/>
          </a:prstGeom>
          <a:ln w="0">
            <a:noFill/>
          </a:ln>
        </p:spPr>
      </p:pic>
      <p:pic>
        <p:nvPicPr>
          <p:cNvPr id="163" name="PC180023" descr=""/>
          <p:cNvPicPr/>
          <p:nvPr/>
        </p:nvPicPr>
        <p:blipFill>
          <a:blip r:embed="rId2"/>
          <a:srcRect l="3396" t="48031" r="51713" b="4514"/>
          <a:stretch/>
        </p:blipFill>
        <p:spPr>
          <a:xfrm>
            <a:off x="4191120" y="2922480"/>
            <a:ext cx="4647960" cy="3684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H="1">
            <a:off x="1905120" y="1371600"/>
            <a:ext cx="838080" cy="3962520"/>
          </a:xfrm>
          <a:prstGeom prst="line">
            <a:avLst/>
          </a:prstGeom>
          <a:ln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600200" y="1371600"/>
            <a:ext cx="2286000" cy="3962520"/>
          </a:xfrm>
          <a:prstGeom prst="line">
            <a:avLst/>
          </a:prstGeom>
          <a:ln w="7632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523880" y="2286000"/>
            <a:ext cx="76320" cy="3733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895120" y="2743200"/>
            <a:ext cx="1752840" cy="2514600"/>
          </a:xfrm>
          <a:prstGeom prst="line">
            <a:avLst/>
          </a:prstGeom>
          <a:ln w="76320">
            <a:solidFill>
              <a:srgbClr val="99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Aided Response @ 65 dB SPL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[START/STOP] to start sig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Use arrow keys to adjust source to 65 dB SP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[START/STOP] to stop sig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0" name="PC180024" descr=""/>
          <p:cNvPicPr/>
          <p:nvPr/>
        </p:nvPicPr>
        <p:blipFill>
          <a:blip r:embed="rId1"/>
          <a:srcRect l="2736" t="6850" r="5482" b="5486"/>
          <a:stretch/>
        </p:blipFill>
        <p:spPr>
          <a:xfrm>
            <a:off x="3048120" y="2490840"/>
            <a:ext cx="6095880" cy="4367160"/>
          </a:xfrm>
          <a:prstGeom prst="rect">
            <a:avLst/>
          </a:prstGeom>
          <a:ln w="0">
            <a:noFill/>
          </a:ln>
        </p:spPr>
      </p:pic>
      <p:pic>
        <p:nvPicPr>
          <p:cNvPr id="171" name="UPARROW" descr=""/>
          <p:cNvPicPr/>
          <p:nvPr/>
        </p:nvPicPr>
        <p:blipFill>
          <a:blip r:embed="rId2"/>
          <a:srcRect l="31250" t="25000" r="12500" b="25000"/>
          <a:stretch/>
        </p:blipFill>
        <p:spPr>
          <a:xfrm>
            <a:off x="304920" y="5257800"/>
            <a:ext cx="2057400" cy="1371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H="1">
            <a:off x="609120" y="1295280"/>
            <a:ext cx="1600200" cy="4953240"/>
          </a:xfrm>
          <a:prstGeom prst="line">
            <a:avLst/>
          </a:prstGeom>
          <a:ln w="76320">
            <a:solidFill>
              <a:srgbClr val="99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1752480"/>
            <a:ext cx="1752480" cy="2057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85440" y="2209680"/>
            <a:ext cx="2133720" cy="3962520"/>
          </a:xfrm>
          <a:prstGeom prst="line">
            <a:avLst/>
          </a:prstGeom>
          <a:ln w="572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Store 65 dB Response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[AIDED] + [STORE] to sto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lect REIR and REF 2 with arrow ke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[START/STOP] to sto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[MENU] to resume test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7" name="STORE" descr=""/>
          <p:cNvPicPr/>
          <p:nvPr/>
        </p:nvPicPr>
        <p:blipFill>
          <a:blip r:embed="rId1"/>
          <a:srcRect l="22923" t="27782" r="6250" b="19449"/>
          <a:stretch/>
        </p:blipFill>
        <p:spPr>
          <a:xfrm>
            <a:off x="304920" y="5181480"/>
            <a:ext cx="2590560" cy="1447920"/>
          </a:xfrm>
          <a:prstGeom prst="rect">
            <a:avLst/>
          </a:prstGeom>
          <a:ln w="0">
            <a:noFill/>
          </a:ln>
        </p:spPr>
      </p:pic>
      <p:pic>
        <p:nvPicPr>
          <p:cNvPr id="178" name="PC180025" descr=""/>
          <p:cNvPicPr/>
          <p:nvPr/>
        </p:nvPicPr>
        <p:blipFill>
          <a:blip r:embed="rId2"/>
          <a:srcRect l="3031" t="49501" r="51516" b="0"/>
          <a:stretch/>
        </p:blipFill>
        <p:spPr>
          <a:xfrm>
            <a:off x="4495680" y="3009960"/>
            <a:ext cx="4343400" cy="3619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>
            <a:off x="1447920" y="1295280"/>
            <a:ext cx="1295280" cy="4114800"/>
          </a:xfrm>
          <a:prstGeom prst="line">
            <a:avLst/>
          </a:prstGeom>
          <a:ln w="572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142640" y="1295280"/>
            <a:ext cx="2895480" cy="4114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19320" y="2133720"/>
            <a:ext cx="2743200" cy="39621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514240" y="2590920"/>
            <a:ext cx="304920" cy="274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Aided Response @ 80 dB SPL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[START/STOP] to start sig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Use arrow keys to adjust source to 80 dB SP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[START/STOP] to stop sig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5" name="UPARROW" descr=""/>
          <p:cNvPicPr/>
          <p:nvPr/>
        </p:nvPicPr>
        <p:blipFill>
          <a:blip r:embed="rId1"/>
          <a:srcRect l="6250" t="25000" r="14587" b="19449"/>
          <a:stretch/>
        </p:blipFill>
        <p:spPr>
          <a:xfrm>
            <a:off x="228600" y="5334120"/>
            <a:ext cx="2895480" cy="1523880"/>
          </a:xfrm>
          <a:prstGeom prst="rect">
            <a:avLst/>
          </a:prstGeom>
          <a:ln w="0">
            <a:noFill/>
          </a:ln>
        </p:spPr>
      </p:pic>
      <p:pic>
        <p:nvPicPr>
          <p:cNvPr id="186" name="PC180026" descr=""/>
          <p:cNvPicPr/>
          <p:nvPr/>
        </p:nvPicPr>
        <p:blipFill>
          <a:blip r:embed="rId2"/>
          <a:stretch/>
        </p:blipFill>
        <p:spPr>
          <a:xfrm>
            <a:off x="3352680" y="253368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H="1">
            <a:off x="1447560" y="1295280"/>
            <a:ext cx="1066680" cy="4953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05720" y="1676520"/>
            <a:ext cx="1218960" cy="2209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523520" y="2133720"/>
            <a:ext cx="2514600" cy="4114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Store 80 dB Response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[AIDED] + [STORE] to enter store men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lect REIR and REF 3 with arrow ke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[START/STOP] to sto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2" name="STORE" descr=""/>
          <p:cNvPicPr/>
          <p:nvPr/>
        </p:nvPicPr>
        <p:blipFill>
          <a:blip r:embed="rId1"/>
          <a:srcRect l="22923" t="27782" r="12500" b="22231"/>
          <a:stretch/>
        </p:blipFill>
        <p:spPr>
          <a:xfrm>
            <a:off x="304920" y="5105520"/>
            <a:ext cx="2361960" cy="1371600"/>
          </a:xfrm>
          <a:prstGeom prst="rect">
            <a:avLst/>
          </a:prstGeom>
          <a:ln w="0">
            <a:noFill/>
          </a:ln>
        </p:spPr>
      </p:pic>
      <p:pic>
        <p:nvPicPr>
          <p:cNvPr id="193" name="PC180027" descr=""/>
          <p:cNvPicPr/>
          <p:nvPr/>
        </p:nvPicPr>
        <p:blipFill>
          <a:blip r:embed="rId2"/>
          <a:srcRect l="4163" t="49856" r="52087" b="6142"/>
          <a:stretch/>
        </p:blipFill>
        <p:spPr>
          <a:xfrm>
            <a:off x="3352680" y="2433600"/>
            <a:ext cx="5562720" cy="4195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H="1">
            <a:off x="1523520" y="1371600"/>
            <a:ext cx="1143000" cy="3962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294920" y="1371600"/>
            <a:ext cx="2667240" cy="3886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219320" y="2286000"/>
            <a:ext cx="1828800" cy="3733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Store REAG Target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lect TARG and REF 4 with arrow ke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ss [START/STOP] to st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ss [MENU] to resume test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9" name="PC180028" descr=""/>
          <p:cNvPicPr/>
          <p:nvPr/>
        </p:nvPicPr>
        <p:blipFill>
          <a:blip r:embed="rId1"/>
          <a:srcRect l="4961" t="49436" r="52087" b="6522"/>
          <a:stretch/>
        </p:blipFill>
        <p:spPr>
          <a:xfrm>
            <a:off x="1828800" y="2743200"/>
            <a:ext cx="50292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Enter Quik Probe II Menu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[MENU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ighlight MULTICURVE with arrow ke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[START/STOP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2" name="PC180020" descr=""/>
          <p:cNvPicPr/>
          <p:nvPr/>
        </p:nvPicPr>
        <p:blipFill>
          <a:blip r:embed="rId1"/>
          <a:srcRect l="5561" t="48150" r="50010" b="11115"/>
          <a:stretch/>
        </p:blipFill>
        <p:spPr>
          <a:xfrm>
            <a:off x="3276720" y="2857680"/>
            <a:ext cx="5486400" cy="3771720"/>
          </a:xfrm>
          <a:prstGeom prst="rect">
            <a:avLst/>
          </a:prstGeom>
          <a:ln w="0">
            <a:noFill/>
          </a:ln>
        </p:spPr>
      </p:pic>
      <p:pic>
        <p:nvPicPr>
          <p:cNvPr id="203" name="MENU" descr=""/>
          <p:cNvPicPr/>
          <p:nvPr/>
        </p:nvPicPr>
        <p:blipFill>
          <a:blip r:embed="rId2"/>
          <a:srcRect l="16673" t="25000" r="16673" b="22231"/>
          <a:stretch/>
        </p:blipFill>
        <p:spPr>
          <a:xfrm>
            <a:off x="304920" y="5181480"/>
            <a:ext cx="2438280" cy="1447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286000" y="1295280"/>
            <a:ext cx="152280" cy="3886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95320" y="1905120"/>
            <a:ext cx="381240" cy="4114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219320" y="2286000"/>
            <a:ext cx="914400" cy="3809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Enter Insertion Gain Mode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ress [START/STOP] on remote modu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5" name="fingerstartstop" descr=""/>
          <p:cNvPicPr/>
          <p:nvPr/>
        </p:nvPicPr>
        <p:blipFill>
          <a:blip r:embed="rId1"/>
          <a:srcRect l="35571" t="22953" r="6289" b="26759"/>
          <a:stretch/>
        </p:blipFill>
        <p:spPr>
          <a:xfrm>
            <a:off x="380880" y="480060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PC180003" descr=""/>
          <p:cNvPicPr/>
          <p:nvPr/>
        </p:nvPicPr>
        <p:blipFill>
          <a:blip r:embed="rId2"/>
          <a:srcRect l="6250" t="5551" r="6250" b="5551"/>
          <a:stretch/>
        </p:blipFill>
        <p:spPr>
          <a:xfrm>
            <a:off x="3429000" y="2495520"/>
            <a:ext cx="5334120" cy="4065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>
            <a:off x="1143000" y="2209680"/>
            <a:ext cx="838080" cy="3505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Multicurve Screen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ighlight MULTIPLE CURV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[START/STOP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9" name="fingerstartstop" descr=""/>
          <p:cNvPicPr/>
          <p:nvPr/>
        </p:nvPicPr>
        <p:blipFill>
          <a:blip r:embed="rId1"/>
          <a:srcRect l="27087" t="22231" r="6250" b="22218"/>
          <a:stretch/>
        </p:blipFill>
        <p:spPr>
          <a:xfrm>
            <a:off x="380880" y="4952880"/>
            <a:ext cx="2438640" cy="1524240"/>
          </a:xfrm>
          <a:prstGeom prst="rect">
            <a:avLst/>
          </a:prstGeom>
          <a:ln w="0">
            <a:noFill/>
          </a:ln>
        </p:spPr>
      </p:pic>
      <p:pic>
        <p:nvPicPr>
          <p:cNvPr id="210" name="PC180021" descr=""/>
          <p:cNvPicPr/>
          <p:nvPr/>
        </p:nvPicPr>
        <p:blipFill>
          <a:blip r:embed="rId2"/>
          <a:srcRect l="69705" t="10105" r="4547" b="57585"/>
          <a:stretch/>
        </p:blipFill>
        <p:spPr>
          <a:xfrm>
            <a:off x="4191120" y="2246400"/>
            <a:ext cx="4495680" cy="4230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724280" y="1523880"/>
            <a:ext cx="533520" cy="1981440"/>
          </a:xfrm>
          <a:prstGeom prst="line">
            <a:avLst/>
          </a:prstGeom>
          <a:ln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142640" y="2057400"/>
            <a:ext cx="1676520" cy="3733920"/>
          </a:xfrm>
          <a:prstGeom prst="line">
            <a:avLst/>
          </a:prstGeom>
          <a:ln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View Curve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4" name="PC180029" descr=""/>
          <p:cNvPicPr/>
          <p:nvPr/>
        </p:nvPicPr>
        <p:blipFill>
          <a:blip r:embed="rId1"/>
          <a:srcRect l="5561" t="7402" r="4163" b="25932"/>
          <a:stretch/>
        </p:blipFill>
        <p:spPr>
          <a:xfrm>
            <a:off x="990720" y="1300320"/>
            <a:ext cx="7696080" cy="4262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871560" y="5754600"/>
            <a:ext cx="76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[MENU] twice to return to Quik Probe II Men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18400" y="1411200"/>
            <a:ext cx="51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5120" y="1676520"/>
            <a:ext cx="1371600" cy="228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905120" y="2361960"/>
            <a:ext cx="1218960" cy="75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3048120"/>
            <a:ext cx="990360" cy="15228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3400" y="237348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NAL=N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638320" y="2057400"/>
            <a:ext cx="762120" cy="533520"/>
          </a:xfrm>
          <a:prstGeom prst="line">
            <a:avLst/>
          </a:prstGeom>
          <a:ln w="76320">
            <a:solidFill>
              <a:srgbClr val="99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Switch to PURE TONE Mode for RESR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Arial"/>
              </a:rPr>
              <a:t>90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e arrow keys to highlight MO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lect PURE T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4" name="PC180030" descr=""/>
          <p:cNvPicPr/>
          <p:nvPr/>
        </p:nvPicPr>
        <p:blipFill>
          <a:blip r:embed="rId1"/>
          <a:srcRect l="6348" t="49213" r="50797" b="10577"/>
          <a:stretch/>
        </p:blipFill>
        <p:spPr>
          <a:xfrm>
            <a:off x="3429000" y="2971800"/>
            <a:ext cx="5181480" cy="3646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581280" y="2514600"/>
            <a:ext cx="2895840" cy="1828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343400" y="1981080"/>
            <a:ext cx="1905120" cy="2438640"/>
          </a:xfrm>
          <a:prstGeom prst="line">
            <a:avLst/>
          </a:prstGeom>
          <a:ln w="76320">
            <a:solidFill>
              <a:srgbClr val="99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Switch to SPL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down arrow key to highlight GAIN(G)/SP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left arrow key to select SP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9" name="PC180031" descr=""/>
          <p:cNvPicPr/>
          <p:nvPr/>
        </p:nvPicPr>
        <p:blipFill>
          <a:blip r:embed="rId1"/>
          <a:srcRect l="4163" t="48766" r="50010" b="11115"/>
          <a:stretch/>
        </p:blipFill>
        <p:spPr>
          <a:xfrm>
            <a:off x="4038480" y="3200400"/>
            <a:ext cx="5105520" cy="3352680"/>
          </a:xfrm>
          <a:prstGeom prst="rect">
            <a:avLst/>
          </a:prstGeom>
          <a:ln w="0">
            <a:noFill/>
          </a:ln>
        </p:spPr>
      </p:pic>
      <p:pic>
        <p:nvPicPr>
          <p:cNvPr id="230" name="downarrow" descr=""/>
          <p:cNvPicPr/>
          <p:nvPr/>
        </p:nvPicPr>
        <p:blipFill>
          <a:blip r:embed="rId2"/>
          <a:srcRect l="27087" t="27782" r="14587" b="22231"/>
          <a:stretch/>
        </p:blipFill>
        <p:spPr>
          <a:xfrm>
            <a:off x="457200" y="5181480"/>
            <a:ext cx="2133720" cy="1371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 flipH="1">
            <a:off x="1981080" y="1295280"/>
            <a:ext cx="1524240" cy="4572000"/>
          </a:xfrm>
          <a:prstGeom prst="line">
            <a:avLst/>
          </a:prstGeom>
          <a:ln w="76320">
            <a:solidFill>
              <a:srgbClr val="99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1371600"/>
            <a:ext cx="762120" cy="3733920"/>
          </a:xfrm>
          <a:prstGeom prst="line">
            <a:avLst/>
          </a:prstGeom>
          <a:ln w="76320">
            <a:solidFill>
              <a:srgbClr val="99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828800"/>
            <a:ext cx="1600200" cy="3200400"/>
          </a:xfrm>
          <a:prstGeom prst="line">
            <a:avLst/>
          </a:prstGeom>
          <a:ln w="76320">
            <a:solidFill>
              <a:srgbClr val="99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Enter Operation Parameter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ighlight OPERATION PAR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ss [START/STOP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6" name="fingerstartstop" descr=""/>
          <p:cNvPicPr/>
          <p:nvPr/>
        </p:nvPicPr>
        <p:blipFill>
          <a:blip r:embed="rId1"/>
          <a:srcRect l="35423" t="22231" r="2087" b="27782"/>
          <a:stretch/>
        </p:blipFill>
        <p:spPr>
          <a:xfrm>
            <a:off x="457200" y="518148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237" name="PC180032" descr=""/>
          <p:cNvPicPr/>
          <p:nvPr/>
        </p:nvPicPr>
        <p:blipFill>
          <a:blip r:embed="rId2"/>
          <a:srcRect l="6250" t="49029" r="50010" b="11115"/>
          <a:stretch/>
        </p:blipFill>
        <p:spPr>
          <a:xfrm>
            <a:off x="3200400" y="2803680"/>
            <a:ext cx="5486400" cy="3749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029200" y="1447920"/>
            <a:ext cx="0" cy="297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1523880"/>
            <a:ext cx="1066680" cy="3353040"/>
          </a:xfrm>
          <a:prstGeom prst="line">
            <a:avLst/>
          </a:prstGeom>
          <a:ln w="7632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066680" y="2057400"/>
            <a:ext cx="2743200" cy="3809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Select 90 dB SPL Source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Use arrow keys to select 90 dB SIGNAL SOUR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lso select OUTPUT LIMIT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3" name="PC180033" descr=""/>
          <p:cNvPicPr/>
          <p:nvPr/>
        </p:nvPicPr>
        <p:blipFill>
          <a:blip r:embed="rId1"/>
          <a:srcRect l="6250" t="47231" r="47923" b="25000"/>
          <a:stretch/>
        </p:blipFill>
        <p:spPr>
          <a:xfrm>
            <a:off x="685800" y="2895480"/>
            <a:ext cx="7543800" cy="3429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 flipH="1">
            <a:off x="6095520" y="1371600"/>
            <a:ext cx="762120" cy="2590920"/>
          </a:xfrm>
          <a:prstGeom prst="line">
            <a:avLst/>
          </a:prstGeom>
          <a:ln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1752480"/>
            <a:ext cx="838080" cy="3124440"/>
          </a:xfrm>
          <a:prstGeom prst="line">
            <a:avLst/>
          </a:prstGeom>
          <a:ln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Return to IG Screen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ss [MENU] twice to return to testing scre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8" name="PC180034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249" name="MENU" descr=""/>
          <p:cNvPicPr/>
          <p:nvPr/>
        </p:nvPicPr>
        <p:blipFill>
          <a:blip r:embed="rId2"/>
          <a:srcRect l="18750" t="27782" r="16673" b="25000"/>
          <a:stretch/>
        </p:blipFill>
        <p:spPr>
          <a:xfrm>
            <a:off x="685800" y="4952880"/>
            <a:ext cx="2362320" cy="12956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 flipH="1">
            <a:off x="2895120" y="1447920"/>
            <a:ext cx="381240" cy="3504960"/>
          </a:xfrm>
          <a:prstGeom prst="line">
            <a:avLst/>
          </a:prstGeom>
          <a:ln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Aided Saturation Response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ss [SWEEP/START] to take pure tone sweep measur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3" name="SWEEP" descr=""/>
          <p:cNvPicPr/>
          <p:nvPr/>
        </p:nvPicPr>
        <p:blipFill>
          <a:blip r:embed="rId1"/>
          <a:srcRect l="20837" t="25000" r="12500" b="22231"/>
          <a:stretch/>
        </p:blipFill>
        <p:spPr>
          <a:xfrm>
            <a:off x="533520" y="4800600"/>
            <a:ext cx="2438280" cy="1447920"/>
          </a:xfrm>
          <a:prstGeom prst="rect">
            <a:avLst/>
          </a:prstGeom>
          <a:ln w="0">
            <a:noFill/>
          </a:ln>
        </p:spPr>
      </p:pic>
      <p:pic>
        <p:nvPicPr>
          <p:cNvPr id="254" name="PC180035" descr=""/>
          <p:cNvPicPr/>
          <p:nvPr/>
        </p:nvPicPr>
        <p:blipFill>
          <a:blip r:embed="rId2"/>
          <a:srcRect l="3337" t="44449" r="35423" b="5551"/>
          <a:stretch/>
        </p:blipFill>
        <p:spPr>
          <a:xfrm>
            <a:off x="3124080" y="3316320"/>
            <a:ext cx="5410440" cy="33130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H="1">
            <a:off x="1828800" y="1447920"/>
            <a:ext cx="1447920" cy="4114800"/>
          </a:xfrm>
          <a:prstGeom prst="line">
            <a:avLst/>
          </a:prstGeom>
          <a:ln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04480" y="353700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•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42560" y="335268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•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56960" y="335268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•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99680" y="327672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•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0720" y="327672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•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59200" y="2743200"/>
            <a:ext cx="32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[•] = LDL in SP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08240" y="5257800"/>
            <a:ext cx="122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SR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324480" y="426708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715000" y="3428640"/>
            <a:ext cx="0" cy="22860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6629400" y="3428640"/>
            <a:ext cx="0" cy="22860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543800" y="3352680"/>
            <a:ext cx="0" cy="15264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978600" y="3352320"/>
            <a:ext cx="0" cy="22860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DSL i/o targets in WinCHAP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dsl-targ" descr=""/>
          <p:cNvPicPr/>
          <p:nvPr/>
        </p:nvPicPr>
        <p:blipFill>
          <a:blip r:embed="rId1"/>
          <a:stretch/>
        </p:blipFill>
        <p:spPr>
          <a:xfrm>
            <a:off x="762120" y="800280"/>
            <a:ext cx="800100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DSL targets &amp; measurement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1" name="dsl-meas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807732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Enter Quik-Probe II Menu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[MENU]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on remote mod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ighlight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CREATE TARGET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using arrow key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lect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INS. GAIN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using arrow ke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PC180004" descr=""/>
          <p:cNvPicPr/>
          <p:nvPr/>
        </p:nvPicPr>
        <p:blipFill>
          <a:blip r:embed="rId1"/>
          <a:srcRect l="4163" t="48018" r="51319" b="8333"/>
          <a:stretch/>
        </p:blipFill>
        <p:spPr>
          <a:xfrm>
            <a:off x="3505320" y="2706840"/>
            <a:ext cx="5333760" cy="3922560"/>
          </a:xfrm>
          <a:prstGeom prst="rect">
            <a:avLst/>
          </a:prstGeom>
          <a:ln w="0">
            <a:noFill/>
          </a:ln>
        </p:spPr>
      </p:pic>
      <p:pic>
        <p:nvPicPr>
          <p:cNvPr id="101" name="fingermenu" descr=""/>
          <p:cNvPicPr/>
          <p:nvPr/>
        </p:nvPicPr>
        <p:blipFill>
          <a:blip r:embed="rId2"/>
          <a:srcRect l="33337" t="13885" r="14587" b="25000"/>
          <a:stretch/>
        </p:blipFill>
        <p:spPr>
          <a:xfrm>
            <a:off x="380880" y="4952880"/>
            <a:ext cx="1905120" cy="1676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>
            <a:off x="1905120" y="1600200"/>
            <a:ext cx="457200" cy="3657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2286000"/>
            <a:ext cx="3733920" cy="1523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1981080"/>
            <a:ext cx="228600" cy="1600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Enter Audiogram Entry Screen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ss [START/STOP] on remote modu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nter audiogram using arrow ke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fingerstartstop" descr=""/>
          <p:cNvPicPr/>
          <p:nvPr/>
        </p:nvPicPr>
        <p:blipFill>
          <a:blip r:embed="rId1"/>
          <a:srcRect l="14587" t="22231" r="4163" b="19449"/>
          <a:stretch/>
        </p:blipFill>
        <p:spPr>
          <a:xfrm>
            <a:off x="228600" y="502920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108" name="PC180005" descr=""/>
          <p:cNvPicPr/>
          <p:nvPr/>
        </p:nvPicPr>
        <p:blipFill>
          <a:blip r:embed="rId2"/>
          <a:srcRect l="2087" t="8333" r="6250" b="9580"/>
          <a:stretch/>
        </p:blipFill>
        <p:spPr>
          <a:xfrm>
            <a:off x="3276720" y="2689200"/>
            <a:ext cx="5638680" cy="3787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523880" y="1447920"/>
            <a:ext cx="1371600" cy="4343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37600" y="214488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NAL=N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2438280"/>
            <a:ext cx="76176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Return to Insertion Gain Screen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ss [START/STOP] on remote modu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PC180006" descr=""/>
          <p:cNvPicPr/>
          <p:nvPr/>
        </p:nvPicPr>
        <p:blipFill>
          <a:blip r:embed="rId1"/>
          <a:srcRect l="2087" t="5551" r="4163" b="5551"/>
          <a:stretch/>
        </p:blipFill>
        <p:spPr>
          <a:xfrm>
            <a:off x="3809880" y="2971800"/>
            <a:ext cx="5105520" cy="3630600"/>
          </a:xfrm>
          <a:prstGeom prst="rect">
            <a:avLst/>
          </a:prstGeom>
          <a:ln w="0">
            <a:noFill/>
          </a:ln>
        </p:spPr>
      </p:pic>
      <p:pic>
        <p:nvPicPr>
          <p:cNvPr id="115" name="fingerstartstop" descr=""/>
          <p:cNvPicPr/>
          <p:nvPr/>
        </p:nvPicPr>
        <p:blipFill>
          <a:blip r:embed="rId2"/>
          <a:srcRect l="14587" t="22231" r="4163" b="19449"/>
          <a:stretch/>
        </p:blipFill>
        <p:spPr>
          <a:xfrm>
            <a:off x="380880" y="4952880"/>
            <a:ext cx="2971800" cy="160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H="1">
            <a:off x="1752120" y="1600200"/>
            <a:ext cx="1676520" cy="4038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45600" y="217332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nsertion Gain Targ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2590920"/>
            <a:ext cx="45720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Position Patient  for Real-Ear Test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3428640"/>
            <a:ext cx="2971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peaker should be 12”  from patient @  0</a:t>
            </a:r>
            <a:r>
              <a:rPr b="1" lang="en-US" sz="28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or 45</a:t>
            </a:r>
            <a:r>
              <a:rPr b="1" lang="en-US" sz="28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kemarspkr" descr=""/>
          <p:cNvPicPr/>
          <p:nvPr/>
        </p:nvPicPr>
        <p:blipFill>
          <a:blip r:embed="rId1"/>
          <a:srcRect l="11476" t="15302" r="11476" b="0"/>
          <a:stretch/>
        </p:blipFill>
        <p:spPr>
          <a:xfrm>
            <a:off x="3733920" y="2401920"/>
            <a:ext cx="51051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Set up microphone for Real-Ear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Reference microphon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on top of e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Probe microphon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carefully inser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ote: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Leveling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is performed only with reference microphone, but it is usually easier to position both microphones at the same 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kemar1" descr=""/>
          <p:cNvPicPr/>
          <p:nvPr/>
        </p:nvPicPr>
        <p:blipFill>
          <a:blip r:embed="rId1"/>
          <a:srcRect l="9692" t="5359" r="5505" b="19646"/>
          <a:stretch/>
        </p:blipFill>
        <p:spPr>
          <a:xfrm>
            <a:off x="5283360" y="2286000"/>
            <a:ext cx="3555720" cy="4267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419720" y="2362320"/>
            <a:ext cx="175248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352680"/>
            <a:ext cx="2743200" cy="129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Level Sound Field Speaker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ss [LEVEL] on remote modu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LEVEL" descr=""/>
          <p:cNvPicPr/>
          <p:nvPr/>
        </p:nvPicPr>
        <p:blipFill>
          <a:blip r:embed="rId1"/>
          <a:srcRect l="25000" t="-2310" r="-22904" b="13885"/>
          <a:stretch/>
        </p:blipFill>
        <p:spPr>
          <a:xfrm>
            <a:off x="228600" y="4127400"/>
            <a:ext cx="3581280" cy="2425680"/>
          </a:xfrm>
          <a:prstGeom prst="rect">
            <a:avLst/>
          </a:prstGeom>
          <a:ln w="0">
            <a:noFill/>
          </a:ln>
        </p:spPr>
      </p:pic>
      <p:pic>
        <p:nvPicPr>
          <p:cNvPr id="130" name="PC180007" descr=""/>
          <p:cNvPicPr/>
          <p:nvPr/>
        </p:nvPicPr>
        <p:blipFill>
          <a:blip r:embed="rId2"/>
          <a:srcRect l="0" t="5551" r="2087" b="5551"/>
          <a:stretch/>
        </p:blipFill>
        <p:spPr>
          <a:xfrm>
            <a:off x="3352680" y="2717640"/>
            <a:ext cx="5410440" cy="3683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flipH="1">
            <a:off x="1599840" y="1676520"/>
            <a:ext cx="1523880" cy="3352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1676520"/>
            <a:ext cx="1828800" cy="3047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Manual Mode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following measurements are done in the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COMP/Man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mode. Use [&gt;] key to change to [Manual mode]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C180036" descr=""/>
          <p:cNvPicPr/>
          <p:nvPr/>
        </p:nvPicPr>
        <p:blipFill>
          <a:blip r:embed="rId1"/>
          <a:srcRect l="4114" t="8675" r="2736" b="7310"/>
          <a:stretch/>
        </p:blipFill>
        <p:spPr>
          <a:xfrm>
            <a:off x="2819520" y="2505240"/>
            <a:ext cx="6095880" cy="4124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438280" y="1752480"/>
            <a:ext cx="2286000" cy="3505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19:26:36Z</dcterms:created>
  <dc:creator>Kris frye</dc:creator>
  <dc:description/>
  <dc:language>en-US</dc:language>
  <cp:lastModifiedBy>Alan Rose</cp:lastModifiedBy>
  <cp:lastPrinted>2009-04-22T19:24:48Z</cp:lastPrinted>
  <dcterms:modified xsi:type="dcterms:W3CDTF">2003-03-07T22:23:19Z</dcterms:modified>
  <cp:revision>1</cp:revision>
  <dc:subject/>
  <dc:title>Insertion Gain</dc:title>
</cp:coreProperties>
</file>