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877-2C24-4430-990E-F2A6536F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3BE-B1DE-4E77-94B6-4673AB8B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7CE-C1CB-456B-8F46-1300C7E6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6F0-9A5A-4884-9ACE-31D33A0B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DB58-62B8-422E-A0EC-B84974DF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A76F-E1FB-45E3-94FB-C31279C4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981-6A75-43D6-8CC1-0E79DB83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0FDB-E8A4-44F9-8397-2AAC8AAD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37DF-1DF5-408B-BF0A-3F972599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977E-3231-4365-AE30-0F2B622D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0314-3EF2-4793-80DE-E378AFCD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764-4100-44DD-9153-9CC1A1DE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4B2D-C867-4201-BA89-C254085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BFE-5A94-4B2F-A8BB-07A82EF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8DC5-F81F-4207-B4D3-93BF8C2A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6B20-FE70-4806-88DC-0A546457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AF28-99A4-4F1F-A521-0BFC1418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147-24A0-4DDF-B113-1149750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E19-DA63-4B37-A635-41495ADE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210-0C0A-48C4-B457-BB393B85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39B-8174-48C1-ABAC-5269AD23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8B1-75A7-4F50-999F-D806296B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A42-28DA-4D4F-B2C3-7723898C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E76-1D46-464A-AE64-57FDC33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FB12-D5F0-4AE8-9F36-7081FBCD58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86F9-8894-4BA6-ABF0-6EA770F972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ing CROS/BICR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igure%2045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14392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Head Baffle Effect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wo Measur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~AUT000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673440" cy="498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2040" y="2058840"/>
            <a:ext cx="468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Ref Mic is </a:t>
            </a:r>
            <a:r>
              <a:rPr b="1" lang="en-US" sz="2200" spc="-1" strike="noStrike" u="sng">
                <a:solidFill>
                  <a:srgbClr val="ffffcc"/>
                </a:solidFill>
                <a:uFillTx/>
                <a:latin typeface="Arial"/>
              </a:rPr>
              <a:t>Disabl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en-US" sz="2200" spc="-1" strike="noStrike" u="sng">
                <a:solidFill>
                  <a:srgbClr val="ffffcc"/>
                </a:solidFill>
                <a:uFillTx/>
                <a:latin typeface="Arial"/>
              </a:rPr>
              <a:t>Do Not Lev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3. Probe Mic “over” the “</a:t>
            </a:r>
            <a:r>
              <a:rPr b="1" lang="en-US" sz="2200" spc="-1" strike="noStrike" u="sng">
                <a:solidFill>
                  <a:srgbClr val="ffffcc"/>
                </a:solidFill>
                <a:uFillTx/>
                <a:latin typeface="Arial"/>
              </a:rPr>
              <a:t>Bad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Ear”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4. Store as “</a:t>
            </a:r>
            <a:r>
              <a:rPr b="1" lang="en-US" sz="2200" spc="-1" strike="noStrike" u="sng">
                <a:solidFill>
                  <a:srgbClr val="ffffcc"/>
                </a:solidFill>
                <a:uFillTx/>
                <a:latin typeface="Arial"/>
              </a:rPr>
              <a:t>Unaided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” Respons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0960" y="152388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FIRST MEASUR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9160" y="384984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SECOND MEASUR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85560" y="4343400"/>
            <a:ext cx="4912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Probe Mic “over” the “</a:t>
            </a:r>
            <a:r>
              <a:rPr b="1" lang="en-US" sz="2200" spc="-1" strike="noStrike" u="sng">
                <a:solidFill>
                  <a:srgbClr val="ffffcc"/>
                </a:solidFill>
                <a:uFillTx/>
                <a:latin typeface="Arial"/>
              </a:rPr>
              <a:t>Good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” Ea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2. Store as “</a:t>
            </a:r>
            <a:r>
              <a:rPr b="1" lang="en-US" sz="2200" spc="-1" strike="noStrike" u="sng">
                <a:solidFill>
                  <a:srgbClr val="ffffcc"/>
                </a:solidFill>
                <a:uFillTx/>
                <a:latin typeface="Arial"/>
              </a:rPr>
              <a:t>Aided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” Respons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12560" y="5475240"/>
            <a:ext cx="4757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ifference Curve (REIG)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is seen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on the Screen (next Slide) and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represents the </a:t>
            </a:r>
            <a:r>
              <a:rPr b="1" lang="en-US" sz="2200" spc="-1" strike="noStrike" u="sng">
                <a:solidFill>
                  <a:srgbClr val="ffffcc"/>
                </a:solidFill>
                <a:uFillTx/>
                <a:latin typeface="Arial"/>
              </a:rPr>
              <a:t>Head Baffle Effec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ead-Baffle Effec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~AUT0007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82440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How Well Does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CROS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Overcome the Head Baffle Effect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~AUT0006" descr=""/>
          <p:cNvPicPr/>
          <p:nvPr/>
        </p:nvPicPr>
        <p:blipFill>
          <a:blip r:embed="rId1"/>
          <a:stretch/>
        </p:blipFill>
        <p:spPr>
          <a:xfrm>
            <a:off x="317520" y="2603520"/>
            <a:ext cx="4964040" cy="3032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28000" y="2133720"/>
            <a:ext cx="38124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1. Ref Mic enabled and over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the “bad” ear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2. Probe Mic in the “good”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ear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3. Level Microphones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4. Measure REUG and store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as “Unaided.”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5. Place receiver into good ear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and transmitter over bad ear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6. Measure and store as Aided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7. Difference Curve (REIG)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shows benefit from CROS for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sounds arriving to the bad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ea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How Well Does BICROS Overcome Head-Baffle Effect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~AUT0008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343400" cy="2516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50840" y="2057400"/>
            <a:ext cx="435204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1. Ref Mic enabled and over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the “bad” ear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2. Probe Mic in the “good”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ear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3. Level Microphones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4. Place receiver into good ear and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turned ON; transmitter over bad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ear and turned OFF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5. Measure and store as “</a:t>
            </a:r>
            <a:r>
              <a:rPr b="1" lang="en-US" sz="1900" spc="-1" strike="noStrike" u="sng">
                <a:solidFill>
                  <a:srgbClr val="ffffcc"/>
                </a:solidFill>
                <a:uFillTx/>
                <a:latin typeface="Arial"/>
              </a:rPr>
              <a:t>Unaided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.”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6. Turn Transmitter ON; Store As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1900" spc="-1" strike="noStrike" u="sng">
                <a:solidFill>
                  <a:srgbClr val="ffffcc"/>
                </a:solidFill>
                <a:uFillTx/>
                <a:latin typeface="Arial"/>
              </a:rPr>
              <a:t>Aided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7. Difference Curve (REIG)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shows benefit of adding the 2nd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mic for sounds arriving to the bad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cc"/>
                </a:solidFill>
                <a:latin typeface="Arial"/>
              </a:rPr>
              <a:t>ea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all REIG for CR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~AUT0009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566880" cy="3171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08320" y="1981080"/>
            <a:ext cx="4850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First Measure: REIG of Goo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. Ref Mic over Ba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2. Probe Mic in Goo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3. Level and Store as </a:t>
            </a: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Unaid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Second Measure: REAG of Goo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. Aid in Goo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2. Store As </a:t>
            </a: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Aid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ifference Curve (REIG) shows benefi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of the CROS Ai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all REIG for BICR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~AUT0010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810240" cy="32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300560" y="2057400"/>
            <a:ext cx="4850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First Measure: REIG of Better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. Ref Mic over Ba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2. Probe Mic in Goo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3. Level and Store as </a:t>
            </a: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Unaid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Second Measure: REAG of Goo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. Aid in Good Ear and BOTH Mics 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2. Store As Aid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ifference Curve (REIG) shows benefi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of the BICROS Ai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hecking for REOR for Good Ear in CROS Fi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~AUT0011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692520" cy="3249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50960" y="2438280"/>
            <a:ext cx="4226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. Ref Mic over Goo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2. Probe Mic in Goo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3. Store as </a:t>
            </a: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UNAID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4. Place earmold/aid in Good E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5. Aid turned OF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6. Store as AID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7. </a:t>
            </a: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Difference Curve (REIG)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show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REOR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caused by earmold 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earing aid placed in the Go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ar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9:31:41Z</dcterms:created>
  <dc:creator>Kris frye</dc:creator>
  <dc:description/>
  <dc:language>en-US</dc:language>
  <cp:lastModifiedBy>Alan Rose</cp:lastModifiedBy>
  <cp:lastPrinted>2009-04-22T19:24:48Z</cp:lastPrinted>
  <dcterms:modified xsi:type="dcterms:W3CDTF">2003-03-07T22:18:17Z</dcterms:modified>
  <cp:revision>1</cp:revision>
  <dc:subject/>
  <dc:title>Measuring CROS/BICROS</dc:title>
</cp:coreProperties>
</file>